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18C-801C-4909-B81A-66074C63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3BE-F62A-4CE6-A583-E6AF813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6E9-87DE-4F52-BF99-C70E26D7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20B-30A4-4528-B85E-88F21110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265B-141A-46F6-874E-1975C58A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EE2-5A7B-41A6-BF4D-1957CB8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4F0-7A48-4966-AFC9-0C396FC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3DB-E383-49F0-94E2-9313694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FBE2-E1AB-485D-92EF-721C555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712-3316-4A47-A506-6006FC7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9AFC-2E43-43FD-8179-22C620D9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869-E3AE-4E2B-940C-EEE55DD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E65A-80AC-4272-91E5-F22D2B6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CD6E-A9AA-464D-B73D-3F345249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600F-E7AE-4692-9D27-D1C26EE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5605-354A-4389-9257-29967289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EF7A-FFB5-4112-A85E-ADF49E78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0FD-4B4C-42A8-B82B-D36FC019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546-3F81-4D35-A988-5811ADE6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118-0017-4E0D-BB32-D4963335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A4D-C19A-4268-BCEA-C3386B5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20B-A108-4A07-B5D6-84FBBB15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B8D-9266-4BEE-9C32-F010334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8BD-AC3E-46F8-A050-0282007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94C-F0A8-4741-AFC8-ED16EC4197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F22-0872-4742-81F5-399F0CD151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Comunicaciones Inalámbricas.</a:t>
            </a:r>
            <a:br>
              <a:rPr sz="3200"/>
            </a:br>
            <a:br>
              <a:rPr sz="32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EL55A</a:t>
            </a:r>
            <a:br>
              <a:rPr sz="14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Sistemas de Telecomunicaciones</a:t>
            </a:r>
            <a:br>
              <a:rPr sz="1400"/>
            </a:b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0360" y="4941720"/>
            <a:ext cx="4012920" cy="14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1840" y="2362320"/>
          <a:ext cx="65656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2362320"/>
                    <a:ext cx="65656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31880" y="2362320"/>
          <a:ext cx="61041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62320"/>
                    <a:ext cx="61041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74800" y="2362320"/>
          <a:ext cx="5818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362320"/>
                    <a:ext cx="5818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52480" y="2362320"/>
          <a:ext cx="5864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864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4400" y="2747880"/>
          <a:ext cx="69991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2747880"/>
                    <a:ext cx="69991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36720" y="2362320"/>
          <a:ext cx="56959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362320"/>
                    <a:ext cx="56959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49520" y="2362320"/>
          <a:ext cx="6070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362320"/>
                    <a:ext cx="6070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bile and Wireless Network Architecture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2G1330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KTH. (http://web.it.kth.se/~maguire/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6836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Station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Networks and Switch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G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ybrid frequency-division/time-division multiple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DMA - division by frequency of the (maximum) 25 MHz allocated bandwidth i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24 carrier frequencies spaced 200 kHz ap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ne or more carrier frequencies assigned to each base s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ach carrier frequency divided in time, using TD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ndamental unit of time in this TDMA scheme is a burst period approx. 0.577 ms lo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ight burst periods are grouped into a TDMA frame (approx. 4.615 ms) = basic unit for t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ition of logical chann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physical channel is one burst period per TDMA fr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rastructure based on Signalling System 7 (SS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19280" y="580536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M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ubscriber Identity Module (PI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E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Mobile Equip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horro de Energ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Transmission (VA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Recep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o minimize co-channel interference and to conserve power, both the mobiles and the base transceiver stations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operate at the lowest power level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that will maintain an acceptable signal qua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wer levels can be stepped up or down in steps of 2 dBm from the peak power for the class down to a minimum of 13 dBm (20 milliwatts for MS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nly one step at a time and each step takes 60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here are 16 power levels (i.e., 30 db of rang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oth mobile station and BTS continually measure the signal strength or signal quality (based on the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it error rati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, and pass the information to the base station controller (BSC) which actually manages the power lev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47640" y="537372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T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Transceiver Station (Proc. Señal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C =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ase Station Controll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Handover  - Manejo Llamadas   -Manejo Px B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3640" y="1628640"/>
          <a:ext cx="56433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56433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4000" y="3213000"/>
          <a:ext cx="295272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213000"/>
                    <a:ext cx="295272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989000"/>
          <a:ext cx="748836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748836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bility Manageme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P (Mobile Application Pa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LRs guardan información de los usuarios en su ár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 encargados de enviar in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 o 2 HLR por 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3:06:45Z</dcterms:created>
  <dc:creator>javier</dc:creator>
  <dc:description/>
  <dc:language>en-US</dc:language>
  <cp:lastModifiedBy>Javier</cp:lastModifiedBy>
  <dcterms:modified xsi:type="dcterms:W3CDTF">2007-11-13T04:30:52Z</dcterms:modified>
  <cp:revision>65</cp:revision>
  <dc:subject/>
  <dc:title>Internet y sus protocolos</dc:title>
</cp:coreProperties>
</file>