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7DF-D872-4493-9A4D-15686D04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D6C-9EC0-4780-B166-F7E86531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D92-460E-4BBE-AAEB-9284676F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ACB-EE33-4970-A5CF-7759FE5D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6744-CB89-45F4-A08D-4A749682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7FCC-0022-4C0E-9A39-DFD098E6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D503-3141-439F-9767-15646938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7137-1A77-4D51-81E0-AD7A6ED9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E1DA-D15A-4A69-806C-C6CA05D3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EB80-3925-4B03-A2FF-535A72D0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1948-4DE0-4255-89F1-5F4C264B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292-CACD-46F7-8979-175D2C9E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038D-E59A-42B6-8975-B9A3D71B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DB8A-B715-490D-AFDF-2F6D125D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7EEB-1F5C-4087-AA7E-09D84E87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D787-CA30-4163-8A6B-FB9AA9C0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C8F7-6326-4538-BDDC-45FDBE45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AB8-1045-45D8-A008-D137FC28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2CF-51AD-488A-90A4-7ACC17C2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77E-CF81-48AD-B462-B448AD38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878-6500-4B46-8224-F33422BB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0C4-316A-43C3-A40B-CEAAED7D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BCA-46F7-4B9D-A50D-D2A80CA4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AEC-95A2-462F-80C0-A278521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1C5A-736E-46FB-B132-DFA5C92769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5035-BEB1-4816-B876-72A0453FA5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Comunicaciones Inalámbricas.</a:t>
            </a:r>
            <a:br>
              <a:rPr sz="3200"/>
            </a:br>
            <a:br>
              <a:rPr sz="3200"/>
            </a:br>
            <a:r>
              <a:rPr b="1" lang="es-CL" sz="1400" spc="-1" strike="noStrike">
                <a:solidFill>
                  <a:srgbClr val="003366"/>
                </a:solidFill>
                <a:latin typeface="Arial"/>
              </a:rPr>
              <a:t>EL55A</a:t>
            </a:r>
            <a:br>
              <a:rPr sz="1400"/>
            </a:br>
            <a:r>
              <a:rPr b="1" lang="es-CL" sz="1400" spc="-1" strike="noStrike">
                <a:solidFill>
                  <a:srgbClr val="003366"/>
                </a:solidFill>
                <a:latin typeface="Arial"/>
              </a:rPr>
              <a:t>Sistemas de Telecomunicaciones</a:t>
            </a:r>
            <a:br>
              <a:rPr sz="1400"/>
            </a:b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00360" y="4941720"/>
            <a:ext cx="4012920" cy="14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01840" y="2362320"/>
          <a:ext cx="65656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2362320"/>
                    <a:ext cx="65656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31880" y="2362320"/>
          <a:ext cx="61041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62320"/>
                    <a:ext cx="61041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74800" y="2362320"/>
          <a:ext cx="58183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362320"/>
                    <a:ext cx="58183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52480" y="2362320"/>
          <a:ext cx="58644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864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84400" y="2747880"/>
          <a:ext cx="699912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2747880"/>
                    <a:ext cx="69991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36720" y="2362320"/>
          <a:ext cx="56959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362320"/>
                    <a:ext cx="56959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49520" y="2362320"/>
          <a:ext cx="60703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362320"/>
                    <a:ext cx="60703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bile and Wireless Network Architecture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2G1330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KTH. (http://web.it.kth.se/~maguire/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03280" y="2421000"/>
          <a:ext cx="58784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58784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6836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SS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Base Station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NSS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Networks and Switch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G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ybrid frequency-division/time-division multiple acc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DMA - division by frequency of the (maximum) 25 MHz allocated bandwidth i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24 carrier frequencies spaced 200 kHz apar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One or more carrier frequencies assigned to each base st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ach carrier frequency divided in time, using TD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ndamental unit of time in this TDMA scheme is a burst period approx. 0.577 ms lo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ight burst periods are grouped into a TDMA frame (approx. 4.615 ms) = basic unit for t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finition of logical chann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physical channel is one burst period per TDMA fr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rastructure based on Signalling System 7 (SS7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03280" y="2421000"/>
          <a:ext cx="58784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58784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619280" y="5805360"/>
            <a:ext cx="43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M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ubscriber Identity Module (PI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ME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Mobile Equip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horro de Energ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iscontinuous Transmission (VA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iscontinuous Recep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o minimize co-channel interference and to conserve power, both the mobiles and the base transceiver stations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operate at the lowest power level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that will maintain an acceptable signal qua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wer levels can be stepped up or down in steps of 2 dBm from the peak power for the class down to a minimum of 13 dBm (20 milliwatts for MS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nly one step at a time and each step takes 60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here are 16 power levels (i.e., 30 db of rang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Both mobile station and BTS continually measure the signal strength or signal quality (based on the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it error rati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), and pass the information to the base station controller (BSC) which actually manages the power leve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03280" y="2421000"/>
          <a:ext cx="58784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58784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47640" y="5373720"/>
            <a:ext cx="61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TS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Base Transceiver Station (Proc. Señale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SC =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Base Station Controll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Handover  - Manejo Llamadas   -Manejo Px B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03640" y="1628640"/>
          <a:ext cx="56433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56433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24000" y="3213000"/>
          <a:ext cx="2952720" cy="178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213000"/>
                    <a:ext cx="295272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1989000"/>
          <a:ext cx="748836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748836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bility Manageme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P (Mobile Application Par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LRs guardan información de los usuarios en su áre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 encargados de enviar in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 o 2 HLR por 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3:06:45Z</dcterms:created>
  <dc:creator>javier</dc:creator>
  <dc:description/>
  <dc:language>en-US</dc:language>
  <cp:lastModifiedBy>Javier</cp:lastModifiedBy>
  <dcterms:modified xsi:type="dcterms:W3CDTF">2007-11-13T04:30:52Z</dcterms:modified>
  <cp:revision>65</cp:revision>
  <dc:subject/>
  <dc:title>Internet y sus protocolos</dc:title>
</cp:coreProperties>
</file>