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A8AC-C7F0-4000-A4DF-B77557A7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11B-6415-4C73-AFE1-7B4C6FDA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C62C-7A5C-4EC9-841C-478B756C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205-D032-49D4-9D10-9250DCC0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D177-D07A-4FFD-96B1-80C5A5D96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6C00-C560-4DD3-99D8-81473277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F3CA-038B-412E-8D00-EFAEBAFA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130A-9744-4D3A-8460-F52BB68D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FB64-9636-43C0-BEE3-EC6BE4E8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2506-2166-47B2-AFBD-B4C663EC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C700-781B-4535-8606-4BB8B023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B22-3076-43CE-B9E5-13515422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6303-35E8-47BD-9EF5-129258C2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789D-ECD6-47CD-9CA7-9D585E6D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62FB-7AC9-4931-8FE7-0F5C822E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F0F9-F495-43C3-86F4-DBE09362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BDD9-2122-4689-8C2F-4915BA2B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9E3-6056-4BBB-A0EF-0EC9A415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2F4-4DBA-4382-9E0F-DE8305B8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A957-3441-4078-B77D-A931E5D3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EFD-14F6-4BF2-A10C-4B950B33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237-5DF7-4C42-8C88-7C1BFF70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0DA-2FFD-4334-84FC-9DC3688E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0B9-9FDC-42BB-B50A-E1493857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C0C7-5CDD-4D6E-BFED-CA8F5BB9CF2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E4EC-0561-48A9-A653-018A612258D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Comunicaciones Inalámbricas.</a:t>
            </a:r>
            <a:br>
              <a:rPr sz="3200"/>
            </a:br>
            <a:br>
              <a:rPr sz="3200"/>
            </a:br>
            <a:r>
              <a:rPr b="1" lang="es-CL" sz="1400" spc="-1" strike="noStrike">
                <a:solidFill>
                  <a:srgbClr val="003366"/>
                </a:solidFill>
                <a:latin typeface="Arial"/>
              </a:rPr>
              <a:t>EL55A</a:t>
            </a:r>
            <a:br>
              <a:rPr sz="1400"/>
            </a:br>
            <a:r>
              <a:rPr b="1" lang="es-CL" sz="1400" spc="-1" strike="noStrike">
                <a:solidFill>
                  <a:srgbClr val="003366"/>
                </a:solidFill>
                <a:latin typeface="Arial"/>
              </a:rPr>
              <a:t>Sistemas de Telecomunicaciones</a:t>
            </a:r>
            <a:br>
              <a:rPr sz="1400"/>
            </a:br>
            <a:endParaRPr b="1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00360" y="4941720"/>
            <a:ext cx="4012920" cy="14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66"/>
                </a:solidFill>
                <a:latin typeface="Arial"/>
              </a:rPr>
              <a:t>Javier Acuña O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6666"/>
                </a:solidFill>
                <a:latin typeface="Arial"/>
              </a:rPr>
              <a:t>EL55A. Sistemas de Telecomunicaciones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401840" y="2362320"/>
          <a:ext cx="65656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1840" y="2362320"/>
                    <a:ext cx="65656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631880" y="2362320"/>
          <a:ext cx="610416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62320"/>
                    <a:ext cx="61041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74800" y="2362320"/>
          <a:ext cx="581832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2362320"/>
                    <a:ext cx="58183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52480" y="2362320"/>
          <a:ext cx="586440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586440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84400" y="2747880"/>
          <a:ext cx="699912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4400" y="2747880"/>
                    <a:ext cx="69991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836720" y="2362320"/>
          <a:ext cx="569592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6720" y="2362320"/>
                    <a:ext cx="56959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Handov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649520" y="2362320"/>
          <a:ext cx="607032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9520" y="2362320"/>
                    <a:ext cx="607032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feren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bile and Wireless Network Architectures,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2G1330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, KTH. (http://web.it.kth.se/~maguire/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quitectura Sistemas Inalámbrico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403280" y="2421000"/>
          <a:ext cx="587844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21000"/>
                    <a:ext cx="587844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268360" y="558972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BSS =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Base Station Syst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NSS =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Networks and Switching Syst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racterísticas G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Hybrid frequency-division/time-division multiple acces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DMA - division by frequency of the (maximum) 25 MHz allocated bandwidth in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124 carrier frequencies spaced 200 kHz apart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One or more carrier frequencies assigned to each base st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ach carrier frequency divided in time, using TD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Fundamental unit of time in this TDMA scheme is a burst period approx. 0.577 ms lo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Eight burst periods are grouped into a TDMA frame (approx. 4.615 ms) = basic unit for th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efinition of logical channe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 physical channel is one burst period per TDMA fra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Infrastructure based on Signalling System 7 (SS7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quitectura Sistemas Inalámbrico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03280" y="2421000"/>
          <a:ext cx="587844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21000"/>
                    <a:ext cx="587844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619280" y="5805360"/>
            <a:ext cx="43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SIM =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Subscriber Identity Module (PI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ME =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Mobile Equip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horro de Energ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iscontinuous Transmission (VAD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Discontinuous Recep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To minimize co-channel interference and to conserve power, both the mobiles and the base transceiver stations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operate at the lowest power level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that will maintain an acceptable signal qual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Power levels can be stepped up or down in steps of 2 dBm from the peak power for the class down to a minimum of 13 dBm (20 milliwatts for MS)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only one step at a time and each step takes 60m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there are 16 power levels (i.e., 30 db of range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Both mobile station and BTS continually measure the signal strength or signal quality (based on the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bit error ratio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), and pass the information to the base station controller (BSC) which actually manages the power level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quitectura Sistemas Inalámbrico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403280" y="2421000"/>
          <a:ext cx="587844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421000"/>
                    <a:ext cx="587844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547640" y="5373720"/>
            <a:ext cx="619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BTS =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Base Transceiver Station (Proc. Señales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BSC =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Base Station Controll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-Handover  - Manejo Llamadas   -Manejo Px B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quitectura Sistemas Inalámbrico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03640" y="1628640"/>
          <a:ext cx="56433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628640"/>
                    <a:ext cx="56433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24000" y="3213000"/>
          <a:ext cx="2952720" cy="178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213000"/>
                    <a:ext cx="295272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rquitectura Sistemas Inalámbrico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9640" y="1989000"/>
          <a:ext cx="7488360" cy="482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7488360" cy="48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bility Managemen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P (Mobile Application Par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VLRs guardan información de los usuarios en su áre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 encargados de enviar informació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1 o 2 HLR por 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03:06:45Z</dcterms:created>
  <dc:creator>javier</dc:creator>
  <dc:description/>
  <dc:language>en-US</dc:language>
  <cp:lastModifiedBy>Javier</cp:lastModifiedBy>
  <dcterms:modified xsi:type="dcterms:W3CDTF">2007-11-13T04:30:52Z</dcterms:modified>
  <cp:revision>65</cp:revision>
  <dc:subject/>
  <dc:title>Internet y sus protocolos</dc:title>
</cp:coreProperties>
</file>