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754-C7DF-4629-AA3F-1808BBC2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434-8C50-45FA-852E-F30375D4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ED6-771B-4A3F-BD78-802F2FBF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E2E-E0F7-4627-8562-4DB1B9EB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29C4-39FA-438F-8114-FCCCC3A7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3523-34D3-46C5-A07C-9499824F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28F3-BF71-42E7-9BA2-2D943EFB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8D4E-6774-41AD-91E6-BE423CD4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C72F-7D6F-49BD-A67A-CF776C5A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D338-D96A-4E60-A184-CBF65FE4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9356-2515-4F8C-B105-BFAE67F2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3D0-EADD-4B45-8205-DEF6B5E3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D632-8D32-453E-B6AC-C29C8DEE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91BF-2981-4E5A-B929-A3E34507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C50D-30B7-420E-BE73-1C32F028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46DE-B140-4BE1-8256-151AEDEC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545F-E8EA-4A84-B125-BE9A1D7D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779-955A-4FE6-B816-5F040FDE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E5F-A412-4290-ACB3-237898DF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B81-5C62-4B4D-AA3C-0B33E4D0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EB9-65DF-4161-9F19-BC19ADC0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201-9E5C-4FE3-B95C-3C4F1ACD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940-AC98-422A-AE79-B634457D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53E-1473-4558-B1BD-FD09AB21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3B7C-3B5B-4F06-9531-1E3BFF59F0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616F-88D2-49F5-9256-4001861A527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Redes de colas.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ARQ.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55A. Sistemas de Telecomunicacione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id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Red de Jacks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ARQ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1BA-B88A-4472-95DB-78B6B87DB3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d de Jackso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ara cada una de las redes de la figura determi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Condiciones de estabilida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[n</a:t>
            </a:r>
            <a:r>
              <a:rPr b="0" lang="es-CL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, n</a:t>
            </a:r>
            <a:r>
              <a:rPr b="0" lang="es-CL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cad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Delay medio extremo a extrem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61000" y="3160800"/>
          <a:ext cx="377028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3160800"/>
                    <a:ext cx="377028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1B3-5B6D-4571-9CC3-ABD9731CC5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d de Jackso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15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(P3 C2 2006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Considere la red de Jackson de la figur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Escriba las hipótesis que hacen de la red una red de Jacks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Calcule las tasas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y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en término de los otros parámetros de la figura. Escriba la condición de estabilidad correspondiente. Calcule P[n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, n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¿A qué se reducen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y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cuando p=r=0? Discuta brevem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6920" y="4221000"/>
          <a:ext cx="8066160" cy="18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221000"/>
                    <a:ext cx="8066160" cy="18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391-0741-4EF1-8EB0-FDB084EB82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RQ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779640" y="2349360"/>
            <a:ext cx="48495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uestre el flujo de paquetes en la dirección A-&gt;B y B-&gt;A para la transmisión de la figura, si existe un error en la transmisión del paquete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Usando ARQ Stop and Wa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Usando ARQ Go Back 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Usando ARQ Selective Repea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421000"/>
          <a:ext cx="30942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30942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0D8-761D-4069-847B-06F55304BC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9-09T03:30:48Z</dcterms:modified>
  <cp:revision>100</cp:revision>
  <dc:subject/>
  <dc:title>Repaso de Probabilidades</dc:title>
</cp:coreProperties>
</file>