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EEC-2C25-47D6-BB27-F970BB77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766-BD17-4692-AA25-FB1B7335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957-34B9-4C5D-9E76-10E9677E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9A3-5800-4A7D-A522-2031F037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6CC-1E98-42F9-B37A-E2723022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8FE-0D10-4C39-85A2-53F7573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6FA0-9729-4D4E-AE78-4ACB62D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E9E-7296-4CC5-A744-EE574F2F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D88-9DE0-4A84-B743-64A7DEF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411C-1230-4886-B68C-AC4785C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F714-8CA9-4FF3-B9B2-06207B2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F54-3A10-4857-8C3E-D65E459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A0A-C0D7-4172-9497-177B70C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020B-A545-42B4-B3F2-A32D3EF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0FE6-8930-49C8-A3C6-898A8F3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E8D-0792-4648-ADDC-002130CD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CFF0-4C18-4D39-B9E2-4B4CCB1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4E2-704F-42EB-A594-52ABEC90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A6E-9D59-442D-A522-9E4B7C0B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8A9-19B4-4CF6-9BB1-51EB8B5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374-5F7D-4104-BBB0-50E22F3D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1FC-3243-48E2-A4A9-0F6D18A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042-D11B-4D1C-8DA4-1F4A23A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92D-EDC5-49AD-BEB8-F075866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113F-BB41-4C94-8507-7D1B9DB672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459-4B0D-4766-805F-AC95CD772B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Ley de Little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/B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442-7FF7-4989-9232-DB4154D370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n una cola M/M/1, la tasa de llegada es 0.05 s</a:t>
            </a:r>
            <a:r>
              <a:rPr b="0" lang="es-CL" sz="2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, y el tiempo de servicio es 1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la c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el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374-9082-4C9A-86F2-788945C8F4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un nodo de una red, las mediciones muestran que llegan en promedio 125 paquetes por segundo, y el nodo demora en promedio 2 mseg en forwardearlos. Usando un modelo M/M/1, calcula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tener más de 5 paquetes en el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Haga una aproximación del tamaño del buffer necesario para que la probabilidad de bloqueo sea menor a 10</a:t>
            </a:r>
            <a:r>
              <a:rPr b="0" lang="es-CL" sz="2000" spc="-1" strike="noStrike" baseline="30000">
                <a:solidFill>
                  <a:srgbClr val="003366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0D2-7D5D-4113-8ADD-14E1A495C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N Cola M/M/1/B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el mismo nodo del problema anterior, suponer que la cola es de tamaño 1 (B=2), calcula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efectiva de llega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de perdida de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9DD-954F-42EE-ABC1-C20DD2130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ollaczek-Khinch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casino de Beaucheff, los alumnos llegan a una tasa de 1 cada 5 minutos (Poisson), y calientan su comida en un microondas por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tiempo medio en la cola, y el 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número medio de alumno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mpare con el caso en que los alumnos calientan la comida un tiempo exponencial de media 2 minu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o mismo que la pregunta anterior, pero suponiendo que 2/3 calienta la comida durante 3 minutos, y 1/3 durante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A07-7B37-4FA5-8ED1-F0E3BF2D7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4T04:56:06Z</dcterms:modified>
  <cp:revision>94</cp:revision>
  <dc:subject/>
  <dc:title>Repaso de Probabilidades</dc:title>
</cp:coreProperties>
</file>