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24A-36D0-4405-9FE3-DB05D416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A49-4674-4166-8BB4-05116B6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D13-1671-492C-AB66-2A9BA870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7BD8-BBEB-43F3-B595-0B2D8207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6792-7B87-4792-903B-66E9FB05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5AE4-2249-4446-9117-9B31A23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8B0-8D12-4561-BD00-9CB4F2C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E81-996D-44E6-8623-79FA6CE3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AD1E-5F25-42F9-B536-2E3DDA3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A494-B2F0-44B0-838A-37E43F3D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A2B-9B2B-4500-AD62-36B44DA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F3B-336C-4171-87BA-D9E7E3E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0167-75A7-4C7E-98B1-F715CCD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52B-73FB-4231-B9E9-D49D49F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BFC-EE70-4B95-A33B-78947B2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D3D7-37C3-4526-A878-8843F5FD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DD1A-770A-468F-B65E-1C9A791D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8A7-04AC-446F-8609-BFC98E0D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531-9388-4029-8504-400D834D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EA2-A893-42A7-9DF1-B51BC49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BFBB-D647-4856-897C-F0F5F64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405-0993-49D0-8027-DB26CF0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B37-40FB-47CC-934E-54EF7EF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871-2875-4B04-9B04-F7120E2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14C8-CC12-406D-AF7F-251215EEA0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9407-7F05-4266-9CEC-744900457F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Colas.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Ley de Little</a:t>
            </a:r>
            <a:br>
              <a:rPr sz="4400"/>
            </a:br>
            <a:r>
              <a:rPr b="1" lang="es-CL" sz="44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ola M/M/1/B – Ley de Lit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llaczek-Khinch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DBF-72B6-4762-B4E8-4E2152BF0C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En una cola M/M/1, la tasa de llegada es 0.05 s</a:t>
            </a:r>
            <a:r>
              <a:rPr b="0" lang="es-CL" sz="28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, y el tiempo de servicio es 1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la col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alcule el tiempo de espera promedio en el sis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090-33D5-462F-9F63-22082B317A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la M/M/1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un nodo de una red, las mediciones muestran que llegan en promedio 125 paquetes por segundo, y el nodo demora en promedio 2 mseg en forwardearlos. Usando un modelo M/M/1, calcular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tener más de 5 paquetes en el sist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Haga una aproximación del tamaño del buffer necesario para que la probabilidad de bloqueo sea menor a 10</a:t>
            </a:r>
            <a:r>
              <a:rPr b="0" lang="es-CL" sz="2000" spc="-1" strike="noStrike" baseline="30000">
                <a:solidFill>
                  <a:srgbClr val="003366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C4E-EB0D-495F-9D1E-FA16741C0C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N Cola M/M/1/B – Ley de Lit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ara el mismo nodo del problema anterior, suponer que la cola es de tamaño 1 (B=2), calcula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babilidad de n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úmero medio de paquete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efectiva de llegad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asa de perdida de paque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9A6-212F-4104-B0A1-7119B8AAEC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ollaczek-Khinch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n el casino de Beaucheff, los alumnos llegan a una tasa de 1 cada 5 minutos (Poisson), y calientan su comida en un microondas por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tiempo medio en la cola, y el tiempo medio en el siste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cuentre el número medio de alumnos en la col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Compare con el caso en que los alumnos calientan la comida un tiempo exponencial de media 2 minut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Lo mismo que la pregunta anterior, pero suponiendo que 2/3 calienta la comida durante 3 minutos, y 1/3 durante 2 minu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55A, Sistemas de Telecomunicaciones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B57-15E3-4BE8-AE7B-FFD7E5213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04T04:56:06Z</dcterms:modified>
  <cp:revision>94</cp:revision>
  <dc:subject/>
  <dc:title>Repaso de Probabilidades</dc:title>
</cp:coreProperties>
</file>