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10B-EACB-454B-9AC6-614AD1C4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BC5-6327-492E-A360-BBC3671F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6F0-C27F-4F47-9BBF-E9365CF3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321-02A6-4C5C-AEED-EA87CA7E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0ED2-22D0-4E38-930F-0CF0BB1D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7738-C4B7-4734-96FF-4DD16CE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159-B0B1-46B5-8732-D3F68A0D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2335-BC42-4186-B8C5-0521C13C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083C-4A2B-4201-9BF0-3A516745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3054-A0EA-472A-9EC5-73F46D8F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4336-4541-46E5-98AD-E9263ABD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202-E801-4B63-8A7B-6804ED93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BB5E-CA3C-4918-8A28-AA01BFF1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8252-E015-40E1-A520-AA449B4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7107-9E65-47DD-9FD4-2CA10E9A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D11-1081-41BB-89FF-E1AC2FA6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0BA2-EEE2-4029-B049-80A357B7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2AD-1FA2-424F-8080-165863C6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C8B-F932-4144-8C45-963B2C66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7C4-656A-4C08-BBB2-CF90E541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DB0-05B3-435C-9CB2-E7C5F885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40A-B841-437C-9480-F34006A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FB7-A038-48BA-B144-0689159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EAD-0BBA-4C7A-9168-573B1D3D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83F8-1068-4371-AF97-3DDC6AF259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B8AD-F938-4514-9B47-A46EDA0758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Redes de colas.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ARQ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i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ed de Jacks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ARQ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A22-B6E6-4448-B858-F775BEB1ED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d de Jacks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ara cada una de las redes de la figura determi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ndiciones de estabilida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[n</a:t>
            </a:r>
            <a:r>
              <a:rPr b="0" lang="es-CL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, n</a:t>
            </a:r>
            <a:r>
              <a:rPr b="0" lang="es-CL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cad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elay medio extremo a extrem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61000" y="3160800"/>
          <a:ext cx="377028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3160800"/>
                    <a:ext cx="377028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447-561F-49D2-8DA4-BDB42FE4CF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d de Jacks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15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(P3 C2 200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nsidere la red de Jackson de la figur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Escriba las hipótesis que hacen de la red una red de Jacks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Calcule las tasas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en término de los otros parámetros de la figura. Escriba la condición de estabilidad correspondiente. Calcule P[n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, n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¿A qué se reducen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cuando p=r=0? Discuta brevem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6920" y="4221000"/>
          <a:ext cx="8066160" cy="18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221000"/>
                    <a:ext cx="8066160" cy="18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441-4D06-4FDC-9D15-E897D36A5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RQ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779640" y="2349360"/>
            <a:ext cx="4849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uestre el flujo de paquetes en la dirección A-&gt;B y B-&gt;A para la transmisión de la figura, si existe un error en la transmisión del paquete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Stop and Wa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Go Back 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Selective Repea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421000"/>
          <a:ext cx="30942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30942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CCF-5210-4D46-AC9D-E19BF21B4F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09T03:30:48Z</dcterms:modified>
  <cp:revision>100</cp:revision>
  <dc:subject/>
  <dc:title>Repaso de Probabilidades</dc:title>
</cp:coreProperties>
</file>