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11F-6B9E-463B-AE73-6FDA0B83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2BA-DA5B-4DC3-8FC5-9CC43649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FD4-9B81-4257-96BD-F57BE096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972-F9D8-46CD-A3A8-7CE0240E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C540-B7FC-4535-80F4-88F7BD46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571A-28B0-45A0-A5C3-BDE3E9C7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4BF9-C31B-4C5C-A333-865CDD9B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12DA-837A-4570-9E74-3F226356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F1B0-69CD-4710-8EB8-ADC159F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138F-5EF7-48B1-AB6D-CC48359D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4FBD-5C9F-4009-9F5F-10E3A754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ABB-31F1-4F35-B50C-F1E0E2E2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24EA-4A95-413C-827D-1429C65E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35B9-16BA-4870-AF02-1A0D41F1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AF7E-6D4F-4280-BB3E-2252D000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20B7-D6DC-4FD4-A2BC-C0B62D8F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082F-99B1-4B9C-9A6D-705C2AFD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7D7-96E5-4EE9-8FA6-77010AC7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339-0C87-4850-9B7C-CB2BEC5F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1DB0-6EBC-4AD6-9833-42506EBB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8B8-1F89-4EBA-BC9D-B8090BA9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29B-9006-4B8C-AAB4-A3E61501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16D-685F-4C7E-9E83-2CAB309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A1C-BA86-4586-B4CF-63DFD21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716D-1BB1-4766-A5A7-7FB765617E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4B4D-1E10-440C-AEFF-E423D0E37B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Colas.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Ley de Little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Pollaczek-Khinchi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55A. Sistemas de Telecomunicacione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id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ola M/M/1 – Ley de Lit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ola M/M/1/B – Ley de Lit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llaczek-Khinch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6D8-7D29-4F09-9682-AA37105CE9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la M/M/1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En una cola M/M/1, la tasa de llegada es 0.05 s</a:t>
            </a:r>
            <a:r>
              <a:rPr b="0" lang="es-CL" sz="2800" spc="-1" strike="noStrike" baseline="30000">
                <a:solidFill>
                  <a:srgbClr val="003366"/>
                </a:solidFill>
                <a:latin typeface="Arial"/>
              </a:rPr>
              <a:t>-1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, y el tiempo de servicio es 10 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alcule el tiempo de espera promedio en la co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alcule el tiempo de espera promedio en el siste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4BC-4CCD-4AEF-9399-A3E23B340D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la M/M/1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un nodo de una red, las mediciones muestran que llegan en promedio 125 paquetes por segundo, y el nodo demora en promedio 2 mseg en forwardearlos. Usando un modelo M/M/1, calcular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n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tener más de 5 paquetes en el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Haga una aproximación del tamaño del buffer necesario para que la probabilidad de bloqueo sea menor a 10</a:t>
            </a:r>
            <a:r>
              <a:rPr b="0" lang="es-CL" sz="2000" spc="-1" strike="noStrike" baseline="30000">
                <a:solidFill>
                  <a:srgbClr val="003366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66D-3988-4784-8DC3-E220CCF8A7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N Cola M/M/1/B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ara el mismo nodo del problema anterior, suponer que la cola es de tamaño 1 (B=2), calcula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n paque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asa efectiva de llegad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asa de perdida de paque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D68-7B5F-45A1-8E97-9E05D08436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ollaczek-Khinch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casino de Beaucheff, los alumnos llegan a una tasa de 1 cada 5 minutos (Poisson), y calientan su comida en un microondas por 2 minu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el tiempo medio en la cola, y el 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el número medio de alumnos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mpare con el caso en que los alumnos calientan la comida un tiempo exponencial de media 2 minut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Lo mismo que la pregunta anterior, pero suponiendo que 2/3 calienta la comida durante 3 minutos, y 1/3 durante 2 minu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138-EA36-418A-B384-426C6DA433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04T04:56:06Z</dcterms:modified>
  <cp:revision>94</cp:revision>
  <dc:subject/>
  <dc:title>Repaso de Probabilidades</dc:title>
</cp:coreProperties>
</file>