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651-4D81-41D8-85B5-D64B8221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F8E-65DB-4FBD-9A08-3A286283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19E-14C8-4916-A929-57891CA5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2C0-F7F8-48DB-B09E-811F866F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5300-193F-464A-9F5E-5EF1DD8E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EA58-8CC2-49AC-8EDF-9367B6ED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1DE5-46F9-4F4F-968A-5012BF87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8E13-93D6-4EC0-B3C0-1D79EBFE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448B-E6CA-465A-9C71-C8DAD3DA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C8EE-D327-4248-A0BD-048F872D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62BE-59B0-4636-864F-194757F5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FAB-212F-4703-B18F-88454D4E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A980-EE7E-4D1D-B7D7-E5D0C453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518C-52DD-4159-A814-00B98B5F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AE1A-EE9C-433A-A7CE-E2F42E19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E663-33D4-47BE-8285-30E1803B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5158-7922-470E-88FA-0E1A7A1F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CCB-03CF-42BA-ADC2-F523D62B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BB6-9125-4BC9-8E28-E7028121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F54-639A-436C-BC75-A84D8513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F90-21E0-46D2-BD30-97A1494D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A91-5CDD-4053-AAB8-2AC7116A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C08-3D03-448B-84E4-AB6E7C20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A5A-D30F-4BF6-9AD8-9E95EDA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51E3-456F-4DD8-AEB7-F4AC4257AC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B90C-75AE-4938-BBB2-69BF1C604C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Redes de colas.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ARQ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id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Red de Jacks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ARQ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EFE-D547-4A72-8C45-01D6F653B2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d de Jacks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ara cada una de las redes de la figura determi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ndiciones de estabilida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[n</a:t>
            </a:r>
            <a:r>
              <a:rPr b="0" lang="es-CL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, n</a:t>
            </a:r>
            <a:r>
              <a:rPr b="0" lang="es-CL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cad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Delay medio extremo a extrem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61000" y="3160800"/>
          <a:ext cx="377028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3160800"/>
                    <a:ext cx="377028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6EC-21BC-44E0-9735-D4B66296DC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d de Jacks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15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(P3 C2 2006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nsidere la red de Jackson de la figur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Escriba las hipótesis que hacen de la red una red de Jacks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Calcule las tasas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en término de los otros parámetros de la figura. Escriba la condición de estabilidad correspondiente. Calcule P[n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, n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¿A qué se reducen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cuando p=r=0? Discuta brevem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6920" y="4221000"/>
          <a:ext cx="8066160" cy="18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221000"/>
                    <a:ext cx="8066160" cy="18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AA6-FF0E-44C4-BD1A-8322917942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RQ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779640" y="2349360"/>
            <a:ext cx="48495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uestre el flujo de paquetes en la dirección A-&gt;B y B-&gt;A para la transmisión de la figura, si existe un error en la transmisión del paquete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Stop and Wa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Go Back 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Selective Repea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421000"/>
          <a:ext cx="30942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30942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D24-576A-4D8F-9F2D-27AC1DF19A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09T03:30:48Z</dcterms:modified>
  <cp:revision>100</cp:revision>
  <dc:subject/>
  <dc:title>Repaso de Probabilidades</dc:title>
</cp:coreProperties>
</file>