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E5E-0B6A-41C6-A1A3-8882FC62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421-7439-4AB1-B764-9925F51A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BCC-FB7C-4218-8ADD-9415E7A9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FF7-6143-4382-B61E-161EF694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4A5D-2811-4CCE-AD3C-AD75294F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E30F-08C8-4FB4-ACB3-E5C2A7B5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4C63-0276-4AB9-9BAE-1F9A2D8B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85A0-034A-481D-84F2-81001EF7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084E-E360-4CC4-A62E-F5B43705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BDD1-7347-4A97-BFAA-1234D929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7551-81C8-407D-A1FB-7D1004D4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34D-3790-49E7-8842-1AE36B41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2B4E-D38A-4A2A-AFB2-D87B3569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FBC0-13E3-4F68-8E05-34B42EF8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9127-7C2C-4FE4-9989-B2A6B916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A72C-C769-4CDA-8558-ED54B8FF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B2E1-C97E-4E2C-9184-6FDEA629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4B3-3491-433D-8E97-ACE20DE1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D80-2A96-4E7A-9AA5-E761AA54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A10-A9CA-4BB7-BFEE-48434B12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92C-7986-4B0D-8F02-E204C089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13E-FD44-4B2E-82C1-5042FB62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7F9-311B-4E29-ACE2-5FED20E3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53D-5984-4356-A3C5-D2800C37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E120-83E1-416A-95E0-750F53CE38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7017-C224-49F4-899E-CA7515E016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Colas.</a:t>
            </a:r>
            <a:br>
              <a:rPr sz="4400"/>
            </a:b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Ley de Little</a:t>
            </a:r>
            <a:br>
              <a:rPr sz="4400"/>
            </a:b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Pollaczek-Khinchi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55A. Sistemas de Telecomunicacione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id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ola M/M/1 – Ley de Lit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ola M/M/1/B – Ley de Lit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llaczek-Khinch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091-C8EC-4A19-9DF1-DB116448C2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la M/M/1 – Ley de Litt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En una cola M/M/1, la tasa de llegada es 0.05 s</a:t>
            </a:r>
            <a:r>
              <a:rPr b="0" lang="es-CL" sz="2800" spc="-1" strike="noStrike" baseline="30000">
                <a:solidFill>
                  <a:srgbClr val="003366"/>
                </a:solidFill>
                <a:latin typeface="Arial"/>
              </a:rPr>
              <a:t>-1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, y el tiempo de servicio es 10 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alcule el tiempo de espera promedio en la co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alcule el tiempo de espera promedio en el siste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0E0-0692-4F2B-A0FA-532D5A5987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la M/M/1 – Ley de Litt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 un nodo de una red, las mediciones muestran que llegan en promedio 125 paquetes por segundo, y el nodo demora en promedio 2 mseg en forwardearlos. Usando un modelo M/M/1, calcular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babilidad de n paquetes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babilidad de tener más de 5 paquetes en el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úmero medio de paquetes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iempo medio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iempo medio en l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Haga una aproximación del tamaño del buffer necesario para que la probabilidad de bloqueo sea menor a 10</a:t>
            </a:r>
            <a:r>
              <a:rPr b="0" lang="es-CL" sz="2000" spc="-1" strike="noStrike" baseline="30000">
                <a:solidFill>
                  <a:srgbClr val="003366"/>
                </a:solidFill>
                <a:latin typeface="Arial"/>
              </a:rPr>
              <a:t>-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250-70B9-4A9E-9AB1-986BA13ED1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N Cola M/M/1/B – Ley de Litt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ara el mismo nodo del problema anterior, suponer que la cola es de tamaño 1 (B=2), calcula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babilidad de n paquet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úmero medio de paquetes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úmero medio de paquetes en l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asa efectiva de llegad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asa de perdida de paquet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iempo medio en l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iempo medio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7D6-CCED-4B7D-9587-25D4540E13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ollaczek-Khinch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 el casino de Beaucheff, los alumnos llegan a una tasa de 1 cada 5 minutos (Poisson), y calientan su comida en un microondas por 2 minu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cuentre el tiempo medio en la cola, y el tiempo medio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cuentre el número medio de alumnos en l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Compare con el caso en que los alumnos calientan la comida un tiempo exponencial de media 2 minut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Lo mismo que la pregunta anterior, pero suponiendo que 2/3 calienta la comida durante 3 minutos, y 1/3 durante 2 minu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9B7-7CAE-4CE4-9756-AB2104841B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9-04T04:56:06Z</dcterms:modified>
  <cp:revision>94</cp:revision>
  <dc:subject/>
  <dc:title>Repaso de Probabilidades</dc:title>
</cp:coreProperties>
</file>