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242B-2339-4259-9CA2-C874A02EE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BB67-BF6C-4EBD-84FF-16B4D569E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99EB-60C0-4D95-B964-98DD7280D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9991-82B6-413A-AA05-28E32ECD8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DC11-0B79-4E08-BFEE-BB9DB6EF9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4516-A3EE-48A6-96A4-33EA41497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CA3B-8A3A-45EE-A7F1-CDAF7F377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BD8A-F5A8-4514-9C13-3252A442B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9F70-4CB9-4CFB-A5B6-1010D9FD5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024F-9597-42D2-B743-DAC115F9A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62C8-7FEE-424F-94B6-446B72FD5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61C7-95D6-4CC4-88C1-59BED1446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10FC8-328D-4288-9E8F-FA6B6E9B61D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446880"/>
            <a:ext cx="9144000" cy="368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c38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L54B,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Sistemas para el Procesamiento de la Inform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316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ENERAL PURPOSE ARITHMETIC AND CPU CONTROL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79280" y="720720"/>
          <a:ext cx="8785440" cy="5038560"/>
        </p:xfrm>
        <a:graphic>
          <a:graphicData uri="http://schemas.openxmlformats.org/drawingml/2006/table">
            <a:tbl>
              <a:tblPr/>
              <a:tblGrid>
                <a:gridCol w="684360"/>
                <a:gridCol w="1038240"/>
                <a:gridCol w="290520"/>
                <a:gridCol w="284040"/>
                <a:gridCol w="290520"/>
                <a:gridCol w="300240"/>
                <a:gridCol w="271440"/>
                <a:gridCol w="358560"/>
                <a:gridCol w="298440"/>
                <a:gridCol w="300240"/>
                <a:gridCol w="360360"/>
                <a:gridCol w="423720"/>
                <a:gridCol w="424080"/>
                <a:gridCol w="392040"/>
                <a:gridCol w="555480"/>
                <a:gridCol w="598680"/>
                <a:gridCol w="598320"/>
                <a:gridCol w="1316160"/>
              </a:tblGrid>
              <a:tr h="181440">
                <a:tc rowSpan="2">
                  <a:txBody>
                    <a:bodyPr lIns="54000" rIns="54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nemon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ymbolic Ope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la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-Co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By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M Cyc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T Cyc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/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1440"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verts ac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imal adju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ent in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cumulat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cked BC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llowing ad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 subtra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ith pack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CD operan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440"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P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 ← 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le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cumulat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one's complemen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440"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 ← Ā +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gate acc. ( two'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lement 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440"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C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Y ←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lement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rry fla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440"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C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Y ←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t carry fla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440"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ope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440"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AL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PU halt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440"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F ← 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440"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F ←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440"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M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t interrup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 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440"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M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t interrup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440"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M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t interrup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263520" y="5819760"/>
          <a:ext cx="4164120" cy="576360"/>
        </p:xfrm>
        <a:graphic>
          <a:graphicData uri="http://schemas.openxmlformats.org/drawingml/2006/table">
            <a:tbl>
              <a:tblPr/>
              <a:tblGrid>
                <a:gridCol w="648720"/>
                <a:gridCol w="3515400"/>
              </a:tblGrid>
              <a:tr h="199080">
                <a:tc rowSpan="3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es: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F indicates the interrupt enable flip-flop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88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Y indicates the carry flip-flop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8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rrupts are not sampled at the end of EI or D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4572000" y="5805360"/>
          <a:ext cx="4392720" cy="587520"/>
        </p:xfrm>
        <a:graphic>
          <a:graphicData uri="http://schemas.openxmlformats.org/drawingml/2006/table">
            <a:tbl>
              <a:tblPr/>
              <a:tblGrid>
                <a:gridCol w="4392720"/>
              </a:tblGrid>
              <a:tr h="587520">
                <a:tc>
                  <a:txBody>
                    <a:bodyPr lIns="72000" rIns="72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 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= Flag not affected, 0 = Flag reset </a:t>
                      </a: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= Flag set, 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Flag is unknow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 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= Flag affected according operation resul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FF = Interrupt enable Flip-Flop content copied in P/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"/>
          <p:cNvSpPr/>
          <p:nvPr/>
        </p:nvSpPr>
        <p:spPr>
          <a:xfrm>
            <a:off x="0" y="336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3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1332000" y="3397320"/>
                <a:ext cx="215640" cy="17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CY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-131760" y="-2352600"/>
            <a:ext cx="1571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131760" y="-2352600"/>
            <a:ext cx="1571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-131760" y="-2352600"/>
            <a:ext cx="1571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-131760" y="-2352600"/>
            <a:ext cx="1571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-131760" y="-2352600"/>
            <a:ext cx="1571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-131760" y="-2352600"/>
            <a:ext cx="1571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-131760" y="-2352600"/>
            <a:ext cx="1571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31760" y="-2352600"/>
            <a:ext cx="1571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-131760" y="-2352600"/>
            <a:ext cx="1571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-131760" y="-2352600"/>
            <a:ext cx="1571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131760" y="-2352600"/>
            <a:ext cx="1571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131760" y="-2352600"/>
            <a:ext cx="1571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84240" y="836640"/>
          <a:ext cx="8951760" cy="5452920"/>
        </p:xfrm>
        <a:graphic>
          <a:graphicData uri="http://schemas.openxmlformats.org/drawingml/2006/table">
            <a:tbl>
              <a:tblPr/>
              <a:tblGrid>
                <a:gridCol w="682560"/>
                <a:gridCol w="1495440"/>
                <a:gridCol w="331560"/>
                <a:gridCol w="330480"/>
                <a:gridCol w="317520"/>
                <a:gridCol w="331560"/>
                <a:gridCol w="331920"/>
                <a:gridCol w="333360"/>
                <a:gridCol w="331920"/>
                <a:gridCol w="333360"/>
                <a:gridCol w="277560"/>
                <a:gridCol w="362160"/>
                <a:gridCol w="361800"/>
                <a:gridCol w="351000"/>
                <a:gridCol w="531720"/>
                <a:gridCol w="531720"/>
                <a:gridCol w="531720"/>
                <a:gridCol w="605160"/>
                <a:gridCol w="579240"/>
              </a:tblGrid>
              <a:tr h="188640">
                <a:tc rowSpan="2"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nemon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ymbolic Ope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la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-Co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By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M Cyc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T Cyc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/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9800">
                <a:tc>
                  <a:txBody>
                    <a:bodyPr lIns="54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RC 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 form ne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8640">
                <a:tc>
                  <a:txBody>
                    <a:bodyPr lIns="54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-code, repla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8640">
                <a:tc>
                  <a:txBody>
                    <a:bodyPr lIns="54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 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 ≡ r,(HL),(IX+d),(IY+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0 of RLC's wi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9800">
                <a:tc>
                  <a:txBody>
                    <a:bodyPr lIns="54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R 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hown cod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8640">
                <a:tc>
                  <a:txBody>
                    <a:bodyPr lIns="54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8640">
                <a:tc>
                  <a:txBody>
                    <a:bodyPr lIns="54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 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 ≡ r,(HL),(IX+d),(IY+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9440">
                <a:tc>
                  <a:txBody>
                    <a:bodyPr lIns="54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LA 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8640">
                <a:tc>
                  <a:txBody>
                    <a:bodyPr lIns="54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8640">
                <a:tc>
                  <a:txBody>
                    <a:bodyPr lIns="54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 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 ≡ r,(HL),(IX+d),(IY+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9800">
                <a:tc>
                  <a:txBody>
                    <a:bodyPr lIns="54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RA 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8640">
                <a:tc>
                  <a:txBody>
                    <a:bodyPr lIns="54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8640">
                <a:tc>
                  <a:txBody>
                    <a:bodyPr lIns="54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 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 ≡ r,(HL),(IX+d),(IY+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8640">
                <a:tc>
                  <a:txBody>
                    <a:bodyPr lIns="54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RL 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18000" rIns="18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8640">
                <a:tc>
                  <a:txBody>
                    <a:bodyPr lIns="54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8640">
                <a:tc>
                  <a:txBody>
                    <a:bodyPr lIns="54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 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 ≡ r,(HL),(IX+d),(IY+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8640">
                <a:tc>
                  <a:txBody>
                    <a:bodyPr lIns="54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L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18000" rIns="18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tate digit lef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8640">
                <a:tc>
                  <a:txBody>
                    <a:bodyPr lIns="54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d right betwe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8640">
                <a:tc>
                  <a:txBody>
                    <a:bodyPr lIns="54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 accumulat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8640">
                <a:tc>
                  <a:txBody>
                    <a:bodyPr lIns="54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d location (HL)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8640">
                <a:tc>
                  <a:txBody>
                    <a:bodyPr lIns="54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 content of th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8640">
                <a:tc>
                  <a:txBody>
                    <a:bodyPr lIns="54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pper half of th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8640">
                <a:tc>
                  <a:txBody>
                    <a:bodyPr lIns="54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cumulator 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9800">
                <a:tc>
                  <a:txBody>
                    <a:bodyPr lIns="54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affected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8640">
                <a:tc>
                  <a:txBody>
                    <a:bodyPr lIns="54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8640">
                <a:tc>
                  <a:txBody>
                    <a:bodyPr lIns="54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"/>
          <p:cNvSpPr/>
          <p:nvPr/>
        </p:nvSpPr>
        <p:spPr>
          <a:xfrm>
            <a:off x="-131760" y="920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6446880"/>
            <a:ext cx="9144000" cy="368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c38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L54B,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Sistemas para el Procesamiento de la Inform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Z80-RRC" descr=""/>
          <p:cNvPicPr/>
          <p:nvPr/>
        </p:nvPicPr>
        <p:blipFill>
          <a:blip r:embed="rId1"/>
          <a:stretch/>
        </p:blipFill>
        <p:spPr>
          <a:xfrm>
            <a:off x="965160" y="1413000"/>
            <a:ext cx="1085760" cy="333360"/>
          </a:xfrm>
          <a:prstGeom prst="rect">
            <a:avLst/>
          </a:prstGeom>
          <a:ln w="0">
            <a:noFill/>
          </a:ln>
        </p:spPr>
      </p:pic>
      <p:pic>
        <p:nvPicPr>
          <p:cNvPr id="121" name="Z80-RR" descr=""/>
          <p:cNvPicPr/>
          <p:nvPr/>
        </p:nvPicPr>
        <p:blipFill>
          <a:blip r:embed="rId2"/>
          <a:stretch/>
        </p:blipFill>
        <p:spPr>
          <a:xfrm>
            <a:off x="971640" y="2016000"/>
            <a:ext cx="1181160" cy="333360"/>
          </a:xfrm>
          <a:prstGeom prst="rect">
            <a:avLst/>
          </a:prstGeom>
          <a:ln w="0">
            <a:noFill/>
          </a:ln>
        </p:spPr>
      </p:pic>
      <p:pic>
        <p:nvPicPr>
          <p:cNvPr id="122" name="Z80-SLA" descr=""/>
          <p:cNvPicPr/>
          <p:nvPr/>
        </p:nvPicPr>
        <p:blipFill>
          <a:blip r:embed="rId3"/>
          <a:stretch/>
        </p:blipFill>
        <p:spPr>
          <a:xfrm>
            <a:off x="900000" y="2695680"/>
            <a:ext cx="1257480" cy="228600"/>
          </a:xfrm>
          <a:prstGeom prst="rect">
            <a:avLst/>
          </a:prstGeom>
          <a:ln w="0">
            <a:noFill/>
          </a:ln>
        </p:spPr>
      </p:pic>
      <p:pic>
        <p:nvPicPr>
          <p:cNvPr id="123" name="Z80-SRA" descr=""/>
          <p:cNvPicPr/>
          <p:nvPr/>
        </p:nvPicPr>
        <p:blipFill>
          <a:blip r:embed="rId4"/>
          <a:stretch/>
        </p:blipFill>
        <p:spPr>
          <a:xfrm>
            <a:off x="965160" y="3249720"/>
            <a:ext cx="1085760" cy="323640"/>
          </a:xfrm>
          <a:prstGeom prst="rect">
            <a:avLst/>
          </a:prstGeom>
          <a:ln w="0">
            <a:noFill/>
          </a:ln>
        </p:spPr>
      </p:pic>
      <p:pic>
        <p:nvPicPr>
          <p:cNvPr id="124" name="Z80-SRL" descr=""/>
          <p:cNvPicPr/>
          <p:nvPr/>
        </p:nvPicPr>
        <p:blipFill>
          <a:blip r:embed="rId5"/>
          <a:stretch/>
        </p:blipFill>
        <p:spPr>
          <a:xfrm>
            <a:off x="900000" y="3921120"/>
            <a:ext cx="1228680" cy="228600"/>
          </a:xfrm>
          <a:prstGeom prst="rect">
            <a:avLst/>
          </a:prstGeom>
          <a:ln w="0">
            <a:noFill/>
          </a:ln>
        </p:spPr>
      </p:pic>
      <p:pic>
        <p:nvPicPr>
          <p:cNvPr id="125" name="Z80-RLD" descr=""/>
          <p:cNvPicPr/>
          <p:nvPr/>
        </p:nvPicPr>
        <p:blipFill>
          <a:blip r:embed="rId6"/>
          <a:stretch/>
        </p:blipFill>
        <p:spPr>
          <a:xfrm>
            <a:off x="826920" y="4437000"/>
            <a:ext cx="1368720" cy="504720"/>
          </a:xfrm>
          <a:prstGeom prst="rect">
            <a:avLst/>
          </a:prstGeom>
          <a:ln w="0">
            <a:noFill/>
          </a:ln>
        </p:spPr>
      </p:pic>
      <p:pic>
        <p:nvPicPr>
          <p:cNvPr id="126" name="Z80-RRD" descr=""/>
          <p:cNvPicPr/>
          <p:nvPr/>
        </p:nvPicPr>
        <p:blipFill>
          <a:blip r:embed="rId7"/>
          <a:stretch/>
        </p:blipFill>
        <p:spPr>
          <a:xfrm>
            <a:off x="826920" y="5734080"/>
            <a:ext cx="1370160" cy="503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0" y="1015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TATE AND SHIFT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203040" y="652320"/>
          <a:ext cx="8737920" cy="5369040"/>
        </p:xfrm>
        <a:graphic>
          <a:graphicData uri="http://schemas.openxmlformats.org/drawingml/2006/table">
            <a:tbl>
              <a:tblPr/>
              <a:tblGrid>
                <a:gridCol w="749520"/>
                <a:gridCol w="888840"/>
                <a:gridCol w="330480"/>
                <a:gridCol w="330120"/>
                <a:gridCol w="330120"/>
                <a:gridCol w="330120"/>
                <a:gridCol w="330120"/>
                <a:gridCol w="330480"/>
                <a:gridCol w="330120"/>
                <a:gridCol w="330120"/>
                <a:gridCol w="355680"/>
                <a:gridCol w="355680"/>
                <a:gridCol w="355320"/>
                <a:gridCol w="393840"/>
                <a:gridCol w="558720"/>
                <a:gridCol w="558720"/>
                <a:gridCol w="559080"/>
                <a:gridCol w="1320840"/>
              </a:tblGrid>
              <a:tr h="181440">
                <a:tc rowSpan="2"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nemon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ymbolic Ope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la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-Co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By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M Cyc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T Cyc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/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144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 DE,H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 ↔ H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44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 AF,AF'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F ↔ AF'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44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C ↔ BC'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ister bank 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 ↔ DE'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uxiliary regis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L ↔ HL'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nk exchan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44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 (SP),H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 ↔ (SP+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 ↔ (SP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44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 (SP),I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X</a:t>
                      </a:r>
                      <a:r>
                        <a:rPr b="1" lang="en-U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↔ (SP+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0844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X</a:t>
                      </a:r>
                      <a:r>
                        <a:rPr b="1" lang="en-U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↔ (SP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44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 (SP),I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Y</a:t>
                      </a:r>
                      <a:r>
                        <a:rPr b="1" lang="en-U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↔ (SP+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0844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Y</a:t>
                      </a:r>
                      <a:r>
                        <a:rPr b="1" lang="en-U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↔ (SP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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44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D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DE) ← (H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ad (HL) into (DE)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348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 ← DE +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crement the pointers a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L ← HL +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rement the by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C ← BC -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unter (BC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44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DI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DE) ← (H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 BC ≠ 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 ← DE +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 BC = 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L ← HL +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C ← BC -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peat unt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C = 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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44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D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DE) ← (H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 ← DE -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L ← HL -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C ← BC -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0" y="6446880"/>
            <a:ext cx="9144000" cy="368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c38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L54B,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Sistemas para el Procesamiento de la Inform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50920" y="6058080"/>
          <a:ext cx="8569080" cy="323640"/>
        </p:xfrm>
        <a:graphic>
          <a:graphicData uri="http://schemas.openxmlformats.org/drawingml/2006/table">
            <a:tbl>
              <a:tblPr/>
              <a:tblGrid>
                <a:gridCol w="1501560"/>
                <a:gridCol w="7067520"/>
              </a:tblGrid>
              <a:tr h="323640">
                <a:tc>
                  <a:txBody>
                    <a:bodyPr lIns="90000" rIns="90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es: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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/V flag is 0 if the result of BC-1 = 0, otherwise P/V =1           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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Z flag is 1 if A = (HL), otherwise Z = 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0" y="173160"/>
            <a:ext cx="9144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EXCHANGE GROUP AND BLOCK TRANSFER AND SEARCH GROU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146160" y="620640"/>
          <a:ext cx="8851680" cy="5429160"/>
        </p:xfrm>
        <a:graphic>
          <a:graphicData uri="http://schemas.openxmlformats.org/drawingml/2006/table">
            <a:tbl>
              <a:tblPr/>
              <a:tblGrid>
                <a:gridCol w="749160"/>
                <a:gridCol w="889200"/>
                <a:gridCol w="330120"/>
                <a:gridCol w="330120"/>
                <a:gridCol w="330120"/>
                <a:gridCol w="330120"/>
                <a:gridCol w="330480"/>
                <a:gridCol w="330120"/>
                <a:gridCol w="330120"/>
                <a:gridCol w="330120"/>
                <a:gridCol w="355680"/>
                <a:gridCol w="355680"/>
                <a:gridCol w="355680"/>
                <a:gridCol w="393480"/>
                <a:gridCol w="558720"/>
                <a:gridCol w="559080"/>
                <a:gridCol w="558720"/>
                <a:gridCol w="1434960"/>
              </a:tblGrid>
              <a:tr h="181440">
                <a:tc rowSpan="2"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nemon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ymbolic Ope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la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-Co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By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M Cyc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T Cyc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/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144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DD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DE) ← (H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 BC ≠ 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 ← DE -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 BC = 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L ← HL -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C ← BC -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peat unt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C = 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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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44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P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 - (H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L ← HL +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C ← BC -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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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44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PI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 - (H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 BC ≠ 0 and A ≠ (H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L ← HL +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 BC = 0 or A = (H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C ← BC -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peat unt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  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 = (HL) 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C = 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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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44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P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 - (H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L ← HL -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C ← BC -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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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44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PD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DE) ← (H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 BC ≠ 0 and A ≠ (H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L ← HL -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 BC = 0 or A = (H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C ← BC -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peat unt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 = (HL) 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C = 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0" y="6446880"/>
            <a:ext cx="9144000" cy="368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c38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L54B,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Sistemas para el Procesamiento de la Inform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50920" y="6093000"/>
          <a:ext cx="8569080" cy="323640"/>
        </p:xfrm>
        <a:graphic>
          <a:graphicData uri="http://schemas.openxmlformats.org/drawingml/2006/table">
            <a:tbl>
              <a:tblPr/>
              <a:tblGrid>
                <a:gridCol w="1501560"/>
                <a:gridCol w="7067520"/>
              </a:tblGrid>
              <a:tr h="323640">
                <a:tc>
                  <a:txBody>
                    <a:bodyPr lIns="90000" rIns="90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es: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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/V flag is 0 if the result of BC-1 = 0, otherwise P/V =1            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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Z flag is 1 if A = (HL), otherwise Z = 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>
            <a:off x="0" y="173160"/>
            <a:ext cx="9144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EXCHANGE GROUP AND BLOCK TRANSFER AND SEARCH GROU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08000" y="981000"/>
          <a:ext cx="8964720" cy="4870440"/>
        </p:xfrm>
        <a:graphic>
          <a:graphicData uri="http://schemas.openxmlformats.org/drawingml/2006/table">
            <a:tbl>
              <a:tblPr/>
              <a:tblGrid>
                <a:gridCol w="774720"/>
                <a:gridCol w="1039680"/>
                <a:gridCol w="292320"/>
                <a:gridCol w="291960"/>
                <a:gridCol w="290520"/>
                <a:gridCol w="291960"/>
                <a:gridCol w="290520"/>
                <a:gridCol w="306360"/>
                <a:gridCol w="292320"/>
                <a:gridCol w="290520"/>
                <a:gridCol w="345960"/>
                <a:gridCol w="349200"/>
                <a:gridCol w="354240"/>
                <a:gridCol w="374400"/>
                <a:gridCol w="520920"/>
                <a:gridCol w="528480"/>
                <a:gridCol w="527040"/>
                <a:gridCol w="465120"/>
                <a:gridCol w="465120"/>
                <a:gridCol w="309600"/>
                <a:gridCol w="308160"/>
                <a:gridCol w="255600"/>
              </a:tblGrid>
              <a:tr h="188640">
                <a:tc rowSpan="2"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nemon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ymbolic Ope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la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-Co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By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M Cyc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T Cyc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 rowSpan="2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/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8640">
                <a:tc>
                  <a:txBody>
                    <a:bodyPr lIns="54000" rIns="54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LL n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SP-1) ← P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88640">
                <a:tc>
                  <a:txBody>
                    <a:bodyPr lIns="54000" rIns="54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SP-2) ← PC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8640">
                <a:tc>
                  <a:txBody>
                    <a:bodyPr lIns="54000" rIns="54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 ← SP -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8640">
                <a:tc>
                  <a:txBody>
                    <a:bodyPr lIns="54000" rIns="54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C ← n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640"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LL cc,n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 condition cc 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 cc is 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8640">
                <a:tc>
                  <a:txBody>
                    <a:bodyPr lIns="54000" rIns="54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lse continue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 cc is 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8640">
                <a:tc>
                  <a:txBody>
                    <a:bodyPr lIns="54000" rIns="54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therwise s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8640">
                <a:tc>
                  <a:txBody>
                    <a:bodyPr lIns="54000" rIns="54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 CALL n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d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8640">
                <a:tc>
                  <a:txBody>
                    <a:bodyPr lIns="54000" rIns="54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Z non ze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8640">
                <a:tc>
                  <a:txBody>
                    <a:bodyPr lIns="54000" rIns="54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   ze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8640">
                <a:tc>
                  <a:txBody>
                    <a:bodyPr lIns="54000" rIns="54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C non car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8640">
                <a:tc>
                  <a:txBody>
                    <a:bodyPr lIns="54000" rIns="54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   car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8640">
                <a:tc>
                  <a:txBody>
                    <a:bodyPr lIns="54000" rIns="54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 parity od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8640">
                <a:tc>
                  <a:txBody>
                    <a:bodyPr lIns="54000" rIns="54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 parity ev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8640">
                <a:tc>
                  <a:txBody>
                    <a:bodyPr lIns="54000" rIns="54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   sign posit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8640">
                <a:tc>
                  <a:txBody>
                    <a:bodyPr lIns="54000" rIns="54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   sign negat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8640">
                <a:tc>
                  <a:txBody>
                    <a:bodyPr lIns="54000" rIns="54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CL ← (SP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88640">
                <a:tc>
                  <a:txBody>
                    <a:bodyPr lIns="54000" rIns="54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CH ← (SP+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8640">
                <a:tc>
                  <a:txBody>
                    <a:bodyPr lIns="54000" rIns="54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 ← SP +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640">
                <a:tc>
                  <a:txBody>
                    <a:bodyPr lIns="54000" rIns="54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T cc,n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 condition cc 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 cc is 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864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lse continue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 cc is 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864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therwise s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864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 R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c same as f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864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LL cc,n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8" name=""/>
          <p:cNvSpPr/>
          <p:nvPr/>
        </p:nvSpPr>
        <p:spPr>
          <a:xfrm>
            <a:off x="0" y="6446880"/>
            <a:ext cx="9144000" cy="368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c38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L54B,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Sistemas para el Procesamiento de la Inform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731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L AND RETURN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106200" y="981000"/>
          <a:ext cx="8929800" cy="4852800"/>
        </p:xfrm>
        <a:graphic>
          <a:graphicData uri="http://schemas.openxmlformats.org/drawingml/2006/table">
            <a:tbl>
              <a:tblPr/>
              <a:tblGrid>
                <a:gridCol w="708480"/>
                <a:gridCol w="1086120"/>
                <a:gridCol w="318240"/>
                <a:gridCol w="316440"/>
                <a:gridCol w="319680"/>
                <a:gridCol w="316080"/>
                <a:gridCol w="318240"/>
                <a:gridCol w="316440"/>
                <a:gridCol w="317880"/>
                <a:gridCol w="316440"/>
                <a:gridCol w="366840"/>
                <a:gridCol w="365400"/>
                <a:gridCol w="366840"/>
                <a:gridCol w="390600"/>
                <a:gridCol w="537480"/>
                <a:gridCol w="536040"/>
                <a:gridCol w="537840"/>
                <a:gridCol w="241920"/>
                <a:gridCol w="226440"/>
                <a:gridCol w="276840"/>
                <a:gridCol w="222840"/>
                <a:gridCol w="207360"/>
                <a:gridCol w="144000"/>
                <a:gridCol w="180000"/>
              </a:tblGrid>
              <a:tr h="188640">
                <a:tc rowSpan="2"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nemon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ymbolic Ope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la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-Co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By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M Cyc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T Cyc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 rowSpan="2"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/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4640">
                <a:tc>
                  <a:txBody>
                    <a:bodyPr lIns="54000" rIns="54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T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turn fro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7"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me as RE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4640">
                <a:tc>
                  <a:txBody>
                    <a:bodyPr lIns="54000" rIns="54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rrupt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7"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cept detected b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4640">
                <a:tc>
                  <a:txBody>
                    <a:bodyPr lIns="54000" rIns="54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CL ← (SP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7"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rrupting devi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4640">
                <a:tc>
                  <a:txBody>
                    <a:bodyPr lIns="54000" rIns="54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CH ← (SP+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7"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 re-enable interrupts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4640">
                <a:tc>
                  <a:txBody>
                    <a:bodyPr lIns="54000" rIns="54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 ← SP +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0" rIns="72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0" rIns="72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4640">
                <a:tc>
                  <a:txBody>
                    <a:bodyPr lIns="54000" rIns="54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T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turn fro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7"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me as RE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4640">
                <a:tc>
                  <a:txBody>
                    <a:bodyPr lIns="54000" rIns="54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n maska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7"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cept detected b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4640">
                <a:tc>
                  <a:txBody>
                    <a:bodyPr lIns="54000" rIns="54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rrupt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7"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rrupting devi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4640">
                <a:tc>
                  <a:txBody>
                    <a:bodyPr lIns="54000" rIns="54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CL ← (SP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7"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 re-enable interrupts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4640">
                <a:tc>
                  <a:txBody>
                    <a:bodyPr lIns="54000" rIns="54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CH ← (SP+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72000" rIns="72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0" rIns="72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0" rIns="72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4640">
                <a:tc>
                  <a:txBody>
                    <a:bodyPr lIns="54000" rIns="54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 ← SP +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72000" rIns="72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0" rIns="72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0" rIns="72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4640">
                <a:tc>
                  <a:txBody>
                    <a:bodyPr lIns="54000" rIns="54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ST 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SP-1) ← P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0" rIns="72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4640">
                <a:tc>
                  <a:txBody>
                    <a:bodyPr lIns="54000" rIns="54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SP-2) ← PC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0" rIns="72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4640">
                <a:tc>
                  <a:txBody>
                    <a:bodyPr lIns="54000" rIns="54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CH ← 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8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0" rIns="72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4640">
                <a:tc>
                  <a:txBody>
                    <a:bodyPr lIns="54000" rIns="54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CL ← 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0" rIns="72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4640">
                <a:tc>
                  <a:txBody>
                    <a:bodyPr lIns="54000" rIns="54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 ← SP -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0" rIns="72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4640">
                <a:tc>
                  <a:txBody>
                    <a:bodyPr lIns="54000" rIns="54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0" rIns="72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4640">
                <a:tc>
                  <a:txBody>
                    <a:bodyPr lIns="54000" rIns="54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0" rIns="72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4640">
                <a:tc>
                  <a:txBody>
                    <a:bodyPr lIns="54000" rIns="54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0" rIns="72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4640">
                <a:tc>
                  <a:txBody>
                    <a:bodyPr lIns="54000" rIns="54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0" rIns="72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0" y="6446880"/>
            <a:ext cx="9144000" cy="368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c38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L54B,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Sistemas para el Procesamiento de la Inform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3059280" y="5950080"/>
          <a:ext cx="3168000" cy="358560"/>
        </p:xfrm>
        <a:graphic>
          <a:graphicData uri="http://schemas.openxmlformats.org/drawingml/2006/table">
            <a:tbl>
              <a:tblPr/>
              <a:tblGrid>
                <a:gridCol w="999720"/>
                <a:gridCol w="2168280"/>
              </a:tblGrid>
              <a:tr h="358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TN loads IFF2 - IFF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0" y="1731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L AND RETURN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114480" y="765000"/>
          <a:ext cx="8915400" cy="5256360"/>
        </p:xfrm>
        <a:graphic>
          <a:graphicData uri="http://schemas.openxmlformats.org/drawingml/2006/table">
            <a:tbl>
              <a:tblPr/>
              <a:tblGrid>
                <a:gridCol w="698400"/>
                <a:gridCol w="888840"/>
                <a:gridCol w="368280"/>
                <a:gridCol w="368280"/>
                <a:gridCol w="368280"/>
                <a:gridCol w="368280"/>
                <a:gridCol w="368640"/>
                <a:gridCol w="368280"/>
                <a:gridCol w="368280"/>
                <a:gridCol w="368280"/>
                <a:gridCol w="380880"/>
                <a:gridCol w="380880"/>
                <a:gridCol w="381240"/>
                <a:gridCol w="444240"/>
                <a:gridCol w="584280"/>
                <a:gridCol w="584280"/>
                <a:gridCol w="584280"/>
                <a:gridCol w="520560"/>
                <a:gridCol w="520920"/>
              </a:tblGrid>
              <a:tr h="186120">
                <a:tc rowSpan="2"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nemon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ymbolic Ope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la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-Co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of By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of M Cyc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of T Cyc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/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e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844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A,(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← (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 to A</a:t>
                      </a:r>
                      <a:r>
                        <a:rPr b="1" lang="es-E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~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A</a:t>
                      </a:r>
                      <a:r>
                        <a:rPr b="1" lang="es-E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844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c to A</a:t>
                      </a:r>
                      <a:r>
                        <a:rPr b="1" lang="es-E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~ A</a:t>
                      </a:r>
                      <a:r>
                        <a:rPr b="1" lang="es-E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844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r,(C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 ← (C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 to A</a:t>
                      </a:r>
                      <a:r>
                        <a:rPr b="1" lang="es-E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~ A</a:t>
                      </a:r>
                      <a:r>
                        <a:rPr b="1" lang="es-E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844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 to A</a:t>
                      </a:r>
                      <a:r>
                        <a:rPr b="1" lang="es-E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~ A</a:t>
                      </a:r>
                      <a:r>
                        <a:rPr b="1" lang="es-E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576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f r = 110 onl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612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e flags wi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 , 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612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 affected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576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56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612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576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612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988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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44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HL) ← (C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 to A</a:t>
                      </a:r>
                      <a:r>
                        <a:rPr b="1" lang="es-E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~ A</a:t>
                      </a:r>
                      <a:r>
                        <a:rPr b="1" lang="es-E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844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 ← B -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 to A</a:t>
                      </a:r>
                      <a:r>
                        <a:rPr b="1" lang="es-E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~ A</a:t>
                      </a:r>
                      <a:r>
                        <a:rPr b="1" lang="es-E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612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L ← HL +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44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I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HL) ← (C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 to A</a:t>
                      </a:r>
                      <a:r>
                        <a:rPr b="1" lang="es-E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~ A</a:t>
                      </a:r>
                      <a:r>
                        <a:rPr b="1" lang="es-E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844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 ← B -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If B ≠ 0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 to A</a:t>
                      </a:r>
                      <a:r>
                        <a:rPr b="1" lang="es-E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~ A</a:t>
                      </a:r>
                      <a:r>
                        <a:rPr b="1" lang="es-E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576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L ← HL +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612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peat unt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If B = 0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988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 = 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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44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HL) ← (C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 to A</a:t>
                      </a:r>
                      <a:r>
                        <a:rPr b="1" lang="es-E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~ A</a:t>
                      </a:r>
                      <a:r>
                        <a:rPr b="1" lang="es-E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844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 ← B -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 to A</a:t>
                      </a:r>
                      <a:r>
                        <a:rPr b="1" lang="es-E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~ A</a:t>
                      </a:r>
                      <a:r>
                        <a:rPr b="1" lang="es-E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504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L ← HL -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0" y="6446880"/>
            <a:ext cx="9144000" cy="368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c38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L54B,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Sistemas para el Procesamiento de la Inform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924200" y="6108840"/>
          <a:ext cx="5295600" cy="272880"/>
        </p:xfrm>
        <a:graphic>
          <a:graphicData uri="http://schemas.openxmlformats.org/drawingml/2006/table">
            <a:tbl>
              <a:tblPr/>
              <a:tblGrid>
                <a:gridCol w="698040"/>
                <a:gridCol w="459756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es: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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 the result of B - 1 is zero the Z flag is set, otherwise it is reset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"/>
          <p:cNvSpPr/>
          <p:nvPr/>
        </p:nvSpPr>
        <p:spPr>
          <a:xfrm>
            <a:off x="0" y="1731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PUT AND OUTPUT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114480" y="692280"/>
          <a:ext cx="8915400" cy="5619600"/>
        </p:xfrm>
        <a:graphic>
          <a:graphicData uri="http://schemas.openxmlformats.org/drawingml/2006/table">
            <a:tbl>
              <a:tblPr/>
              <a:tblGrid>
                <a:gridCol w="698400"/>
                <a:gridCol w="888840"/>
                <a:gridCol w="368280"/>
                <a:gridCol w="368280"/>
                <a:gridCol w="368280"/>
                <a:gridCol w="368280"/>
                <a:gridCol w="368640"/>
                <a:gridCol w="368280"/>
                <a:gridCol w="368280"/>
                <a:gridCol w="368280"/>
                <a:gridCol w="380880"/>
                <a:gridCol w="380880"/>
                <a:gridCol w="381240"/>
                <a:gridCol w="444240"/>
                <a:gridCol w="584280"/>
                <a:gridCol w="584280"/>
                <a:gridCol w="584280"/>
                <a:gridCol w="520560"/>
                <a:gridCol w="520920"/>
              </a:tblGrid>
              <a:tr h="188640">
                <a:tc rowSpan="2"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nemon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ymbolic Ope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la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-Co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By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M Cyc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T Cyc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/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D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HL) ← (C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 to A</a:t>
                      </a:r>
                      <a:r>
                        <a:rPr b="1" lang="es-E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~ A</a:t>
                      </a:r>
                      <a:r>
                        <a:rPr b="1" lang="es-E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 ← B -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If B ≠ 0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 to A</a:t>
                      </a:r>
                      <a:r>
                        <a:rPr b="1" lang="es-E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~ A</a:t>
                      </a:r>
                      <a:r>
                        <a:rPr b="1" lang="es-E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8640"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L ← HL -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8640"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peat unt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If B = 0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8640"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 = 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UT (n),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n) ←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 to A</a:t>
                      </a:r>
                      <a:r>
                        <a:rPr b="1" lang="es-E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~ A</a:t>
                      </a:r>
                      <a:r>
                        <a:rPr b="1" lang="es-E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c to A</a:t>
                      </a:r>
                      <a:r>
                        <a:rPr b="1" lang="es-E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~ A</a:t>
                      </a:r>
                      <a:r>
                        <a:rPr b="1" lang="es-E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UT (C),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C) ← 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 to A</a:t>
                      </a:r>
                      <a:r>
                        <a:rPr b="1" lang="es-E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~ A</a:t>
                      </a:r>
                      <a:r>
                        <a:rPr b="1" lang="es-E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 as f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 to A</a:t>
                      </a:r>
                      <a:r>
                        <a:rPr b="1" lang="es-E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~ A</a:t>
                      </a:r>
                      <a:r>
                        <a:rPr b="1" lang="es-E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8640"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 r,(C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8640"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cep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8640"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r = 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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UT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C) ← (H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 to A</a:t>
                      </a:r>
                      <a:r>
                        <a:rPr b="1" lang="es-E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~ A</a:t>
                      </a:r>
                      <a:r>
                        <a:rPr b="1" lang="es-E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 ← B -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 to A</a:t>
                      </a:r>
                      <a:r>
                        <a:rPr b="1" lang="es-E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~ A</a:t>
                      </a:r>
                      <a:r>
                        <a:rPr b="1" lang="es-E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8640"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L ← HL +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TI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C) ← (H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 to A</a:t>
                      </a:r>
                      <a:r>
                        <a:rPr b="1" lang="es-E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~ A</a:t>
                      </a:r>
                      <a:r>
                        <a:rPr b="1" lang="es-E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 ← B -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If B ≠ 0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 to A</a:t>
                      </a:r>
                      <a:r>
                        <a:rPr b="1" lang="es-E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~ A</a:t>
                      </a:r>
                      <a:r>
                        <a:rPr b="1" lang="es-E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8640"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L ← HL +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8640"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peat unt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If B = 0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8640"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 = 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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U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C) ← (H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 to A</a:t>
                      </a:r>
                      <a:r>
                        <a:rPr b="1" lang="es-E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~ A</a:t>
                      </a:r>
                      <a:r>
                        <a:rPr b="1" lang="es-E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 ← B -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 to A</a:t>
                      </a:r>
                      <a:r>
                        <a:rPr b="1" lang="es-E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~ A</a:t>
                      </a:r>
                      <a:r>
                        <a:rPr b="1" lang="es-E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8640"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L ← HL -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TD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C) ← (H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 to A</a:t>
                      </a:r>
                      <a:r>
                        <a:rPr b="1" lang="es-E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~ A</a:t>
                      </a:r>
                      <a:r>
                        <a:rPr b="1" lang="es-E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 ← B -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If B ≠ 0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 to A</a:t>
                      </a:r>
                      <a:r>
                        <a:rPr b="1" lang="es-E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~ A</a:t>
                      </a:r>
                      <a:r>
                        <a:rPr b="1" lang="es-E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8640"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L ← HL -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8640"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peat unt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If B = 0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8640"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 = 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"/>
          <p:cNvSpPr/>
          <p:nvPr/>
        </p:nvSpPr>
        <p:spPr>
          <a:xfrm>
            <a:off x="0" y="6446880"/>
            <a:ext cx="9144000" cy="368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c38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L54B,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Sistemas para el Procesamiento de la Inform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015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PUT AND OUTPUT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177840" y="644400"/>
          <a:ext cx="8858160" cy="5448600"/>
        </p:xfrm>
        <a:graphic>
          <a:graphicData uri="http://schemas.openxmlformats.org/drawingml/2006/table">
            <a:tbl>
              <a:tblPr/>
              <a:tblGrid>
                <a:gridCol w="830160"/>
                <a:gridCol w="841320"/>
                <a:gridCol w="366840"/>
                <a:gridCol w="365040"/>
                <a:gridCol w="366840"/>
                <a:gridCol w="365040"/>
                <a:gridCol w="366840"/>
                <a:gridCol w="365040"/>
                <a:gridCol w="366840"/>
                <a:gridCol w="366480"/>
                <a:gridCol w="365400"/>
                <a:gridCol w="366480"/>
                <a:gridCol w="365040"/>
                <a:gridCol w="390600"/>
                <a:gridCol w="536760"/>
                <a:gridCol w="538200"/>
                <a:gridCol w="536400"/>
                <a:gridCol w="512640"/>
                <a:gridCol w="646200"/>
              </a:tblGrid>
              <a:tr h="166320">
                <a:tc rowSpan="2"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nemon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ymbolic Oper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lag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-Co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Byt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M Cycl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T Cycl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men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/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632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IT b,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 ←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   </a:t>
                      </a: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    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32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632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IT b,(HL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 ←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632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632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IT b,(IX+d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 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632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632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632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632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IT b,(IY+d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 ←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632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it Test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32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632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80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T b,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r>
                        <a:rPr b="1" lang="es-ES" sz="9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←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632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80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T b,(HL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HL)</a:t>
                      </a:r>
                      <a:r>
                        <a:rPr b="1" lang="es-ES" sz="9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←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632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80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T b,(IX+d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IX+d)</a:t>
                      </a:r>
                      <a:r>
                        <a:rPr b="1" lang="es-ES" sz="9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←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632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632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632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80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T b,(IY+d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IY+d)</a:t>
                      </a:r>
                      <a:r>
                        <a:rPr b="1" lang="es-ES" sz="9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←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632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632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632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80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 b,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r>
                        <a:rPr b="1" lang="es-ES" sz="9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← 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 form new OP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632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 ≡ r, (HL)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de replace 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632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   </a:t>
                      </a: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IX+d)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f SET b,s wi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632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   </a:t>
                      </a: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IY+d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. Flags a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6320">
                <a:tc>
                  <a:txBody>
                    <a:bodyPr lIns="10800" rIns="108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me states sa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6320">
                <a:tc>
                  <a:txBody>
                    <a:bodyPr lIns="10800" rIns="108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 for SE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6320">
                <a:tc>
                  <a:txBody>
                    <a:bodyPr lIns="10800" rIns="108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struction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0" y="6446880"/>
            <a:ext cx="9144000" cy="368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c38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L54B,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Sistemas para el Procesamiento de la Inform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2368440" y="6138720"/>
          <a:ext cx="4406760" cy="243000"/>
        </p:xfrm>
        <a:graphic>
          <a:graphicData uri="http://schemas.openxmlformats.org/drawingml/2006/table">
            <a:tbl>
              <a:tblPr/>
              <a:tblGrid>
                <a:gridCol w="863640"/>
                <a:gridCol w="3543120"/>
              </a:tblGrid>
              <a:tr h="273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es: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 notation s</a:t>
                      </a:r>
                      <a:r>
                        <a:rPr b="1" lang="en-U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indicates bit b (0 to 7) of location 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"/>
          <p:cNvSpPr/>
          <p:nvPr/>
        </p:nvSpPr>
        <p:spPr>
          <a:xfrm>
            <a:off x="0" y="1015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T SET, RESET AND TEST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1297080" y="981000"/>
                <a:ext cx="106200" cy="14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r</m:t>
                            </m:r>
                          </m:e>
                        </m:ba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1282680" y="1314360"/>
                <a:ext cx="264960" cy="16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HL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0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263600" y="1628640"/>
                <a:ext cx="42876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X</m:t>
                            </m:r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1258920" y="2298600"/>
                <a:ext cx="42876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Y</m:t>
                            </m:r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-88920" y="-2381400"/>
            <a:ext cx="1571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-88920" y="-2381400"/>
            <a:ext cx="1571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-88920" y="-2381400"/>
            <a:ext cx="1571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88920" y="-2381400"/>
            <a:ext cx="1571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-88920" y="-2381400"/>
            <a:ext cx="1571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-88920" y="-2381400"/>
            <a:ext cx="1571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-88920" y="-2381400"/>
            <a:ext cx="1571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-88920" y="-2381400"/>
            <a:ext cx="1571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-88920" y="-2381400"/>
            <a:ext cx="1571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-88920" y="-2381400"/>
            <a:ext cx="1571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-88920" y="-2381400"/>
            <a:ext cx="1571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-88920" y="-2381400"/>
            <a:ext cx="1571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71280" y="746280"/>
          <a:ext cx="8964720" cy="5553000"/>
        </p:xfrm>
        <a:graphic>
          <a:graphicData uri="http://schemas.openxmlformats.org/drawingml/2006/table">
            <a:tbl>
              <a:tblPr/>
              <a:tblGrid>
                <a:gridCol w="689040"/>
                <a:gridCol w="1511280"/>
                <a:gridCol w="322200"/>
                <a:gridCol w="322560"/>
                <a:gridCol w="344520"/>
                <a:gridCol w="330120"/>
                <a:gridCol w="328680"/>
                <a:gridCol w="330120"/>
                <a:gridCol w="323640"/>
                <a:gridCol w="324000"/>
                <a:gridCol w="277920"/>
                <a:gridCol w="358560"/>
                <a:gridCol w="362160"/>
                <a:gridCol w="349200"/>
                <a:gridCol w="530280"/>
                <a:gridCol w="531720"/>
                <a:gridCol w="531720"/>
                <a:gridCol w="609840"/>
                <a:gridCol w="587160"/>
              </a:tblGrid>
              <a:tr h="174240">
                <a:tc rowSpan="2"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nemon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ymbolic Ope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la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-Co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By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M Cyc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T Cyc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8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/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6640"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L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tate left circul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4240"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cumulat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4240"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6640"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L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tate lef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4240"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cumulat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4240"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9520"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R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tate right circula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4240"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cumulat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4240"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6640"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tate righ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4240"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cumulat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4240"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6640"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LC 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tate left circul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4240"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ister 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4240"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LC (H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4240"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   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    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240"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LC (IX+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74240"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 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,(HL),(IX+d),(IY+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4240"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     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4240"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4240"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LC (IY+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4240"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4240"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4240"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6280"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L 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struction forma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4240"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d states are 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4240"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 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 ≡ r,(HL),(IX+d),(IY+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hown for RLC'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0" y="6446880"/>
            <a:ext cx="9144000" cy="368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c38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L54B,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Sistemas para el Procesamiento de la Inform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Z80-RLCA" descr=""/>
          <p:cNvPicPr/>
          <p:nvPr/>
        </p:nvPicPr>
        <p:blipFill>
          <a:blip r:embed="rId1"/>
          <a:stretch/>
        </p:blipFill>
        <p:spPr>
          <a:xfrm>
            <a:off x="971640" y="1325520"/>
            <a:ext cx="1066680" cy="447840"/>
          </a:xfrm>
          <a:prstGeom prst="rect">
            <a:avLst/>
          </a:prstGeom>
          <a:ln w="0">
            <a:noFill/>
          </a:ln>
        </p:spPr>
      </p:pic>
      <p:pic>
        <p:nvPicPr>
          <p:cNvPr id="98" name="Z80-RLA" descr=""/>
          <p:cNvPicPr/>
          <p:nvPr/>
        </p:nvPicPr>
        <p:blipFill>
          <a:blip r:embed="rId2"/>
          <a:stretch/>
        </p:blipFill>
        <p:spPr>
          <a:xfrm>
            <a:off x="900000" y="1892160"/>
            <a:ext cx="1228680" cy="457200"/>
          </a:xfrm>
          <a:prstGeom prst="rect">
            <a:avLst/>
          </a:prstGeom>
          <a:ln w="0">
            <a:noFill/>
          </a:ln>
        </p:spPr>
      </p:pic>
      <p:pic>
        <p:nvPicPr>
          <p:cNvPr id="99" name="Z80-RRCA" descr=""/>
          <p:cNvPicPr/>
          <p:nvPr/>
        </p:nvPicPr>
        <p:blipFill>
          <a:blip r:embed="rId3"/>
          <a:stretch/>
        </p:blipFill>
        <p:spPr>
          <a:xfrm>
            <a:off x="965160" y="2492280"/>
            <a:ext cx="1085760" cy="457200"/>
          </a:xfrm>
          <a:prstGeom prst="rect">
            <a:avLst/>
          </a:prstGeom>
          <a:ln w="0">
            <a:noFill/>
          </a:ln>
        </p:spPr>
      </p:pic>
      <p:pic>
        <p:nvPicPr>
          <p:cNvPr id="100" name="Z80-RRA" descr=""/>
          <p:cNvPicPr/>
          <p:nvPr/>
        </p:nvPicPr>
        <p:blipFill>
          <a:blip r:embed="rId4"/>
          <a:stretch/>
        </p:blipFill>
        <p:spPr>
          <a:xfrm>
            <a:off x="942840" y="3068640"/>
            <a:ext cx="1181160" cy="4572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755640" y="3573360"/>
            <a:ext cx="216000" cy="1656000"/>
          </a:xfrm>
          <a:custGeom>
            <a:avLst/>
            <a:gdLst>
              <a:gd name="textAreaLeft" fmla="*/ 0 w 216000"/>
              <a:gd name="textAreaRight" fmla="*/ 78120 w 216000"/>
              <a:gd name="textAreaTop" fmla="*/ 42840 h 1656000"/>
              <a:gd name="textAreaBottom" fmla="*/ 1613160 h 165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Z80-RLC" descr=""/>
          <p:cNvPicPr/>
          <p:nvPr/>
        </p:nvPicPr>
        <p:blipFill>
          <a:blip r:embed="rId5"/>
          <a:stretch/>
        </p:blipFill>
        <p:spPr>
          <a:xfrm>
            <a:off x="1000080" y="4149720"/>
            <a:ext cx="1123920" cy="371520"/>
          </a:xfrm>
          <a:prstGeom prst="rect">
            <a:avLst/>
          </a:prstGeom>
          <a:ln w="0">
            <a:noFill/>
          </a:ln>
        </p:spPr>
      </p:pic>
      <p:pic>
        <p:nvPicPr>
          <p:cNvPr id="103" name="Z80-RL" descr=""/>
          <p:cNvPicPr/>
          <p:nvPr/>
        </p:nvPicPr>
        <p:blipFill>
          <a:blip r:embed="rId6"/>
          <a:stretch/>
        </p:blipFill>
        <p:spPr>
          <a:xfrm>
            <a:off x="900000" y="5759280"/>
            <a:ext cx="1228680" cy="3337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0" y="1015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TATE AND SHIFT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0:09:12Z</dcterms:created>
  <dc:creator>A</dc:creator>
  <dc:description/>
  <dc:language>en-US</dc:language>
  <cp:lastModifiedBy>Patricio Catalan</cp:lastModifiedBy>
  <dcterms:modified xsi:type="dcterms:W3CDTF">2007-10-01T17:37:31Z</dcterms:modified>
  <cp:revision>26</cp:revision>
  <dc:subject/>
  <dc:title>Slide 1</dc:title>
</cp:coreProperties>
</file>