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A33-D145-4364-8516-D525C158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03A-E21A-4432-9D4E-57DE9E7A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26E-3906-4A58-9234-5FE30E62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11B-58AA-4B2D-9C3F-EB5279A7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06D-4871-47A5-8FFF-FDEBA3E0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896-0178-4347-A2F5-CBC09094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501-3DA8-4332-97A3-E5F96C6A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916-C5A2-4103-9DAE-418FF7A7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4BA4-2301-46A4-887D-9208B443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E32-FFFB-47CD-867F-4D214A24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9E7E-F341-4114-AE62-99F58A7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83C-C23D-4253-A7DA-5E2CFD38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329D-9416-4A3E-A0D0-BE7EED8E61D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31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L PURPOSE ARITHMETIC AND CPU CONTROL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720720"/>
          <a:ext cx="8785440" cy="5038560"/>
        </p:xfrm>
        <a:graphic>
          <a:graphicData uri="http://schemas.openxmlformats.org/drawingml/2006/table">
            <a:tbl>
              <a:tblPr/>
              <a:tblGrid>
                <a:gridCol w="684360"/>
                <a:gridCol w="1038240"/>
                <a:gridCol w="290520"/>
                <a:gridCol w="284040"/>
                <a:gridCol w="290520"/>
                <a:gridCol w="300240"/>
                <a:gridCol w="271440"/>
                <a:gridCol w="358560"/>
                <a:gridCol w="298440"/>
                <a:gridCol w="300240"/>
                <a:gridCol w="360360"/>
                <a:gridCol w="423720"/>
                <a:gridCol w="424080"/>
                <a:gridCol w="392040"/>
                <a:gridCol w="555480"/>
                <a:gridCol w="598680"/>
                <a:gridCol w="598320"/>
                <a:gridCol w="1316160"/>
              </a:tblGrid>
              <a:tr h="181440">
                <a:tc rowSpan="2">
                  <a:txBody>
                    <a:bodyPr lIns="54000" rIns="54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rts ac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imal adju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nt i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ed B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llowing a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 subtra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 pack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D oper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← 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ne's complemen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← Ā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ate acc. ( two'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 ←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 ←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carry fl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U hal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F ←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F ←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interru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interru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interru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63520" y="5819760"/>
          <a:ext cx="4164120" cy="576360"/>
        </p:xfrm>
        <a:graphic>
          <a:graphicData uri="http://schemas.openxmlformats.org/drawingml/2006/table">
            <a:tbl>
              <a:tblPr/>
              <a:tblGrid>
                <a:gridCol w="648720"/>
                <a:gridCol w="3515400"/>
              </a:tblGrid>
              <a:tr h="199080">
                <a:tc rowSpan="3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F indicates the interrupt enable flip-flo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Y indicates the carry flip-flo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s are not sampled at the end of EI or 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572000" y="5805360"/>
          <a:ext cx="4392720" cy="58752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587520">
                <a:tc>
                  <a:txBody>
                    <a:bodyPr lIns="72000" rIns="72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●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not affected, 0 = Flag reset 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= Flag set,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Flag is unknow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Flag affected according operation 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F = Interrupt enable Flip-Flop content copied in 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0" y="33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332000" y="3397320"/>
                <a:ext cx="21564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31760" y="-23526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4240" y="836640"/>
          <a:ext cx="8951760" cy="5452920"/>
        </p:xfrm>
        <a:graphic>
          <a:graphicData uri="http://schemas.openxmlformats.org/drawingml/2006/table">
            <a:tbl>
              <a:tblPr/>
              <a:tblGrid>
                <a:gridCol w="682560"/>
                <a:gridCol w="1495440"/>
                <a:gridCol w="331560"/>
                <a:gridCol w="330480"/>
                <a:gridCol w="317520"/>
                <a:gridCol w="331560"/>
                <a:gridCol w="331920"/>
                <a:gridCol w="333360"/>
                <a:gridCol w="331920"/>
                <a:gridCol w="333360"/>
                <a:gridCol w="277560"/>
                <a:gridCol w="362160"/>
                <a:gridCol w="361800"/>
                <a:gridCol w="351000"/>
                <a:gridCol w="531720"/>
                <a:gridCol w="531720"/>
                <a:gridCol w="531720"/>
                <a:gridCol w="605160"/>
                <a:gridCol w="579240"/>
              </a:tblGrid>
              <a:tr h="18864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C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orm 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, repl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 of RLC's wi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wn co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4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A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A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L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digit le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ight betw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location (HL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content of t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per half of t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80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-131760" y="920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Z80-RRC" descr=""/>
          <p:cNvPicPr/>
          <p:nvPr/>
        </p:nvPicPr>
        <p:blipFill>
          <a:blip r:embed="rId1"/>
          <a:stretch/>
        </p:blipFill>
        <p:spPr>
          <a:xfrm>
            <a:off x="965160" y="1413000"/>
            <a:ext cx="1085760" cy="333360"/>
          </a:xfrm>
          <a:prstGeom prst="rect">
            <a:avLst/>
          </a:prstGeom>
          <a:ln w="0">
            <a:noFill/>
          </a:ln>
        </p:spPr>
      </p:pic>
      <p:pic>
        <p:nvPicPr>
          <p:cNvPr id="121" name="Z80-RR" descr=""/>
          <p:cNvPicPr/>
          <p:nvPr/>
        </p:nvPicPr>
        <p:blipFill>
          <a:blip r:embed="rId2"/>
          <a:stretch/>
        </p:blipFill>
        <p:spPr>
          <a:xfrm>
            <a:off x="971640" y="2016000"/>
            <a:ext cx="1181160" cy="333360"/>
          </a:xfrm>
          <a:prstGeom prst="rect">
            <a:avLst/>
          </a:prstGeom>
          <a:ln w="0">
            <a:noFill/>
          </a:ln>
        </p:spPr>
      </p:pic>
      <p:pic>
        <p:nvPicPr>
          <p:cNvPr id="122" name="Z80-SLA" descr=""/>
          <p:cNvPicPr/>
          <p:nvPr/>
        </p:nvPicPr>
        <p:blipFill>
          <a:blip r:embed="rId3"/>
          <a:stretch/>
        </p:blipFill>
        <p:spPr>
          <a:xfrm>
            <a:off x="900000" y="2695680"/>
            <a:ext cx="1257480" cy="228600"/>
          </a:xfrm>
          <a:prstGeom prst="rect">
            <a:avLst/>
          </a:prstGeom>
          <a:ln w="0">
            <a:noFill/>
          </a:ln>
        </p:spPr>
      </p:pic>
      <p:pic>
        <p:nvPicPr>
          <p:cNvPr id="123" name="Z80-SRA" descr=""/>
          <p:cNvPicPr/>
          <p:nvPr/>
        </p:nvPicPr>
        <p:blipFill>
          <a:blip r:embed="rId4"/>
          <a:stretch/>
        </p:blipFill>
        <p:spPr>
          <a:xfrm>
            <a:off x="965160" y="3249720"/>
            <a:ext cx="1085760" cy="323640"/>
          </a:xfrm>
          <a:prstGeom prst="rect">
            <a:avLst/>
          </a:prstGeom>
          <a:ln w="0">
            <a:noFill/>
          </a:ln>
        </p:spPr>
      </p:pic>
      <p:pic>
        <p:nvPicPr>
          <p:cNvPr id="124" name="Z80-SRL" descr=""/>
          <p:cNvPicPr/>
          <p:nvPr/>
        </p:nvPicPr>
        <p:blipFill>
          <a:blip r:embed="rId5"/>
          <a:stretch/>
        </p:blipFill>
        <p:spPr>
          <a:xfrm>
            <a:off x="900000" y="3921120"/>
            <a:ext cx="1228680" cy="228600"/>
          </a:xfrm>
          <a:prstGeom prst="rect">
            <a:avLst/>
          </a:prstGeom>
          <a:ln w="0">
            <a:noFill/>
          </a:ln>
        </p:spPr>
      </p:pic>
      <p:pic>
        <p:nvPicPr>
          <p:cNvPr id="125" name="Z80-RLD" descr=""/>
          <p:cNvPicPr/>
          <p:nvPr/>
        </p:nvPicPr>
        <p:blipFill>
          <a:blip r:embed="rId6"/>
          <a:stretch/>
        </p:blipFill>
        <p:spPr>
          <a:xfrm>
            <a:off x="826920" y="4437000"/>
            <a:ext cx="136872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Z80-RRD" descr=""/>
          <p:cNvPicPr/>
          <p:nvPr/>
        </p:nvPicPr>
        <p:blipFill>
          <a:blip r:embed="rId7"/>
          <a:stretch/>
        </p:blipFill>
        <p:spPr>
          <a:xfrm>
            <a:off x="826920" y="5734080"/>
            <a:ext cx="1370160" cy="503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 AND SHIF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03040" y="652320"/>
          <a:ext cx="8737920" cy="5369040"/>
        </p:xfrm>
        <a:graphic>
          <a:graphicData uri="http://schemas.openxmlformats.org/drawingml/2006/table">
            <a:tbl>
              <a:tblPr/>
              <a:tblGrid>
                <a:gridCol w="749520"/>
                <a:gridCol w="888840"/>
                <a:gridCol w="330480"/>
                <a:gridCol w="330120"/>
                <a:gridCol w="330120"/>
                <a:gridCol w="330120"/>
                <a:gridCol w="330120"/>
                <a:gridCol w="330480"/>
                <a:gridCol w="330120"/>
                <a:gridCol w="330120"/>
                <a:gridCol w="355680"/>
                <a:gridCol w="355680"/>
                <a:gridCol w="355320"/>
                <a:gridCol w="393840"/>
                <a:gridCol w="558720"/>
                <a:gridCol w="558720"/>
                <a:gridCol w="559080"/>
                <a:gridCol w="1320840"/>
              </a:tblGrid>
              <a:tr h="181440"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DE,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↔ 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AF,AF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 ↔ AF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↔ BC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 bank 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↔ DE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xiliary regi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↔ HL'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 exch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(SP),H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↔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 ↔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(SP),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X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 (SP),I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8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Y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↔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ad (HL) into (DE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348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rement the pointers 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rement the b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unter (B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0920" y="6058080"/>
          <a:ext cx="8569080" cy="323640"/>
        </p:xfrm>
        <a:graphic>
          <a:graphicData uri="http://schemas.openxmlformats.org/drawingml/2006/table">
            <a:tbl>
              <a:tblPr/>
              <a:tblGrid>
                <a:gridCol w="1501560"/>
                <a:gridCol w="7067520"/>
              </a:tblGrid>
              <a:tr h="323640"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 flag is 0 if the result of BC-1 = 0, otherwise P/V =1          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Z flag is 1 if A = (HL), otherwise Z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17316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HANGE GROUP AND BLOCK TRANSFER AND SEARCH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6160" y="620640"/>
          <a:ext cx="8851680" cy="5429160"/>
        </p:xfrm>
        <a:graphic>
          <a:graphicData uri="http://schemas.openxmlformats.org/drawingml/2006/table">
            <a:tbl>
              <a:tblPr/>
              <a:tblGrid>
                <a:gridCol w="749160"/>
                <a:gridCol w="889200"/>
                <a:gridCol w="330120"/>
                <a:gridCol w="330120"/>
                <a:gridCol w="330120"/>
                <a:gridCol w="330120"/>
                <a:gridCol w="330480"/>
                <a:gridCol w="330120"/>
                <a:gridCol w="330120"/>
                <a:gridCol w="330120"/>
                <a:gridCol w="355680"/>
                <a:gridCol w="355680"/>
                <a:gridCol w="355680"/>
                <a:gridCol w="393480"/>
                <a:gridCol w="558720"/>
                <a:gridCol w="559080"/>
                <a:gridCol w="558720"/>
                <a:gridCol w="1434960"/>
              </a:tblGrid>
              <a:tr h="181440"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← DE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-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-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 and A ≠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 or A =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= (HL) 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-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DE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≠ 0 and A ≠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BC = 0 or A =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← BC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36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= (HL) 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440"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C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093000"/>
          <a:ext cx="8569080" cy="323640"/>
        </p:xfrm>
        <a:graphic>
          <a:graphicData uri="http://schemas.openxmlformats.org/drawingml/2006/table">
            <a:tbl>
              <a:tblPr/>
              <a:tblGrid>
                <a:gridCol w="1501560"/>
                <a:gridCol w="7067520"/>
              </a:tblGrid>
              <a:tr h="323640"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800" bIns="10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 flag is 0 if the result of BC-1 = 0, otherwise P/V =1           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Z flag is 1 if A = (HL), otherwise Z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0" y="173160"/>
            <a:ext cx="9144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HANGE GROUP AND BLOCK TRANSFER AND SEARCH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8000" y="981000"/>
          <a:ext cx="8964720" cy="4870440"/>
        </p:xfrm>
        <a:graphic>
          <a:graphicData uri="http://schemas.openxmlformats.org/drawingml/2006/table">
            <a:tbl>
              <a:tblPr/>
              <a:tblGrid>
                <a:gridCol w="774720"/>
                <a:gridCol w="1039680"/>
                <a:gridCol w="292320"/>
                <a:gridCol w="291960"/>
                <a:gridCol w="290520"/>
                <a:gridCol w="291960"/>
                <a:gridCol w="290520"/>
                <a:gridCol w="306360"/>
                <a:gridCol w="292320"/>
                <a:gridCol w="290520"/>
                <a:gridCol w="345960"/>
                <a:gridCol w="349200"/>
                <a:gridCol w="354240"/>
                <a:gridCol w="374400"/>
                <a:gridCol w="520920"/>
                <a:gridCol w="528480"/>
                <a:gridCol w="527040"/>
                <a:gridCol w="465120"/>
                <a:gridCol w="465120"/>
                <a:gridCol w="309600"/>
                <a:gridCol w="308160"/>
                <a:gridCol w="255600"/>
              </a:tblGrid>
              <a:tr h="188640">
                <a:tc rowSpan="2"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L 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P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P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-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 ← 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L cc,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cc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se continu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wise s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CALL 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Z non 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   z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C non car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   car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 parity o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 parity e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   sign posi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   sign negat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54000" rIns="54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 cc,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ondition cc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lse continu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cc is 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wise s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R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c same as f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L cc,n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AND RETUR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6200" y="981000"/>
          <a:ext cx="8929800" cy="4852800"/>
        </p:xfrm>
        <a:graphic>
          <a:graphicData uri="http://schemas.openxmlformats.org/drawingml/2006/table">
            <a:tbl>
              <a:tblPr/>
              <a:tblGrid>
                <a:gridCol w="708480"/>
                <a:gridCol w="1086120"/>
                <a:gridCol w="318240"/>
                <a:gridCol w="316440"/>
                <a:gridCol w="319680"/>
                <a:gridCol w="316080"/>
                <a:gridCol w="318240"/>
                <a:gridCol w="316440"/>
                <a:gridCol w="317880"/>
                <a:gridCol w="316440"/>
                <a:gridCol w="366840"/>
                <a:gridCol w="365400"/>
                <a:gridCol w="366840"/>
                <a:gridCol w="390600"/>
                <a:gridCol w="537480"/>
                <a:gridCol w="536040"/>
                <a:gridCol w="537840"/>
                <a:gridCol w="241920"/>
                <a:gridCol w="226440"/>
                <a:gridCol w="276840"/>
                <a:gridCol w="222840"/>
                <a:gridCol w="207360"/>
                <a:gridCol w="144000"/>
                <a:gridCol w="180000"/>
              </a:tblGrid>
              <a:tr h="188640"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 row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fr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 as R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t detected b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ing de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re-enable interrup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 fr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e as R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 maska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t detected b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rupting dev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(S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7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re-enable interrup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(SP+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+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ST 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1) ← P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P-2) ← P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H ←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L ← 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 ← SP -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640">
                <a:tc>
                  <a:txBody>
                    <a:bodyPr lIns="54000" rIns="54000" tIns="36000" bIns="36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59280" y="5950080"/>
          <a:ext cx="3168000" cy="358560"/>
        </p:xfrm>
        <a:graphic>
          <a:graphicData uri="http://schemas.openxmlformats.org/drawingml/2006/table">
            <a:tbl>
              <a:tblPr/>
              <a:tblGrid>
                <a:gridCol w="999720"/>
                <a:gridCol w="2168280"/>
              </a:tblGrid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N loads IFF2 - IFF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AND RETURN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14480" y="765000"/>
          <a:ext cx="8915400" cy="5256360"/>
        </p:xfrm>
        <a:graphic>
          <a:graphicData uri="http://schemas.openxmlformats.org/drawingml/2006/table">
            <a:tbl>
              <a:tblPr/>
              <a:tblGrid>
                <a:gridCol w="698400"/>
                <a:gridCol w="888840"/>
                <a:gridCol w="368280"/>
                <a:gridCol w="368280"/>
                <a:gridCol w="368280"/>
                <a:gridCol w="368280"/>
                <a:gridCol w="368640"/>
                <a:gridCol w="368280"/>
                <a:gridCol w="368280"/>
                <a:gridCol w="368280"/>
                <a:gridCol w="380880"/>
                <a:gridCol w="380880"/>
                <a:gridCol w="381240"/>
                <a:gridCol w="444240"/>
                <a:gridCol w="584280"/>
                <a:gridCol w="584280"/>
                <a:gridCol w="584280"/>
                <a:gridCol w="520560"/>
                <a:gridCol w="520920"/>
              </a:tblGrid>
              <a:tr h="186120"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A,(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← (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 r,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 r = 110 on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flags wi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 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 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5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88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1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88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4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04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24200" y="6108840"/>
          <a:ext cx="5295600" cy="272880"/>
        </p:xfrm>
        <a:graphic>
          <a:graphicData uri="http://schemas.openxmlformats.org/drawingml/2006/table">
            <a:tbl>
              <a:tblPr/>
              <a:tblGrid>
                <a:gridCol w="698040"/>
                <a:gridCol w="45975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f the result of B - 1 is zero the Z flag is set, otherwise it is rese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0" y="173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AND OUTPU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14480" y="692280"/>
          <a:ext cx="8915400" cy="5619600"/>
        </p:xfrm>
        <a:graphic>
          <a:graphicData uri="http://schemas.openxmlformats.org/drawingml/2006/table">
            <a:tbl>
              <a:tblPr/>
              <a:tblGrid>
                <a:gridCol w="698400"/>
                <a:gridCol w="888840"/>
                <a:gridCol w="368280"/>
                <a:gridCol w="368280"/>
                <a:gridCol w="368280"/>
                <a:gridCol w="368280"/>
                <a:gridCol w="368640"/>
                <a:gridCol w="368280"/>
                <a:gridCol w="368280"/>
                <a:gridCol w="368280"/>
                <a:gridCol w="380880"/>
                <a:gridCol w="380880"/>
                <a:gridCol w="381240"/>
                <a:gridCol w="444240"/>
                <a:gridCol w="584280"/>
                <a:gridCol w="584280"/>
                <a:gridCol w="584280"/>
                <a:gridCol w="520560"/>
                <a:gridCol w="520920"/>
              </a:tblGrid>
              <a:tr h="188640"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L) ← 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 (n),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) ←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 (C),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as f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r,(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 = 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I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+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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D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) ←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← B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≠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to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~ A</a:t>
                      </a:r>
                      <a:r>
                        <a:rPr b="1" lang="es-E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L ← HL -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eat u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f B = 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18000" bIns="18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AND OUTPU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77840" y="644400"/>
          <a:ext cx="8858160" cy="5448600"/>
        </p:xfrm>
        <a:graphic>
          <a:graphicData uri="http://schemas.openxmlformats.org/drawingml/2006/table">
            <a:tbl>
              <a:tblPr/>
              <a:tblGrid>
                <a:gridCol w="830160"/>
                <a:gridCol w="841320"/>
                <a:gridCol w="366840"/>
                <a:gridCol w="365040"/>
                <a:gridCol w="366840"/>
                <a:gridCol w="365040"/>
                <a:gridCol w="366840"/>
                <a:gridCol w="365040"/>
                <a:gridCol w="366840"/>
                <a:gridCol w="366480"/>
                <a:gridCol w="365400"/>
                <a:gridCol w="366480"/>
                <a:gridCol w="365040"/>
                <a:gridCol w="390600"/>
                <a:gridCol w="536760"/>
                <a:gridCol w="538200"/>
                <a:gridCol w="536400"/>
                <a:gridCol w="512640"/>
                <a:gridCol w="646200"/>
              </a:tblGrid>
              <a:tr h="166320"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b,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←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 Tes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(H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HL)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(IX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X+d)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T b,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Y+d)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 b,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s-ES" sz="9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←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form new OP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 (HL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de replace 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X+d)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 SET b,s w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Y+d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 Flags 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 states sa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for S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320"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0800" rIns="10800" tIns="14400" bIns="14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68440" y="6138720"/>
          <a:ext cx="4406760" cy="243000"/>
        </p:xfrm>
        <a:graphic>
          <a:graphicData uri="http://schemas.openxmlformats.org/drawingml/2006/table">
            <a:tbl>
              <a:tblPr/>
              <a:tblGrid>
                <a:gridCol w="863640"/>
                <a:gridCol w="3543120"/>
              </a:tblGrid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es: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notation s</a:t>
                      </a:r>
                      <a:r>
                        <a:rPr b="1" lang="en-US" sz="1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dicates bit b (0 to 7) of location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T SET, RESET AND T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297080" y="981000"/>
                <a:ext cx="10620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282680" y="1314360"/>
                <a:ext cx="264960" cy="1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L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63600" y="1628640"/>
                <a:ext cx="428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258920" y="2298600"/>
                <a:ext cx="42876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Y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88920" y="-2381400"/>
            <a:ext cx="1571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280" y="746280"/>
          <a:ext cx="8964720" cy="5553000"/>
        </p:xfrm>
        <a:graphic>
          <a:graphicData uri="http://schemas.openxmlformats.org/drawingml/2006/table">
            <a:tbl>
              <a:tblPr/>
              <a:tblGrid>
                <a:gridCol w="689040"/>
                <a:gridCol w="1511280"/>
                <a:gridCol w="322200"/>
                <a:gridCol w="322560"/>
                <a:gridCol w="344520"/>
                <a:gridCol w="330120"/>
                <a:gridCol w="328680"/>
                <a:gridCol w="330120"/>
                <a:gridCol w="323640"/>
                <a:gridCol w="324000"/>
                <a:gridCol w="277920"/>
                <a:gridCol w="358560"/>
                <a:gridCol w="362160"/>
                <a:gridCol w="349200"/>
                <a:gridCol w="530280"/>
                <a:gridCol w="531720"/>
                <a:gridCol w="531720"/>
                <a:gridCol w="609840"/>
                <a:gridCol w="587160"/>
              </a:tblGrid>
              <a:tr h="174240"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emon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mbolic Op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l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-Co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By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M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. of T Cyc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/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left circ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le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right circul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r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umul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6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tate left circul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er 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(H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 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(IX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 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   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C 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28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L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ruction form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states are 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240"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≡ r,(HL),(IX+d),(IY+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8000" rIns="18000" tIns="10800" bIns="10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wn for RLC'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c38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L54B,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stemas para el Procesamiento de la Inform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Z80-RLCA" descr=""/>
          <p:cNvPicPr/>
          <p:nvPr/>
        </p:nvPicPr>
        <p:blipFill>
          <a:blip r:embed="rId1"/>
          <a:stretch/>
        </p:blipFill>
        <p:spPr>
          <a:xfrm>
            <a:off x="971640" y="1325520"/>
            <a:ext cx="1066680" cy="447840"/>
          </a:xfrm>
          <a:prstGeom prst="rect">
            <a:avLst/>
          </a:prstGeom>
          <a:ln w="0">
            <a:noFill/>
          </a:ln>
        </p:spPr>
      </p:pic>
      <p:pic>
        <p:nvPicPr>
          <p:cNvPr id="98" name="Z80-RLA" descr=""/>
          <p:cNvPicPr/>
          <p:nvPr/>
        </p:nvPicPr>
        <p:blipFill>
          <a:blip r:embed="rId2"/>
          <a:stretch/>
        </p:blipFill>
        <p:spPr>
          <a:xfrm>
            <a:off x="900000" y="1892160"/>
            <a:ext cx="122868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Z80-RRCA" descr=""/>
          <p:cNvPicPr/>
          <p:nvPr/>
        </p:nvPicPr>
        <p:blipFill>
          <a:blip r:embed="rId3"/>
          <a:stretch/>
        </p:blipFill>
        <p:spPr>
          <a:xfrm>
            <a:off x="965160" y="2492280"/>
            <a:ext cx="108576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Z80-RRA" descr=""/>
          <p:cNvPicPr/>
          <p:nvPr/>
        </p:nvPicPr>
        <p:blipFill>
          <a:blip r:embed="rId4"/>
          <a:stretch/>
        </p:blipFill>
        <p:spPr>
          <a:xfrm>
            <a:off x="942840" y="3068640"/>
            <a:ext cx="118116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3573360"/>
            <a:ext cx="216000" cy="165600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Z80-RLC" descr=""/>
          <p:cNvPicPr/>
          <p:nvPr/>
        </p:nvPicPr>
        <p:blipFill>
          <a:blip r:embed="rId5"/>
          <a:stretch/>
        </p:blipFill>
        <p:spPr>
          <a:xfrm>
            <a:off x="1000080" y="4149720"/>
            <a:ext cx="1123920" cy="371520"/>
          </a:xfrm>
          <a:prstGeom prst="rect">
            <a:avLst/>
          </a:prstGeom>
          <a:ln w="0">
            <a:noFill/>
          </a:ln>
        </p:spPr>
      </p:pic>
      <p:pic>
        <p:nvPicPr>
          <p:cNvPr id="103" name="Z80-RL" descr=""/>
          <p:cNvPicPr/>
          <p:nvPr/>
        </p:nvPicPr>
        <p:blipFill>
          <a:blip r:embed="rId6"/>
          <a:stretch/>
        </p:blipFill>
        <p:spPr>
          <a:xfrm>
            <a:off x="900000" y="5759280"/>
            <a:ext cx="1228680" cy="333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TATE AND SHIF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0:09:12Z</dcterms:created>
  <dc:creator>A</dc:creator>
  <dc:description/>
  <dc:language>en-US</dc:language>
  <cp:lastModifiedBy>Patricio Catalan</cp:lastModifiedBy>
  <dcterms:modified xsi:type="dcterms:W3CDTF">2007-10-01T17:37:31Z</dcterms:modified>
  <cp:revision>26</cp:revision>
  <dc:subject/>
  <dc:title>Slide 1</dc:title>
</cp:coreProperties>
</file>