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857-658F-420C-8726-ADA6C845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DFB-17B4-4F7D-8C79-AB2EC7E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FBB-90FC-45FD-A9E8-4B8648D3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D09-FF6B-4936-BDE9-BD84869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BF9-0755-4671-B672-AFE4FECF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C10-0AA8-45CA-B65B-385D27F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CC0-A7BA-4BD2-9378-26FA3B82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FB5-2FC7-43CD-8461-6DF8A238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A1A-7244-4600-8405-ABC0F1D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FA1-1188-40E5-8837-EF0A8D7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BDF-676D-4220-A333-59A8962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F9F-8267-4A9F-AF1B-226A13C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A587-E779-4F37-BD70-F0F91905D1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3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PURPOSE ARITHMETIC AND CPU CONTRO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720720"/>
          <a:ext cx="8785440" cy="5038560"/>
        </p:xfrm>
        <a:graphic>
          <a:graphicData uri="http://schemas.openxmlformats.org/drawingml/2006/table">
            <a:tbl>
              <a:tblPr/>
              <a:tblGrid>
                <a:gridCol w="684360"/>
                <a:gridCol w="1038240"/>
                <a:gridCol w="290520"/>
                <a:gridCol w="284040"/>
                <a:gridCol w="290520"/>
                <a:gridCol w="300240"/>
                <a:gridCol w="271440"/>
                <a:gridCol w="358560"/>
                <a:gridCol w="298440"/>
                <a:gridCol w="300240"/>
                <a:gridCol w="360360"/>
                <a:gridCol w="423720"/>
                <a:gridCol w="424080"/>
                <a:gridCol w="392040"/>
                <a:gridCol w="555480"/>
                <a:gridCol w="598680"/>
                <a:gridCol w="598320"/>
                <a:gridCol w="1316160"/>
              </a:tblGrid>
              <a:tr h="181440">
                <a:tc rowSpan="2">
                  <a:txBody>
                    <a:bodyPr lIns="54000" rIns="54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ts ac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 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 i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ed B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owing a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sub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 pack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D oper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ne's comple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e acc. ( two'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 hal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63520" y="5819760"/>
          <a:ext cx="4164120" cy="576360"/>
        </p:xfrm>
        <a:graphic>
          <a:graphicData uri="http://schemas.openxmlformats.org/drawingml/2006/table">
            <a:tbl>
              <a:tblPr/>
              <a:tblGrid>
                <a:gridCol w="648720"/>
                <a:gridCol w="3515400"/>
              </a:tblGrid>
              <a:tr h="199080">
                <a:tc row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indicates the interrupt enable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indicates the carry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s are not sampled at the end of EI or 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0" y="5805360"/>
          <a:ext cx="4392720" cy="58752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87520">
                <a:tc>
                  <a:txBody>
                    <a:bodyPr lIns="72000" rIns="72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32000" y="3397320"/>
                <a:ext cx="2156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240" y="836640"/>
          <a:ext cx="8951760" cy="5452920"/>
        </p:xfrm>
        <a:graphic>
          <a:graphicData uri="http://schemas.openxmlformats.org/drawingml/2006/table">
            <a:tbl>
              <a:tblPr/>
              <a:tblGrid>
                <a:gridCol w="682560"/>
                <a:gridCol w="1495440"/>
                <a:gridCol w="331560"/>
                <a:gridCol w="330480"/>
                <a:gridCol w="317520"/>
                <a:gridCol w="331560"/>
                <a:gridCol w="331920"/>
                <a:gridCol w="333360"/>
                <a:gridCol w="331920"/>
                <a:gridCol w="333360"/>
                <a:gridCol w="277560"/>
                <a:gridCol w="362160"/>
                <a:gridCol w="361800"/>
                <a:gridCol w="351000"/>
                <a:gridCol w="531720"/>
                <a:gridCol w="531720"/>
                <a:gridCol w="531720"/>
                <a:gridCol w="605160"/>
                <a:gridCol w="57924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, repl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 of RLC's w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digit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ight betw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location (HL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ontent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 half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31760" y="920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Z80-RRC" descr=""/>
          <p:cNvPicPr/>
          <p:nvPr/>
        </p:nvPicPr>
        <p:blipFill>
          <a:blip r:embed="rId1"/>
          <a:stretch/>
        </p:blipFill>
        <p:spPr>
          <a:xfrm>
            <a:off x="965160" y="1413000"/>
            <a:ext cx="108576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Z80-RR" descr=""/>
          <p:cNvPicPr/>
          <p:nvPr/>
        </p:nvPicPr>
        <p:blipFill>
          <a:blip r:embed="rId2"/>
          <a:stretch/>
        </p:blipFill>
        <p:spPr>
          <a:xfrm>
            <a:off x="971640" y="2016000"/>
            <a:ext cx="118116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Z80-SLA" descr=""/>
          <p:cNvPicPr/>
          <p:nvPr/>
        </p:nvPicPr>
        <p:blipFill>
          <a:blip r:embed="rId3"/>
          <a:stretch/>
        </p:blipFill>
        <p:spPr>
          <a:xfrm>
            <a:off x="900000" y="2695680"/>
            <a:ext cx="1257480" cy="228600"/>
          </a:xfrm>
          <a:prstGeom prst="rect">
            <a:avLst/>
          </a:prstGeom>
          <a:ln w="0">
            <a:noFill/>
          </a:ln>
        </p:spPr>
      </p:pic>
      <p:pic>
        <p:nvPicPr>
          <p:cNvPr id="123" name="Z80-SRA" descr=""/>
          <p:cNvPicPr/>
          <p:nvPr/>
        </p:nvPicPr>
        <p:blipFill>
          <a:blip r:embed="rId4"/>
          <a:stretch/>
        </p:blipFill>
        <p:spPr>
          <a:xfrm>
            <a:off x="965160" y="3249720"/>
            <a:ext cx="1085760" cy="323640"/>
          </a:xfrm>
          <a:prstGeom prst="rect">
            <a:avLst/>
          </a:prstGeom>
          <a:ln w="0">
            <a:noFill/>
          </a:ln>
        </p:spPr>
      </p:pic>
      <p:pic>
        <p:nvPicPr>
          <p:cNvPr id="124" name="Z80-SRL" descr=""/>
          <p:cNvPicPr/>
          <p:nvPr/>
        </p:nvPicPr>
        <p:blipFill>
          <a:blip r:embed="rId5"/>
          <a:stretch/>
        </p:blipFill>
        <p:spPr>
          <a:xfrm>
            <a:off x="900000" y="3921120"/>
            <a:ext cx="1228680" cy="228600"/>
          </a:xfrm>
          <a:prstGeom prst="rect">
            <a:avLst/>
          </a:prstGeom>
          <a:ln w="0">
            <a:noFill/>
          </a:ln>
        </p:spPr>
      </p:pic>
      <p:pic>
        <p:nvPicPr>
          <p:cNvPr id="125" name="Z80-RLD" descr=""/>
          <p:cNvPicPr/>
          <p:nvPr/>
        </p:nvPicPr>
        <p:blipFill>
          <a:blip r:embed="rId6"/>
          <a:stretch/>
        </p:blipFill>
        <p:spPr>
          <a:xfrm>
            <a:off x="826920" y="4437000"/>
            <a:ext cx="1368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Z80-RRD" descr=""/>
          <p:cNvPicPr/>
          <p:nvPr/>
        </p:nvPicPr>
        <p:blipFill>
          <a:blip r:embed="rId7"/>
          <a:stretch/>
        </p:blipFill>
        <p:spPr>
          <a:xfrm>
            <a:off x="826920" y="573408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3040" y="652320"/>
          <a:ext cx="8737920" cy="5369040"/>
        </p:xfrm>
        <a:graphic>
          <a:graphicData uri="http://schemas.openxmlformats.org/drawingml/2006/table">
            <a:tbl>
              <a:tblPr/>
              <a:tblGrid>
                <a:gridCol w="749520"/>
                <a:gridCol w="888840"/>
                <a:gridCol w="33048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55680"/>
                <a:gridCol w="355680"/>
                <a:gridCol w="355320"/>
                <a:gridCol w="393840"/>
                <a:gridCol w="558720"/>
                <a:gridCol w="558720"/>
                <a:gridCol w="559080"/>
                <a:gridCol w="132084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DE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AF,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 ↔ 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↔ BC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bank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DE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xiliary regi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↔ HL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 ex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 (HL) into (DE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ment the pointer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ment the b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 (B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605808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6160" y="620640"/>
          <a:ext cx="8851680" cy="5429160"/>
        </p:xfrm>
        <a:graphic>
          <a:graphicData uri="http://schemas.openxmlformats.org/drawingml/2006/table">
            <a:tbl>
              <a:tblPr/>
              <a:tblGrid>
                <a:gridCol w="749160"/>
                <a:gridCol w="88920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30120"/>
                <a:gridCol w="355680"/>
                <a:gridCol w="355680"/>
                <a:gridCol w="355680"/>
                <a:gridCol w="393480"/>
                <a:gridCol w="558720"/>
                <a:gridCol w="559080"/>
                <a:gridCol w="558720"/>
                <a:gridCol w="143496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09300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000" y="981000"/>
          <a:ext cx="8964720" cy="4870440"/>
        </p:xfrm>
        <a:graphic>
          <a:graphicData uri="http://schemas.openxmlformats.org/drawingml/2006/table">
            <a:tbl>
              <a:tblPr/>
              <a:tblGrid>
                <a:gridCol w="774720"/>
                <a:gridCol w="1039680"/>
                <a:gridCol w="292320"/>
                <a:gridCol w="291960"/>
                <a:gridCol w="290520"/>
                <a:gridCol w="291960"/>
                <a:gridCol w="290520"/>
                <a:gridCol w="306360"/>
                <a:gridCol w="292320"/>
                <a:gridCol w="290520"/>
                <a:gridCol w="345960"/>
                <a:gridCol w="349200"/>
                <a:gridCol w="354240"/>
                <a:gridCol w="374400"/>
                <a:gridCol w="520920"/>
                <a:gridCol w="528480"/>
                <a:gridCol w="527040"/>
                <a:gridCol w="465120"/>
                <a:gridCol w="465120"/>
                <a:gridCol w="309600"/>
                <a:gridCol w="308160"/>
                <a:gridCol w="255600"/>
              </a:tblGrid>
              <a:tr h="188640"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  sign neg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same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200" y="981000"/>
          <a:ext cx="8929800" cy="4852800"/>
        </p:xfrm>
        <a:graphic>
          <a:graphicData uri="http://schemas.openxmlformats.org/drawingml/2006/table">
            <a:tbl>
              <a:tblPr/>
              <a:tblGrid>
                <a:gridCol w="708480"/>
                <a:gridCol w="1086120"/>
                <a:gridCol w="318240"/>
                <a:gridCol w="316440"/>
                <a:gridCol w="319680"/>
                <a:gridCol w="316080"/>
                <a:gridCol w="318240"/>
                <a:gridCol w="316440"/>
                <a:gridCol w="317880"/>
                <a:gridCol w="316440"/>
                <a:gridCol w="366840"/>
                <a:gridCol w="365400"/>
                <a:gridCol w="366840"/>
                <a:gridCol w="390600"/>
                <a:gridCol w="537480"/>
                <a:gridCol w="536040"/>
                <a:gridCol w="537840"/>
                <a:gridCol w="241920"/>
                <a:gridCol w="226440"/>
                <a:gridCol w="276840"/>
                <a:gridCol w="222840"/>
                <a:gridCol w="207360"/>
                <a:gridCol w="144000"/>
                <a:gridCol w="18000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mask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T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59280" y="5950080"/>
          <a:ext cx="3168000" cy="358560"/>
        </p:xfrm>
        <a:graphic>
          <a:graphicData uri="http://schemas.openxmlformats.org/drawingml/2006/table">
            <a:tbl>
              <a:tblPr/>
              <a:tblGrid>
                <a:gridCol w="999720"/>
                <a:gridCol w="2168280"/>
              </a:tblGrid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 loads IFF2 - IF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480" y="765000"/>
          <a:ext cx="8915400" cy="525636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6120"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,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r = 110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flags w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0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24200" y="6108840"/>
          <a:ext cx="5295600" cy="272880"/>
        </p:xfrm>
        <a:graphic>
          <a:graphicData uri="http://schemas.openxmlformats.org/drawingml/2006/table">
            <a:tbl>
              <a:tblPr/>
              <a:tblGrid>
                <a:gridCol w="698040"/>
                <a:gridCol w="45975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the result of B - 1 is zero the Z flag is set, otherwise it is res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480" y="692280"/>
          <a:ext cx="8915400" cy="561960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8640"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n),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) ←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C),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 = 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7840" y="644400"/>
          <a:ext cx="8858160" cy="5448600"/>
        </p:xfrm>
        <a:graphic>
          <a:graphicData uri="http://schemas.openxmlformats.org/drawingml/2006/table">
            <a:tbl>
              <a:tblPr/>
              <a:tblGrid>
                <a:gridCol w="830160"/>
                <a:gridCol w="841320"/>
                <a:gridCol w="366840"/>
                <a:gridCol w="365040"/>
                <a:gridCol w="366840"/>
                <a:gridCol w="365040"/>
                <a:gridCol w="366840"/>
                <a:gridCol w="365040"/>
                <a:gridCol w="366840"/>
                <a:gridCol w="366480"/>
                <a:gridCol w="365400"/>
                <a:gridCol w="366480"/>
                <a:gridCol w="365040"/>
                <a:gridCol w="390600"/>
                <a:gridCol w="536760"/>
                <a:gridCol w="538200"/>
                <a:gridCol w="536400"/>
                <a:gridCol w="512640"/>
                <a:gridCol w="646200"/>
              </a:tblGrid>
              <a:tr h="166320"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Tes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 b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 OP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 (HL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replace 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SET b,s 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Flag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 states s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for S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8440" y="6138720"/>
          <a:ext cx="4406760" cy="243000"/>
        </p:xfrm>
        <a:graphic>
          <a:graphicData uri="http://schemas.openxmlformats.org/drawingml/2006/table">
            <a:tbl>
              <a:tblPr/>
              <a:tblGrid>
                <a:gridCol w="863640"/>
                <a:gridCol w="3543120"/>
              </a:tblGrid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notation s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dicates bit b (0 to 7) of location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 SET, RESET AND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97080" y="981000"/>
                <a:ext cx="10620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282680" y="1314360"/>
                <a:ext cx="26496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L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63600" y="162864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58920" y="229860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746280"/>
          <a:ext cx="8964720" cy="5553000"/>
        </p:xfrm>
        <a:graphic>
          <a:graphicData uri="http://schemas.openxmlformats.org/drawingml/2006/table">
            <a:tbl>
              <a:tblPr/>
              <a:tblGrid>
                <a:gridCol w="689040"/>
                <a:gridCol w="1511280"/>
                <a:gridCol w="322200"/>
                <a:gridCol w="322560"/>
                <a:gridCol w="344520"/>
                <a:gridCol w="330120"/>
                <a:gridCol w="328680"/>
                <a:gridCol w="330120"/>
                <a:gridCol w="323640"/>
                <a:gridCol w="324000"/>
                <a:gridCol w="277920"/>
                <a:gridCol w="358560"/>
                <a:gridCol w="362160"/>
                <a:gridCol w="349200"/>
                <a:gridCol w="530280"/>
                <a:gridCol w="531720"/>
                <a:gridCol w="531720"/>
                <a:gridCol w="609840"/>
                <a:gridCol w="587160"/>
              </a:tblGrid>
              <a:tr h="174240"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 circul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states are 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for RLC'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80-RLCA" descr=""/>
          <p:cNvPicPr/>
          <p:nvPr/>
        </p:nvPicPr>
        <p:blipFill>
          <a:blip r:embed="rId1"/>
          <a:stretch/>
        </p:blipFill>
        <p:spPr>
          <a:xfrm>
            <a:off x="971640" y="1325520"/>
            <a:ext cx="106668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Z80-RLA" descr=""/>
          <p:cNvPicPr/>
          <p:nvPr/>
        </p:nvPicPr>
        <p:blipFill>
          <a:blip r:embed="rId2"/>
          <a:stretch/>
        </p:blipFill>
        <p:spPr>
          <a:xfrm>
            <a:off x="900000" y="1892160"/>
            <a:ext cx="122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Z80-RRCA" descr=""/>
          <p:cNvPicPr/>
          <p:nvPr/>
        </p:nvPicPr>
        <p:blipFill>
          <a:blip r:embed="rId3"/>
          <a:stretch/>
        </p:blipFill>
        <p:spPr>
          <a:xfrm>
            <a:off x="965160" y="2492280"/>
            <a:ext cx="108576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Z80-RRA" descr=""/>
          <p:cNvPicPr/>
          <p:nvPr/>
        </p:nvPicPr>
        <p:blipFill>
          <a:blip r:embed="rId4"/>
          <a:stretch/>
        </p:blipFill>
        <p:spPr>
          <a:xfrm>
            <a:off x="942840" y="306864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3573360"/>
            <a:ext cx="216000" cy="165600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Z80-RLC" descr=""/>
          <p:cNvPicPr/>
          <p:nvPr/>
        </p:nvPicPr>
        <p:blipFill>
          <a:blip r:embed="rId5"/>
          <a:stretch/>
        </p:blipFill>
        <p:spPr>
          <a:xfrm>
            <a:off x="1000080" y="4149720"/>
            <a:ext cx="1123920" cy="371520"/>
          </a:xfrm>
          <a:prstGeom prst="rect">
            <a:avLst/>
          </a:prstGeom>
          <a:ln w="0">
            <a:noFill/>
          </a:ln>
        </p:spPr>
      </p:pic>
      <p:pic>
        <p:nvPicPr>
          <p:cNvPr id="103" name="Z80-RL" descr=""/>
          <p:cNvPicPr/>
          <p:nvPr/>
        </p:nvPicPr>
        <p:blipFill>
          <a:blip r:embed="rId6"/>
          <a:stretch/>
        </p:blipFill>
        <p:spPr>
          <a:xfrm>
            <a:off x="900000" y="5759280"/>
            <a:ext cx="1228680" cy="33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09:12Z</dcterms:created>
  <dc:creator>A</dc:creator>
  <dc:description/>
  <dc:language>en-US</dc:language>
  <cp:lastModifiedBy>Patricio Catalan</cp:lastModifiedBy>
  <dcterms:modified xsi:type="dcterms:W3CDTF">2007-10-01T17:37:31Z</dcterms:modified>
  <cp:revision>26</cp:revision>
  <dc:subject/>
  <dc:title>Slide 1</dc:title>
</cp:coreProperties>
</file>