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8D5A-56C8-401D-B456-F3E67AEF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F6FE-17E3-44D7-B06C-9D36BD60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29A-34C1-4E62-B410-AB0F6126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97EA-8754-48D5-8F67-8E2E6DF7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0B3-D089-4560-87CC-B9EF63F8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0DD0-CA89-4E7A-832E-4789106D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D34E-3436-4E8E-A17C-B77B8AA3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80F3-A5FC-43B4-954A-380FF355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925A-025B-441C-AC4F-F242253E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7042-6ECE-430F-836B-6A1582B2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F94A-DB46-4500-BDB4-A5EF86B1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E5D8-0FD8-4DF4-9DE9-1C0A14F2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F176-5AA4-4736-ADC4-9231F676D24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8-BIT LOAD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981000"/>
          <a:ext cx="8291520" cy="4364280"/>
        </p:xfrm>
        <a:graphic>
          <a:graphicData uri="http://schemas.openxmlformats.org/drawingml/2006/table">
            <a:tbl>
              <a:tblPr/>
              <a:tblGrid>
                <a:gridCol w="870120"/>
                <a:gridCol w="869760"/>
                <a:gridCol w="388800"/>
                <a:gridCol w="390600"/>
                <a:gridCol w="387360"/>
                <a:gridCol w="389160"/>
                <a:gridCol w="387360"/>
                <a:gridCol w="387360"/>
                <a:gridCol w="392040"/>
                <a:gridCol w="387360"/>
                <a:gridCol w="374400"/>
                <a:gridCol w="427320"/>
                <a:gridCol w="404640"/>
                <a:gridCol w="465120"/>
                <a:gridCol w="590760"/>
                <a:gridCol w="588960"/>
                <a:gridCol w="590400"/>
              </a:tblGrid>
              <a:tr h="270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nemon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T St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r,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r,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r,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r, (IX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IX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r, 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(HL),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HL)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(IX+d),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X+d)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250920" y="5516640"/>
          <a:ext cx="8713800" cy="760320"/>
        </p:xfrm>
        <a:graphic>
          <a:graphicData uri="http://schemas.openxmlformats.org/drawingml/2006/table">
            <a:tbl>
              <a:tblPr/>
              <a:tblGrid>
                <a:gridCol w="1015920"/>
                <a:gridCol w="654120"/>
                <a:gridCol w="652320"/>
                <a:gridCol w="558720"/>
                <a:gridCol w="648000"/>
                <a:gridCol w="647640"/>
                <a:gridCol w="649080"/>
                <a:gridCol w="647640"/>
                <a:gridCol w="32403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, s :  Regis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Flag not affected, 0 = Flag re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= Flag set,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Flag is unknow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Flag affected according operation resu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F = Interrupt enable Flip-Flop content copied in 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50920" y="981000"/>
          <a:ext cx="8713800" cy="4159440"/>
        </p:xfrm>
        <a:graphic>
          <a:graphicData uri="http://schemas.openxmlformats.org/drawingml/2006/table">
            <a:tbl>
              <a:tblPr/>
              <a:tblGrid>
                <a:gridCol w="724680"/>
                <a:gridCol w="1032480"/>
                <a:gridCol w="307800"/>
                <a:gridCol w="306720"/>
                <a:gridCol w="307800"/>
                <a:gridCol w="306360"/>
                <a:gridCol w="307800"/>
                <a:gridCol w="356400"/>
                <a:gridCol w="307800"/>
                <a:gridCol w="306000"/>
                <a:gridCol w="369000"/>
                <a:gridCol w="368640"/>
                <a:gridCol w="368640"/>
                <a:gridCol w="380880"/>
                <a:gridCol w="480600"/>
                <a:gridCol w="539640"/>
                <a:gridCol w="541080"/>
                <a:gridCol w="368640"/>
                <a:gridCol w="1032840"/>
              </a:tblGrid>
              <a:tr h="231120">
                <a:tc row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P 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P cc,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Z non ze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 true PC ← nn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   ze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w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C non car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   car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 parity o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 parity ev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   sign posi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R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PC +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 sign nega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R C,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 = 0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not m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 = 1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is m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PC +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54200" y="5445000"/>
          <a:ext cx="7705440" cy="647640"/>
        </p:xfrm>
        <a:graphic>
          <a:graphicData uri="http://schemas.openxmlformats.org/drawingml/2006/table">
            <a:tbl>
              <a:tblPr/>
              <a:tblGrid>
                <a:gridCol w="763200"/>
                <a:gridCol w="694224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 represents the extension in the relative addressing mo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 is a signed two's complement number in the range &lt;-126,129&gt;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2 in the op-code provides an effective address of PC+e as PC is incremented by 2 prior to the addition of 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0" y="1731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MP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206280" y="900000"/>
          <a:ext cx="8686800" cy="4765680"/>
        </p:xfrm>
        <a:graphic>
          <a:graphicData uri="http://schemas.openxmlformats.org/drawingml/2006/table">
            <a:tbl>
              <a:tblPr/>
              <a:tblGrid>
                <a:gridCol w="733320"/>
                <a:gridCol w="932040"/>
                <a:gridCol w="310680"/>
                <a:gridCol w="310680"/>
                <a:gridCol w="310320"/>
                <a:gridCol w="310680"/>
                <a:gridCol w="310680"/>
                <a:gridCol w="360360"/>
                <a:gridCol w="310680"/>
                <a:gridCol w="310680"/>
                <a:gridCol w="372960"/>
                <a:gridCol w="372960"/>
                <a:gridCol w="372600"/>
                <a:gridCol w="385200"/>
                <a:gridCol w="484920"/>
                <a:gridCol w="546840"/>
                <a:gridCol w="546480"/>
                <a:gridCol w="596880"/>
                <a:gridCol w="807840"/>
              </a:tblGrid>
              <a:tr h="195120">
                <a:tc rowSpan="2"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R NC,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 = 1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not m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 = 0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is m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PC +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R Z,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Z = 0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not m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Z = 1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is m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PC +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R NZ,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Z = 1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not m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Z = 0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is m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PC +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P (H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H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P (IX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P (I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I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JNZ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← B -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 =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 = 0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 ≠ 0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 ≠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PC +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4200" y="5734080"/>
          <a:ext cx="7705440" cy="647640"/>
        </p:xfrm>
        <a:graphic>
          <a:graphicData uri="http://schemas.openxmlformats.org/drawingml/2006/table">
            <a:tbl>
              <a:tblPr/>
              <a:tblGrid>
                <a:gridCol w="763200"/>
                <a:gridCol w="694224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 represents the extension in the relative addressing mo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 is a signed two's complement number in the range &lt;-126,129&gt;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2 in the op-code provides an effective address of PC+e as PC is incremented by 2 prior to the addition of 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0" y="1731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MP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24000" y="1052640"/>
          <a:ext cx="8569080" cy="4378320"/>
        </p:xfrm>
        <a:graphic>
          <a:graphicData uri="http://schemas.openxmlformats.org/drawingml/2006/table">
            <a:tbl>
              <a:tblPr/>
              <a:tblGrid>
                <a:gridCol w="898560"/>
                <a:gridCol w="901440"/>
                <a:gridCol w="401760"/>
                <a:gridCol w="399960"/>
                <a:gridCol w="401760"/>
                <a:gridCol w="401760"/>
                <a:gridCol w="401400"/>
                <a:gridCol w="401760"/>
                <a:gridCol w="401760"/>
                <a:gridCol w="401400"/>
                <a:gridCol w="416160"/>
                <a:gridCol w="414360"/>
                <a:gridCol w="414000"/>
                <a:gridCol w="487440"/>
                <a:gridCol w="606600"/>
                <a:gridCol w="610920"/>
                <a:gridCol w="608040"/>
              </a:tblGrid>
              <a:tr h="24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nemon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T St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(IY+d),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Y+d)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(HL),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HL)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(IX+d),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X+d)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(IY+d),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Y+d)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A, (B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B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A, (D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D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50920" y="5575320"/>
          <a:ext cx="8713800" cy="760320"/>
        </p:xfrm>
        <a:graphic>
          <a:graphicData uri="http://schemas.openxmlformats.org/drawingml/2006/table">
            <a:tbl>
              <a:tblPr/>
              <a:tblGrid>
                <a:gridCol w="1081080"/>
                <a:gridCol w="647640"/>
                <a:gridCol w="647640"/>
                <a:gridCol w="576360"/>
                <a:gridCol w="647640"/>
                <a:gridCol w="649440"/>
                <a:gridCol w="647640"/>
                <a:gridCol w="647640"/>
                <a:gridCol w="31687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, s :  Regis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Flag not affected, 0 = Flag re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= Flag set,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Flag is unknow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Flag affected according operation resu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F = Interrupt enable Flip-Flop content copied in 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8-BIT LOAD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8-BIT LOAD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95280" y="1001880"/>
          <a:ext cx="8424360" cy="4433760"/>
        </p:xfrm>
        <a:graphic>
          <a:graphicData uri="http://schemas.openxmlformats.org/drawingml/2006/table">
            <a:tbl>
              <a:tblPr/>
              <a:tblGrid>
                <a:gridCol w="884520"/>
                <a:gridCol w="884160"/>
                <a:gridCol w="396720"/>
                <a:gridCol w="390240"/>
                <a:gridCol w="398160"/>
                <a:gridCol w="393480"/>
                <a:gridCol w="394920"/>
                <a:gridCol w="393480"/>
                <a:gridCol w="398160"/>
                <a:gridCol w="393120"/>
                <a:gridCol w="407880"/>
                <a:gridCol w="406440"/>
                <a:gridCol w="407520"/>
                <a:gridCol w="481680"/>
                <a:gridCol w="594720"/>
                <a:gridCol w="599760"/>
                <a:gridCol w="599400"/>
              </a:tblGrid>
              <a:tr h="24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nemon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T St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A, (n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n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(BC),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BC)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(DE),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DE)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(nn),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nn)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A,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A,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I,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R,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79280" y="5537160"/>
          <a:ext cx="8856720" cy="700200"/>
        </p:xfrm>
        <a:graphic>
          <a:graphicData uri="http://schemas.openxmlformats.org/drawingml/2006/table">
            <a:tbl>
              <a:tblPr/>
              <a:tblGrid>
                <a:gridCol w="1152720"/>
                <a:gridCol w="718920"/>
                <a:gridCol w="649440"/>
                <a:gridCol w="647640"/>
                <a:gridCol w="647640"/>
                <a:gridCol w="647640"/>
                <a:gridCol w="576360"/>
                <a:gridCol w="647640"/>
                <a:gridCol w="31687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, s :  Regis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Flag not affected, 0 = Flag re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= Flag set,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Flag is unknow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Flag affected according operation resu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F = Interrupt enable Flip-Flop content copied in 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98440" y="981000"/>
          <a:ext cx="8547120" cy="4399200"/>
        </p:xfrm>
        <a:graphic>
          <a:graphicData uri="http://schemas.openxmlformats.org/drawingml/2006/table">
            <a:tbl>
              <a:tblPr/>
              <a:tblGrid>
                <a:gridCol w="787320"/>
                <a:gridCol w="939960"/>
                <a:gridCol w="317520"/>
                <a:gridCol w="317520"/>
                <a:gridCol w="317520"/>
                <a:gridCol w="317520"/>
                <a:gridCol w="317520"/>
                <a:gridCol w="380880"/>
                <a:gridCol w="317520"/>
                <a:gridCol w="317520"/>
                <a:gridCol w="380880"/>
                <a:gridCol w="406440"/>
                <a:gridCol w="380880"/>
                <a:gridCol w="406440"/>
                <a:gridCol w="558720"/>
                <a:gridCol w="559080"/>
                <a:gridCol w="558720"/>
                <a:gridCol w="482400"/>
                <a:gridCol w="482760"/>
              </a:tblGrid>
              <a:tr h="180720">
                <a:tc rowSpan="2"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dd,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 ← 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ir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IX,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 ← 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IY,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 ← 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HL,(n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 ← (nn+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 ← (n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0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dd,(n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nn+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0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n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0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IX,(n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</a:t>
                      </a:r>
                      <a:r>
                        <a:rPr b="1" lang="en-U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nn+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0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</a:t>
                      </a:r>
                      <a:r>
                        <a:rPr b="1" lang="en-U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n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5516640"/>
          <a:ext cx="4319280" cy="792000"/>
        </p:xfrm>
        <a:graphic>
          <a:graphicData uri="http://schemas.openxmlformats.org/drawingml/2006/table">
            <a:tbl>
              <a:tblPr/>
              <a:tblGrid>
                <a:gridCol w="718920"/>
                <a:gridCol w="3600360"/>
              </a:tblGrid>
              <a:tr h="7920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  is any of the register pairs BC, DE, HL, SP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q  is any of the register pairs AF, BC, DE, HL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AIR)H, (PAIR)L  refer to high order and low order eight bits of the register pair respectively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789440" y="5516640"/>
          <a:ext cx="4103640" cy="792000"/>
        </p:xfrm>
        <a:graphic>
          <a:graphicData uri="http://schemas.openxmlformats.org/drawingml/2006/table">
            <a:tbl>
              <a:tblPr/>
              <a:tblGrid>
                <a:gridCol w="682560"/>
                <a:gridCol w="3421080"/>
              </a:tblGrid>
              <a:tr h="7920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 a 16-bit 'nn' value or address is specified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irst byte of the pair is the least significant byte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0" y="1731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-BIT LOAD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98440" y="907920"/>
          <a:ext cx="8547120" cy="4473720"/>
        </p:xfrm>
        <a:graphic>
          <a:graphicData uri="http://schemas.openxmlformats.org/drawingml/2006/table">
            <a:tbl>
              <a:tblPr/>
              <a:tblGrid>
                <a:gridCol w="787320"/>
                <a:gridCol w="939960"/>
                <a:gridCol w="317520"/>
                <a:gridCol w="317520"/>
                <a:gridCol w="317520"/>
                <a:gridCol w="317520"/>
                <a:gridCol w="317520"/>
                <a:gridCol w="380880"/>
                <a:gridCol w="317520"/>
                <a:gridCol w="317520"/>
                <a:gridCol w="380880"/>
                <a:gridCol w="406440"/>
                <a:gridCol w="380880"/>
                <a:gridCol w="406440"/>
                <a:gridCol w="558720"/>
                <a:gridCol w="559080"/>
                <a:gridCol w="558720"/>
                <a:gridCol w="482400"/>
                <a:gridCol w="482760"/>
              </a:tblGrid>
              <a:tr h="202320">
                <a:tc rowSpan="2"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IY,(n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nn+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n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(nn),H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n+1) ← 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n) ← 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(nn),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n+1) ← dd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n) ← dd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(nn),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n+1) ← IX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n) ← IX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(nn),I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n+1) ← IY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n) ← IY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SP,H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H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4000" y="5516640"/>
          <a:ext cx="4319280" cy="792000"/>
        </p:xfrm>
        <a:graphic>
          <a:graphicData uri="http://schemas.openxmlformats.org/drawingml/2006/table">
            <a:tbl>
              <a:tblPr/>
              <a:tblGrid>
                <a:gridCol w="718920"/>
                <a:gridCol w="3600360"/>
              </a:tblGrid>
              <a:tr h="7920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  is any of the register pairs BC, DE, HL, SP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q  is any of the register pairs AF, BC, DE, HL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AIR)H, (PAIR)L  refer to high order and low order eight bits of the register pair respectively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789440" y="5516640"/>
          <a:ext cx="4103640" cy="792000"/>
        </p:xfrm>
        <a:graphic>
          <a:graphicData uri="http://schemas.openxmlformats.org/drawingml/2006/table">
            <a:tbl>
              <a:tblPr/>
              <a:tblGrid>
                <a:gridCol w="682560"/>
                <a:gridCol w="3421080"/>
              </a:tblGrid>
              <a:tr h="7920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 a 16-bit 'nn' value or address is specified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irst byte of the pair is the least significant byte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0" y="1731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-BIT LOAD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45960" y="828720"/>
          <a:ext cx="8547120" cy="4545000"/>
        </p:xfrm>
        <a:graphic>
          <a:graphicData uri="http://schemas.openxmlformats.org/drawingml/2006/table">
            <a:tbl>
              <a:tblPr/>
              <a:tblGrid>
                <a:gridCol w="787680"/>
                <a:gridCol w="939600"/>
                <a:gridCol w="317520"/>
                <a:gridCol w="317520"/>
                <a:gridCol w="317520"/>
                <a:gridCol w="317520"/>
                <a:gridCol w="317520"/>
                <a:gridCol w="380880"/>
                <a:gridCol w="317520"/>
                <a:gridCol w="317520"/>
                <a:gridCol w="380880"/>
                <a:gridCol w="406440"/>
                <a:gridCol w="381240"/>
                <a:gridCol w="406080"/>
                <a:gridCol w="559080"/>
                <a:gridCol w="558720"/>
                <a:gridCol w="558720"/>
                <a:gridCol w="482760"/>
                <a:gridCol w="482400"/>
              </a:tblGrid>
              <a:tr h="187920">
                <a:tc rowSpan="2"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SP,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SP,I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I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SH qq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2) ← qq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q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q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ir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1) ← qq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SH 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2) ← IX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1) ← IX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SH I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2) ← IY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1) ← IY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 qq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q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SP+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q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q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S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+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 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SP+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S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+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 I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SP+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</a:t>
                      </a:r>
                      <a:r>
                        <a:rPr b="1" lang="en-U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S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+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5516640"/>
          <a:ext cx="4319280" cy="792000"/>
        </p:xfrm>
        <a:graphic>
          <a:graphicData uri="http://schemas.openxmlformats.org/drawingml/2006/table">
            <a:tbl>
              <a:tblPr/>
              <a:tblGrid>
                <a:gridCol w="718920"/>
                <a:gridCol w="3600360"/>
              </a:tblGrid>
              <a:tr h="7920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  is any of the register pairs BC, DE, HL, SP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q  is any of the register pairs AF, BC, DE, HL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AIR)H, (PAIR)L  refer to high order and low order eight bits of the register pair respectively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789440" y="5516640"/>
          <a:ext cx="4103640" cy="792000"/>
        </p:xfrm>
        <a:graphic>
          <a:graphicData uri="http://schemas.openxmlformats.org/drawingml/2006/table">
            <a:tbl>
              <a:tblPr/>
              <a:tblGrid>
                <a:gridCol w="682560"/>
                <a:gridCol w="3421080"/>
              </a:tblGrid>
              <a:tr h="7920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 a 16-bit 'nn' value or address is specified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irst byte of the pair is the least significant byte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0" y="1731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-BIT LOAD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84320" y="892080"/>
          <a:ext cx="8775360" cy="4768920"/>
        </p:xfrm>
        <a:graphic>
          <a:graphicData uri="http://schemas.openxmlformats.org/drawingml/2006/table">
            <a:tbl>
              <a:tblPr/>
              <a:tblGrid>
                <a:gridCol w="761760"/>
                <a:gridCol w="1054080"/>
                <a:gridCol w="330120"/>
                <a:gridCol w="330480"/>
                <a:gridCol w="330120"/>
                <a:gridCol w="330120"/>
                <a:gridCol w="330120"/>
                <a:gridCol w="381240"/>
                <a:gridCol w="330120"/>
                <a:gridCol w="330120"/>
                <a:gridCol w="380880"/>
                <a:gridCol w="381240"/>
                <a:gridCol w="380880"/>
                <a:gridCol w="406440"/>
                <a:gridCol w="558720"/>
                <a:gridCol w="558720"/>
                <a:gridCol w="559080"/>
                <a:gridCol w="520560"/>
                <a:gridCol w="520560"/>
              </a:tblGrid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mbolic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-C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M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T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/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 A,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+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  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 A,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+ 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 A,(H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+ (H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 A,(IX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+ (IX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 A,(IY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+ (IY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C A,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+ s + C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 is any of r, n, (HL), (IX+d), (IY+d) as shown for ADD instruction. The indicated bits replace the 000 in the ADD set abov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 A,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-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BC A,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- s - C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⋀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⋁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OR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⊕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-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11280" y="5734080"/>
          <a:ext cx="7848360" cy="647640"/>
        </p:xfrm>
        <a:graphic>
          <a:graphicData uri="http://schemas.openxmlformats.org/drawingml/2006/table">
            <a:tbl>
              <a:tblPr/>
              <a:tblGrid>
                <a:gridCol w="865080"/>
                <a:gridCol w="698328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V symbol in the P/V flag column indicates that the P/V flag contains the overflow of the result of the operation. Similarly the P symbol indicates parity.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= 1 means overflow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= 0 means not overflow. P = 1 means parity of the result is even.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= 0 means parity of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result is od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0" y="1731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-BIT ARITHMETIC AND LOGICAL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79280" y="1041480"/>
          <a:ext cx="8840520" cy="4187880"/>
        </p:xfrm>
        <a:graphic>
          <a:graphicData uri="http://schemas.openxmlformats.org/drawingml/2006/table">
            <a:tbl>
              <a:tblPr/>
              <a:tblGrid>
                <a:gridCol w="749160"/>
                <a:gridCol w="1187280"/>
                <a:gridCol w="325440"/>
                <a:gridCol w="325440"/>
                <a:gridCol w="324000"/>
                <a:gridCol w="325440"/>
                <a:gridCol w="325440"/>
                <a:gridCol w="374760"/>
                <a:gridCol w="325440"/>
                <a:gridCol w="323640"/>
                <a:gridCol w="374760"/>
                <a:gridCol w="376200"/>
                <a:gridCol w="374760"/>
                <a:gridCol w="399960"/>
                <a:gridCol w="549360"/>
                <a:gridCol w="550800"/>
                <a:gridCol w="549360"/>
                <a:gridCol w="566640"/>
                <a:gridCol w="512640"/>
              </a:tblGrid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 ← r +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  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 (H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HL) ← (HL) +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 (IX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X+d) ← (IX+d) +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 (IY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Y+d) ← (IY+d) +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← s -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is any of r, (HL), (IX+d), (IY+d) as shown for INC. Same format and states as INC.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lace 100 with 101 in OP co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11280" y="5516640"/>
          <a:ext cx="7848360" cy="647640"/>
        </p:xfrm>
        <a:graphic>
          <a:graphicData uri="http://schemas.openxmlformats.org/drawingml/2006/table">
            <a:tbl>
              <a:tblPr/>
              <a:tblGrid>
                <a:gridCol w="865080"/>
                <a:gridCol w="698328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V symbol in the P/V flag column indicates that the P/V flag contains the overflow of the result of the operation. Similarly the P symbol indicates parity.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= 1 means overflow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= 0 means not overflow. P = 1 means parity of the result is even.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= 0 means parity of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result is od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0" y="1731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-BIT ARITHMETIC AND LOGICAL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96920" y="824040"/>
          <a:ext cx="8750160" cy="4765680"/>
        </p:xfrm>
        <a:graphic>
          <a:graphicData uri="http://schemas.openxmlformats.org/drawingml/2006/table">
            <a:tbl>
              <a:tblPr/>
              <a:tblGrid>
                <a:gridCol w="787320"/>
                <a:gridCol w="1244520"/>
                <a:gridCol w="317520"/>
                <a:gridCol w="317520"/>
                <a:gridCol w="317520"/>
                <a:gridCol w="317520"/>
                <a:gridCol w="317520"/>
                <a:gridCol w="380880"/>
                <a:gridCol w="317520"/>
                <a:gridCol w="317520"/>
                <a:gridCol w="381240"/>
                <a:gridCol w="406080"/>
                <a:gridCol w="381240"/>
                <a:gridCol w="380880"/>
                <a:gridCol w="558720"/>
                <a:gridCol w="559080"/>
                <a:gridCol w="558720"/>
                <a:gridCol w="444240"/>
                <a:gridCol w="444600"/>
              </a:tblGrid>
              <a:tr h="173520"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HL,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+ 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C HL,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+ ss + C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BC HL,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- ss - C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IX,p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 ← IX + p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IY,r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 ← IY + p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 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 ← ss +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 as abo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 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 ← IX +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 I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 ← IY +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 ← ss -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 as abo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 ← IX +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I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 ← IY +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54200" y="5661000"/>
          <a:ext cx="7705440" cy="692280"/>
        </p:xfrm>
        <a:graphic>
          <a:graphicData uri="http://schemas.openxmlformats.org/drawingml/2006/table">
            <a:tbl>
              <a:tblPr/>
              <a:tblGrid>
                <a:gridCol w="763560"/>
                <a:gridCol w="6941880"/>
              </a:tblGrid>
              <a:tr h="696240"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 is any of the register pairs BC, DE, HL, S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 is any of the register pairs BC, DE, IX, S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r is any of the register pairs BC, DE, IY, SP.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0" y="1731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-BIT ARITHMETIC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01:41:53Z</dcterms:created>
  <dc:creator>Patricio Catalán</dc:creator>
  <dc:description/>
  <dc:language>en-US</dc:language>
  <cp:lastModifiedBy>Patricio Catalan</cp:lastModifiedBy>
  <dcterms:modified xsi:type="dcterms:W3CDTF">2007-08-13T02:44:08Z</dcterms:modified>
  <cp:revision>3</cp:revision>
  <dc:subject/>
  <dc:title>Diapositiva 1</dc:title>
</cp:coreProperties>
</file>