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BC917-ED0A-497C-AC26-98E29AAA0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96BFE-2116-4E0F-B33C-D1EEF2C92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61474-B077-473B-BE14-5A25D9A9B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23AC1-4484-4BFD-8E83-EEBA751EA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8D922-8DD6-4DB7-8D56-FCA1561DA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56F32-A322-4A2E-85C9-9801F9016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2871C-C7A2-4F5B-8AD5-5E124FBCB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32BA5-2799-450D-8992-51650F048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8A39C-FD9B-4EEB-8206-C30FEA158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7B1DD-D01A-434F-A3D4-ED34DB8CB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A8128-A028-46B8-99E7-6385EC322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DC8A2-FF72-413C-928B-C3DD076F6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8AFB4-256E-4DEB-B362-93098AC73F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708360" y="3141720"/>
            <a:ext cx="1789200" cy="11350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.P.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588000" y="3124080"/>
            <a:ext cx="1789200" cy="1135080"/>
          </a:xfrm>
          <a:prstGeom prst="rect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ali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755640" y="3124080"/>
            <a:ext cx="1789200" cy="1135080"/>
          </a:xfrm>
          <a:prstGeom prst="rect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tr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708360" y="1125360"/>
            <a:ext cx="1789200" cy="1135080"/>
          </a:xfrm>
          <a:prstGeom prst="rect">
            <a:avLst/>
          </a:prstGeom>
          <a:noFill/>
          <a:ln w="255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emoria Princip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708360" y="5140440"/>
            <a:ext cx="1789200" cy="1135080"/>
          </a:xfrm>
          <a:prstGeom prst="rect">
            <a:avLst/>
          </a:prstGeom>
          <a:noFill/>
          <a:ln w="255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emoria Secunda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556000" y="3502080"/>
            <a:ext cx="1152360" cy="431640"/>
          </a:xfrm>
          <a:prstGeom prst="rightArrow">
            <a:avLst>
              <a:gd name="adj1" fmla="val 50000"/>
              <a:gd name="adj2" fmla="val 6674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508720" y="3502080"/>
            <a:ext cx="1079280" cy="431640"/>
          </a:xfrm>
          <a:prstGeom prst="rightArrow">
            <a:avLst>
              <a:gd name="adj1" fmla="val 50000"/>
              <a:gd name="adj2" fmla="val 6251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rot="16200000">
            <a:off x="3708360" y="2493720"/>
            <a:ext cx="863640" cy="431640"/>
          </a:xfrm>
          <a:prstGeom prst="rightArrow">
            <a:avLst>
              <a:gd name="adj1" fmla="val 50000"/>
              <a:gd name="adj2" fmla="val 5002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rot="16200000">
            <a:off x="3707640" y="4509000"/>
            <a:ext cx="865080" cy="431640"/>
          </a:xfrm>
          <a:prstGeom prst="rightArrow">
            <a:avLst>
              <a:gd name="adj1" fmla="val 50000"/>
              <a:gd name="adj2" fmla="val 5010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 rot="5400000">
            <a:off x="4572000" y="2493000"/>
            <a:ext cx="863640" cy="431640"/>
          </a:xfrm>
          <a:prstGeom prst="rightArrow">
            <a:avLst>
              <a:gd name="adj1" fmla="val 50000"/>
              <a:gd name="adj2" fmla="val 5002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 rot="5400000">
            <a:off x="4571280" y="4508280"/>
            <a:ext cx="865080" cy="431640"/>
          </a:xfrm>
          <a:prstGeom prst="rightArrow">
            <a:avLst>
              <a:gd name="adj1" fmla="val 50000"/>
              <a:gd name="adj2" fmla="val 5010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9600" cy="77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RQUITECTURA DE VON NEUMAN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6446880"/>
            <a:ext cx="9144000" cy="36828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1c388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EL54B, </a:t>
            </a: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Sistemas para el Procesamiento de la Informació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86000" y="260280"/>
            <a:ext cx="46483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000000"/>
                </a:solidFill>
                <a:uFillTx/>
                <a:latin typeface="Arial"/>
              </a:rPr>
              <a:t>MEMORIA - ST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58920" y="1920960"/>
            <a:ext cx="2009880" cy="2916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258920" y="2568600"/>
            <a:ext cx="201132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68360" y="2568600"/>
            <a:ext cx="1800" cy="3888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2268360" y="4440240"/>
            <a:ext cx="1800" cy="388800"/>
          </a:xfrm>
          <a:prstGeom prst="line">
            <a:avLst/>
          </a:prstGeom>
          <a:ln w="255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6560" y="1811160"/>
            <a:ext cx="77976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0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1280" y="4800600"/>
            <a:ext cx="119880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ØFFFF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692360" y="4152960"/>
            <a:ext cx="119844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9966"/>
                </a:solidFill>
                <a:latin typeface="Arial"/>
              </a:rPr>
              <a:t>ST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332000" y="2963880"/>
            <a:ext cx="187164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Arial"/>
              </a:rPr>
              <a:t>PROGRAM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476360" y="1920960"/>
            <a:ext cx="168588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3300"/>
                </a:solidFill>
                <a:latin typeface="Arial"/>
              </a:rPr>
              <a:t>S.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348000" y="2136600"/>
            <a:ext cx="324000" cy="23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EMO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500720" y="2395440"/>
            <a:ext cx="720720" cy="935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53080" y="2971800"/>
            <a:ext cx="720720" cy="93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804000" y="3473280"/>
            <a:ext cx="720720" cy="935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956720" y="3978360"/>
            <a:ext cx="720720" cy="93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429080" y="2028960"/>
            <a:ext cx="9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3300"/>
                </a:solidFill>
                <a:latin typeface="Arial"/>
              </a:rPr>
              <a:t>P.Pr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581800" y="2538360"/>
            <a:ext cx="9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3300"/>
                </a:solidFill>
                <a:latin typeface="Arial"/>
              </a:rPr>
              <a:t>RU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734160" y="3041640"/>
            <a:ext cx="9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3300"/>
                </a:solidFill>
                <a:latin typeface="Arial"/>
              </a:rPr>
              <a:t>RU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885080" y="3544920"/>
            <a:ext cx="9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3300"/>
                </a:solidFill>
                <a:latin typeface="Arial"/>
              </a:rPr>
              <a:t>RU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29080" y="2611440"/>
            <a:ext cx="936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300" spc="-1" strike="noStrike">
                <a:solidFill>
                  <a:srgbClr val="339966"/>
                </a:solidFill>
                <a:latin typeface="Arial"/>
              </a:rPr>
              <a:t>CALL 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80000" y="3187800"/>
            <a:ext cx="936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300" spc="-1" strike="noStrike">
                <a:solidFill>
                  <a:srgbClr val="339966"/>
                </a:solidFill>
                <a:latin typeface="Arial"/>
              </a:rPr>
              <a:t>CALL 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732720" y="3689280"/>
            <a:ext cx="9363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300" spc="-1" strike="noStrike">
                <a:solidFill>
                  <a:srgbClr val="339966"/>
                </a:solidFill>
                <a:latin typeface="Arial"/>
              </a:rPr>
              <a:t>CALL 3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883640" y="4624560"/>
            <a:ext cx="9363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300" spc="-1" strike="noStrike">
                <a:solidFill>
                  <a:srgbClr val="333399"/>
                </a:solidFill>
                <a:latin typeface="Arial"/>
              </a:rPr>
              <a:t>RET. 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732720" y="4121280"/>
            <a:ext cx="9363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300" spc="-1" strike="noStrike">
                <a:solidFill>
                  <a:srgbClr val="333399"/>
                </a:solidFill>
                <a:latin typeface="Arial"/>
              </a:rPr>
              <a:t>RET. 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580000" y="3619440"/>
            <a:ext cx="936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300" spc="-1" strike="noStrike">
                <a:solidFill>
                  <a:srgbClr val="333399"/>
                </a:solidFill>
                <a:latin typeface="Arial"/>
              </a:rPr>
              <a:t>RET. 3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427640" y="3043080"/>
            <a:ext cx="9363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300" spc="-1" strike="noStrike">
                <a:solidFill>
                  <a:srgbClr val="333399"/>
                </a:solidFill>
                <a:latin typeface="Arial"/>
              </a:rPr>
              <a:t>EN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221440" y="2755800"/>
            <a:ext cx="790560" cy="216000"/>
          </a:xfrm>
          <a:prstGeom prst="line">
            <a:avLst/>
          </a:prstGeom>
          <a:ln w="25560">
            <a:solidFill>
              <a:srgbClr val="ff33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372360" y="3330720"/>
            <a:ext cx="790560" cy="144360"/>
          </a:xfrm>
          <a:prstGeom prst="line">
            <a:avLst/>
          </a:prstGeom>
          <a:ln w="25560">
            <a:solidFill>
              <a:srgbClr val="ff33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524720" y="3835440"/>
            <a:ext cx="792360" cy="144360"/>
          </a:xfrm>
          <a:prstGeom prst="line">
            <a:avLst/>
          </a:prstGeom>
          <a:ln w="25560">
            <a:solidFill>
              <a:srgbClr val="ff33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76" idx="2"/>
            <a:endCxn id="75" idx="1"/>
          </p:cNvCxnSpPr>
          <p:nvPr/>
        </p:nvCxnSpPr>
        <p:spPr>
          <a:xfrm flipV="1" rot="16200000">
            <a:off x="7002000" y="3564720"/>
            <a:ext cx="1080360" cy="1620000"/>
          </a:xfrm>
          <a:prstGeom prst="curvedConnector5">
            <a:avLst>
              <a:gd name="adj1" fmla="val -21166"/>
              <a:gd name="adj2" fmla="val 57057"/>
              <a:gd name="adj3" fmla="val -21166"/>
            </a:avLst>
          </a:prstGeom>
          <a:ln w="25560">
            <a:solidFill>
              <a:srgbClr val="ff3300"/>
            </a:solidFill>
            <a:miter/>
            <a:tailEnd len="med" type="triangle" w="lg"/>
          </a:ln>
        </p:spPr>
      </p:cxnSp>
      <p:cxnSp>
        <p:nvCxnSpPr>
          <p:cNvPr id="84" name=""/>
          <p:cNvCxnSpPr>
            <a:stCxn id="77" idx="2"/>
            <a:endCxn id="74" idx="1"/>
          </p:cNvCxnSpPr>
          <p:nvPr/>
        </p:nvCxnSpPr>
        <p:spPr>
          <a:xfrm flipV="1" rot="16200000">
            <a:off x="5851080" y="3061440"/>
            <a:ext cx="1078560" cy="1621800"/>
          </a:xfrm>
          <a:prstGeom prst="curvedConnector5">
            <a:avLst>
              <a:gd name="adj1" fmla="val -21202"/>
              <a:gd name="adj2" fmla="val 57038"/>
              <a:gd name="adj3" fmla="val -21202"/>
            </a:avLst>
          </a:prstGeom>
          <a:ln w="25560">
            <a:solidFill>
              <a:srgbClr val="ff3300"/>
            </a:solidFill>
            <a:miter/>
            <a:tailEnd len="med" type="triangle" w="lg"/>
          </a:ln>
        </p:spPr>
      </p:cxnSp>
      <p:cxnSp>
        <p:nvCxnSpPr>
          <p:cNvPr id="85" name=""/>
          <p:cNvCxnSpPr>
            <a:stCxn id="78" idx="2"/>
            <a:endCxn id="73" idx="1"/>
          </p:cNvCxnSpPr>
          <p:nvPr/>
        </p:nvCxnSpPr>
        <p:spPr>
          <a:xfrm flipV="1" rot="16200000">
            <a:off x="4662360" y="2523240"/>
            <a:ext cx="1152720" cy="1620000"/>
          </a:xfrm>
          <a:prstGeom prst="curvedConnector5">
            <a:avLst>
              <a:gd name="adj1" fmla="val -19837"/>
              <a:gd name="adj2" fmla="val 57057"/>
              <a:gd name="adj3" fmla="val -19837"/>
            </a:avLst>
          </a:prstGeom>
          <a:ln w="25560">
            <a:solidFill>
              <a:srgbClr val="ff3300"/>
            </a:solidFill>
            <a:miter/>
            <a:tailEnd len="med" type="triangle" w="lg"/>
          </a:ln>
        </p:spPr>
      </p:cxnSp>
      <p:sp>
        <p:nvSpPr>
          <p:cNvPr id="86" name=""/>
          <p:cNvSpPr/>
          <p:nvPr/>
        </p:nvSpPr>
        <p:spPr>
          <a:xfrm>
            <a:off x="0" y="6446880"/>
            <a:ext cx="9144000" cy="36828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1c388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EL54B, </a:t>
            </a: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Sistemas para el Procesamiento de la Informació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059280" y="620640"/>
            <a:ext cx="2736720" cy="5761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564000" y="2637000"/>
            <a:ext cx="180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Z - 8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rot="11143800">
            <a:off x="4219920" y="435600"/>
            <a:ext cx="474480" cy="474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541" y="14174"/>
                </a:moveTo>
                <a:arcTo wR="10800" hR="10800" stAng="9707773" swAng="12328334"/>
                <a:lnTo>
                  <a:pt x="10800" y="10800"/>
                </a:lnTo>
                <a:close/>
              </a:path>
              <a:path fill="none" w="21600" h="21600">
                <a:moveTo>
                  <a:pt x="541" y="14174"/>
                </a:moveTo>
                <a:arcTo wR="10800" hR="10800" stAng="9707773" swAng="12328334"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916360" y="2003040"/>
            <a:ext cx="64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916360" y="2290320"/>
            <a:ext cx="64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916360" y="2579400"/>
            <a:ext cx="64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16360" y="2860200"/>
            <a:ext cx="64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916360" y="3155760"/>
            <a:ext cx="64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916360" y="3436560"/>
            <a:ext cx="64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916360" y="3723840"/>
            <a:ext cx="64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916360" y="4012920"/>
            <a:ext cx="64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916360" y="4300200"/>
            <a:ext cx="64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916360" y="4589280"/>
            <a:ext cx="64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916360" y="4882680"/>
            <a:ext cx="64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916360" y="5165280"/>
            <a:ext cx="64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916360" y="5452560"/>
            <a:ext cx="64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916360" y="5740200"/>
            <a:ext cx="64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916360" y="6028920"/>
            <a:ext cx="64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16360" y="1714320"/>
            <a:ext cx="64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916360" y="1426680"/>
            <a:ext cx="64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16360" y="1139400"/>
            <a:ext cx="64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916360" y="842760"/>
            <a:ext cx="64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916360" y="595080"/>
            <a:ext cx="64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292720" y="2003040"/>
            <a:ext cx="64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292720" y="2290320"/>
            <a:ext cx="64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292720" y="2579400"/>
            <a:ext cx="64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292720" y="2860200"/>
            <a:ext cx="64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292720" y="3155760"/>
            <a:ext cx="64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292720" y="3436560"/>
            <a:ext cx="64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292720" y="3723840"/>
            <a:ext cx="64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292720" y="4012920"/>
            <a:ext cx="64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292720" y="4300200"/>
            <a:ext cx="64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292720" y="4589280"/>
            <a:ext cx="64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292720" y="4882680"/>
            <a:ext cx="64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292720" y="5165280"/>
            <a:ext cx="64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292720" y="5452560"/>
            <a:ext cx="64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292720" y="5740200"/>
            <a:ext cx="64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292720" y="6028920"/>
            <a:ext cx="64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292720" y="1714320"/>
            <a:ext cx="64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292720" y="1426680"/>
            <a:ext cx="64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292720" y="1139400"/>
            <a:ext cx="64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292720" y="842760"/>
            <a:ext cx="64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292720" y="595080"/>
            <a:ext cx="64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796000" y="765000"/>
            <a:ext cx="431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796000" y="981000"/>
            <a:ext cx="431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96000" y="1268280"/>
            <a:ext cx="431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796000" y="1557360"/>
            <a:ext cx="431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796000" y="1844640"/>
            <a:ext cx="431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796000" y="2133720"/>
            <a:ext cx="431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796000" y="2421000"/>
            <a:ext cx="431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796000" y="2708280"/>
            <a:ext cx="431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796000" y="2997360"/>
            <a:ext cx="431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796000" y="3284640"/>
            <a:ext cx="431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96000" y="3573360"/>
            <a:ext cx="431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796000" y="3860640"/>
            <a:ext cx="431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796000" y="4149720"/>
            <a:ext cx="431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796000" y="4437000"/>
            <a:ext cx="431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796000" y="4726080"/>
            <a:ext cx="431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796000" y="5013360"/>
            <a:ext cx="431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96000" y="5300640"/>
            <a:ext cx="431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796000" y="5589720"/>
            <a:ext cx="431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796000" y="5877000"/>
            <a:ext cx="431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796000" y="6165720"/>
            <a:ext cx="431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627280" y="765000"/>
            <a:ext cx="432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627280" y="981000"/>
            <a:ext cx="432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627280" y="1268280"/>
            <a:ext cx="432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627280" y="1557360"/>
            <a:ext cx="432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627280" y="1844640"/>
            <a:ext cx="432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627280" y="2133720"/>
            <a:ext cx="432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627280" y="2421000"/>
            <a:ext cx="432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627280" y="2708280"/>
            <a:ext cx="432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627280" y="2997360"/>
            <a:ext cx="432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627280" y="3284640"/>
            <a:ext cx="432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627280" y="3573360"/>
            <a:ext cx="432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627280" y="3860640"/>
            <a:ext cx="432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627280" y="4149720"/>
            <a:ext cx="432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627280" y="4437000"/>
            <a:ext cx="432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627280" y="4726080"/>
            <a:ext cx="432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627280" y="5013360"/>
            <a:ext cx="432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27280" y="5300640"/>
            <a:ext cx="432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627280" y="5589720"/>
            <a:ext cx="432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627280" y="5877000"/>
            <a:ext cx="432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627280" y="6165720"/>
            <a:ext cx="432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908000" y="2003040"/>
            <a:ext cx="64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CL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908000" y="2290320"/>
            <a:ext cx="64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D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908000" y="2579400"/>
            <a:ext cx="64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D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908000" y="2860200"/>
            <a:ext cx="64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D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908000" y="3155760"/>
            <a:ext cx="64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D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908000" y="3436560"/>
            <a:ext cx="64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+5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908000" y="3723840"/>
            <a:ext cx="64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D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908000" y="4012920"/>
            <a:ext cx="64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D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908000" y="4300200"/>
            <a:ext cx="64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D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908000" y="4589280"/>
            <a:ext cx="64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D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908000" y="4882680"/>
            <a:ext cx="64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908000" y="5165280"/>
            <a:ext cx="64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NM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763640" y="5452560"/>
            <a:ext cx="79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HAL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92360" y="5740200"/>
            <a:ext cx="93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MREQ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763640" y="6028920"/>
            <a:ext cx="8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IORQ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908000" y="1714320"/>
            <a:ext cx="64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A1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908000" y="1426680"/>
            <a:ext cx="64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A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8000" y="1139400"/>
            <a:ext cx="64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A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908000" y="842760"/>
            <a:ext cx="64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A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908000" y="595080"/>
            <a:ext cx="64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A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00720" y="2003040"/>
            <a:ext cx="64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A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300720" y="2290320"/>
            <a:ext cx="64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A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300720" y="2579400"/>
            <a:ext cx="64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A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300720" y="2860200"/>
            <a:ext cx="64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00720" y="3155760"/>
            <a:ext cx="64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300720" y="3436560"/>
            <a:ext cx="64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A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300720" y="3723840"/>
            <a:ext cx="79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G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300720" y="4012920"/>
            <a:ext cx="8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RFS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300720" y="4292280"/>
            <a:ext cx="64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M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300720" y="4589280"/>
            <a:ext cx="100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RES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300720" y="4868640"/>
            <a:ext cx="115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BUS REQ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300720" y="5157360"/>
            <a:ext cx="79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WA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227640" y="5444640"/>
            <a:ext cx="122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BUS A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56360" y="5733720"/>
            <a:ext cx="93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W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156360" y="6021000"/>
            <a:ext cx="8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300720" y="1714320"/>
            <a:ext cx="64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A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00720" y="1426680"/>
            <a:ext cx="64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A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300720" y="1139400"/>
            <a:ext cx="64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A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300720" y="842760"/>
            <a:ext cx="64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A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300720" y="595080"/>
            <a:ext cx="64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A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6446160"/>
            <a:ext cx="9144000" cy="36828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1c388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EL54B, </a:t>
            </a: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Sistemas para el Procesamiento de la Informació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5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PU    Z-8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908000" y="3429000"/>
            <a:ext cx="648000" cy="360360"/>
          </a:xfrm>
          <a:prstGeom prst="ellipse">
            <a:avLst/>
          </a:prstGeom>
          <a:noFill/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908000" y="1989000"/>
            <a:ext cx="648000" cy="360360"/>
          </a:xfrm>
          <a:prstGeom prst="ellipse">
            <a:avLst/>
          </a:prstGeom>
          <a:noFill/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372360" y="3716280"/>
            <a:ext cx="647640" cy="360360"/>
          </a:xfrm>
          <a:prstGeom prst="ellipse">
            <a:avLst/>
          </a:prstGeom>
          <a:noFill/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050920" y="4941720"/>
            <a:ext cx="360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050920" y="5229360"/>
            <a:ext cx="360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908000" y="5516640"/>
            <a:ext cx="503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908000" y="5805360"/>
            <a:ext cx="503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908000" y="6093000"/>
            <a:ext cx="576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445080" y="6093000"/>
            <a:ext cx="287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443640" y="5805360"/>
            <a:ext cx="360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372360" y="5516640"/>
            <a:ext cx="936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443640" y="4941720"/>
            <a:ext cx="865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443640" y="5229360"/>
            <a:ext cx="504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443640" y="4653000"/>
            <a:ext cx="6494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443640" y="4076640"/>
            <a:ext cx="576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443640" y="4365720"/>
            <a:ext cx="289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3203640" y="836640"/>
            <a:ext cx="2952720" cy="5545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997440" y="2781360"/>
            <a:ext cx="143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Z - 8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203640" y="830160"/>
            <a:ext cx="8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M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203640" y="1119240"/>
            <a:ext cx="8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MREQ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203640" y="1413000"/>
            <a:ext cx="8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IORQ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205080" y="1652760"/>
            <a:ext cx="8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203640" y="1941480"/>
            <a:ext cx="8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W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203640" y="2300400"/>
            <a:ext cx="8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RFS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203640" y="2997360"/>
            <a:ext cx="8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HAL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203640" y="3290760"/>
            <a:ext cx="8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WA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203640" y="3597120"/>
            <a:ext cx="8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203640" y="3862440"/>
            <a:ext cx="8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NM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203640" y="4221000"/>
            <a:ext cx="8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RES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203640" y="4869000"/>
            <a:ext cx="115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BUS REQ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203640" y="5157720"/>
            <a:ext cx="10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BUS A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203640" y="5518080"/>
            <a:ext cx="8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CL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03640" y="5734080"/>
            <a:ext cx="8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+ 5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203640" y="5973840"/>
            <a:ext cx="8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G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2771640" y="981000"/>
            <a:ext cx="395280" cy="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>
            <a:off x="2771640" y="1270080"/>
            <a:ext cx="395280" cy="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>
            <a:off x="2771640" y="1557360"/>
            <a:ext cx="395280" cy="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H="1">
            <a:off x="2771640" y="1844640"/>
            <a:ext cx="395280" cy="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2771640" y="2062080"/>
            <a:ext cx="395280" cy="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flipH="1">
            <a:off x="2771640" y="2494080"/>
            <a:ext cx="395280" cy="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2771640" y="3141720"/>
            <a:ext cx="395280" cy="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2771640" y="5302080"/>
            <a:ext cx="395280" cy="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771640" y="5013360"/>
            <a:ext cx="395280" cy="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771640" y="5662440"/>
            <a:ext cx="395280" cy="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771640" y="5878440"/>
            <a:ext cx="395280" cy="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771640" y="6094440"/>
            <a:ext cx="395280" cy="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771640" y="3429000"/>
            <a:ext cx="395280" cy="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771640" y="3718080"/>
            <a:ext cx="395280" cy="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771640" y="4005360"/>
            <a:ext cx="395280" cy="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71640" y="4365720"/>
            <a:ext cx="395280" cy="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268360" y="836640"/>
            <a:ext cx="287640" cy="1800360"/>
          </a:xfrm>
          <a:custGeom>
            <a:avLst/>
            <a:gdLst>
              <a:gd name="textAreaLeft" fmla="*/ 183960 w 287640"/>
              <a:gd name="textAreaRight" fmla="*/ 288000 w 287640"/>
              <a:gd name="textAreaTop" fmla="*/ 46800 h 1800360"/>
              <a:gd name="textAreaBottom" fmla="*/ 1753560 h 180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268360" y="2997360"/>
            <a:ext cx="287640" cy="1512720"/>
          </a:xfrm>
          <a:custGeom>
            <a:avLst/>
            <a:gdLst>
              <a:gd name="textAreaLeft" fmla="*/ 183960 w 287640"/>
              <a:gd name="textAreaRight" fmla="*/ 288000 w 287640"/>
              <a:gd name="textAreaTop" fmla="*/ 39240 h 1512720"/>
              <a:gd name="textAreaBottom" fmla="*/ 1473480 h 151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268360" y="4870440"/>
            <a:ext cx="287640" cy="577800"/>
          </a:xfrm>
          <a:custGeom>
            <a:avLst/>
            <a:gdLst>
              <a:gd name="textAreaLeft" fmla="*/ 183960 w 287640"/>
              <a:gd name="textAreaRight" fmla="*/ 288000 w 287640"/>
              <a:gd name="textAreaTop" fmla="*/ 14760 h 577800"/>
              <a:gd name="textAreaBottom" fmla="*/ 563040 h 577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11280" y="1054080"/>
            <a:ext cx="17287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SISTE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11280" y="3370320"/>
            <a:ext cx="1728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11280" y="4803840"/>
            <a:ext cx="17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ONTROL B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192720" y="981000"/>
            <a:ext cx="395280" cy="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192720" y="4005360"/>
            <a:ext cx="395280" cy="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6156360" y="4797360"/>
            <a:ext cx="43164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156360" y="6021360"/>
            <a:ext cx="43164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156360" y="981000"/>
            <a:ext cx="79200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A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156360" y="4005360"/>
            <a:ext cx="119844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A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661080" y="981000"/>
            <a:ext cx="287280" cy="3024360"/>
          </a:xfrm>
          <a:custGeom>
            <a:avLst/>
            <a:gdLst>
              <a:gd name="textAreaLeft" fmla="*/ 0 w 287280"/>
              <a:gd name="textAreaRight" fmla="*/ 103680 w 287280"/>
              <a:gd name="textAreaTop" fmla="*/ 78840 h 3024360"/>
              <a:gd name="textAreaBottom" fmla="*/ 2945520 h 302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661080" y="4724280"/>
            <a:ext cx="216000" cy="1370160"/>
          </a:xfrm>
          <a:custGeom>
            <a:avLst/>
            <a:gdLst>
              <a:gd name="textAreaLeft" fmla="*/ 0 w 216000"/>
              <a:gd name="textAreaRight" fmla="*/ 78120 w 216000"/>
              <a:gd name="textAreaTop" fmla="*/ 35640 h 1370160"/>
              <a:gd name="textAreaBottom" fmla="*/ 1334520 h 13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156360" y="4800600"/>
            <a:ext cx="79200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D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156360" y="6021360"/>
            <a:ext cx="79200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D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732720" y="2133720"/>
            <a:ext cx="1800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B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6661080" y="5162400"/>
            <a:ext cx="1800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B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156360" y="1341360"/>
            <a:ext cx="57636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0" y="6446880"/>
            <a:ext cx="9144000" cy="36828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1c388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EL54B, </a:t>
            </a: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Sistemas para el Procesamiento de la Informació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PU   Z-8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276720" y="907920"/>
            <a:ext cx="287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276720" y="1197000"/>
            <a:ext cx="5745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3276720" y="1484280"/>
            <a:ext cx="5745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276720" y="1700280"/>
            <a:ext cx="287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276720" y="1989000"/>
            <a:ext cx="3585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276720" y="2349360"/>
            <a:ext cx="5745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276720" y="3068640"/>
            <a:ext cx="503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276720" y="3357720"/>
            <a:ext cx="503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276720" y="3645000"/>
            <a:ext cx="3585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276720" y="3933720"/>
            <a:ext cx="3585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276720" y="4292640"/>
            <a:ext cx="647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276720" y="4941720"/>
            <a:ext cx="934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276720" y="5229360"/>
            <a:ext cx="934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1332000" y="836640"/>
            <a:ext cx="3816360" cy="5472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1547640" y="959760"/>
            <a:ext cx="1297080" cy="36828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A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635280" y="959760"/>
            <a:ext cx="1297080" cy="36828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M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547640" y="1771560"/>
            <a:ext cx="3384720" cy="432000"/>
          </a:xfrm>
          <a:prstGeom prst="rect">
            <a:avLst/>
          </a:prstGeom>
          <a:noFill/>
          <a:ln w="255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9966"/>
                </a:solidFill>
                <a:latin typeface="Arial"/>
              </a:rPr>
              <a:t>CIRC. ARIT. Y LO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981080" y="1339920"/>
            <a:ext cx="0" cy="431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V="1">
            <a:off x="2413080" y="1339560"/>
            <a:ext cx="0" cy="431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844720" y="1052640"/>
            <a:ext cx="7923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 flipH="1">
            <a:off x="2844360" y="1195560"/>
            <a:ext cx="7923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2557440" y="2637000"/>
            <a:ext cx="1297080" cy="4316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D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989440" y="2205000"/>
            <a:ext cx="0" cy="432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 flipV="1">
            <a:off x="3421080" y="2205000"/>
            <a:ext cx="0" cy="432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1547640" y="3500280"/>
            <a:ext cx="1297080" cy="43200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3635280" y="3500280"/>
            <a:ext cx="1297080" cy="432000"/>
          </a:xfrm>
          <a:prstGeom prst="rect">
            <a:avLst/>
          </a:prstGeom>
          <a:noFill/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3300"/>
                </a:solidFill>
                <a:latin typeface="Arial"/>
              </a:rPr>
              <a:t>P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557440" y="4437000"/>
            <a:ext cx="1297080" cy="43200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2197080" y="3284640"/>
            <a:ext cx="0" cy="215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284720" y="3284640"/>
            <a:ext cx="0" cy="215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97080" y="3284640"/>
            <a:ext cx="792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421080" y="3284640"/>
            <a:ext cx="863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205080" y="3068640"/>
            <a:ext cx="0" cy="1368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 flipV="1">
            <a:off x="2989440" y="3068640"/>
            <a:ext cx="0" cy="21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 flipV="1">
            <a:off x="3421080" y="3068640"/>
            <a:ext cx="0" cy="21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V="1">
            <a:off x="4284720" y="3932280"/>
            <a:ext cx="0" cy="21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H="1">
            <a:off x="3204720" y="4148280"/>
            <a:ext cx="1079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476360" y="5300640"/>
            <a:ext cx="1368360" cy="792360"/>
          </a:xfrm>
          <a:prstGeom prst="rect">
            <a:avLst/>
          </a:prstGeom>
          <a:noFill/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3300"/>
                </a:solidFill>
                <a:latin typeface="Arial"/>
              </a:rPr>
              <a:t>CIRC. DE 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2844720" y="5372280"/>
            <a:ext cx="287280" cy="0"/>
          </a:xfrm>
          <a:prstGeom prst="line">
            <a:avLst/>
          </a:prstGeom>
          <a:ln w="255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2844720" y="5516640"/>
            <a:ext cx="287280" cy="0"/>
          </a:xfrm>
          <a:prstGeom prst="line">
            <a:avLst/>
          </a:prstGeom>
          <a:ln w="255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844720" y="5661000"/>
            <a:ext cx="287280" cy="0"/>
          </a:xfrm>
          <a:prstGeom prst="line">
            <a:avLst/>
          </a:prstGeom>
          <a:ln w="255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844720" y="6019920"/>
            <a:ext cx="287280" cy="0"/>
          </a:xfrm>
          <a:prstGeom prst="line">
            <a:avLst/>
          </a:prstGeom>
          <a:ln w="255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2700360" y="5732640"/>
            <a:ext cx="57636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ff3300"/>
                </a:solidFill>
                <a:latin typeface="Arial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ff3300"/>
                </a:solidFill>
                <a:latin typeface="Arial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ff3300"/>
                </a:solidFill>
                <a:latin typeface="Arial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3205080" y="5300640"/>
            <a:ext cx="142920" cy="792360"/>
          </a:xfrm>
          <a:custGeom>
            <a:avLst/>
            <a:gdLst>
              <a:gd name="textAreaLeft" fmla="*/ 0 w 142920"/>
              <a:gd name="textAreaRight" fmla="*/ 51480 w 142920"/>
              <a:gd name="textAreaTop" fmla="*/ 20520 h 792360"/>
              <a:gd name="textAreaBottom" fmla="*/ 771840 h 79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421080" y="5300640"/>
            <a:ext cx="136836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3300"/>
                </a:solidFill>
                <a:latin typeface="Arial"/>
              </a:rPr>
              <a:t>SEÑALES DE CONTR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6588000" y="1197000"/>
            <a:ext cx="1368720" cy="1224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 /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6589800" y="3573360"/>
            <a:ext cx="1368360" cy="1224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MEMO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205080" y="4869000"/>
            <a:ext cx="0" cy="215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205080" y="5084640"/>
            <a:ext cx="4103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7308720" y="4797360"/>
            <a:ext cx="0" cy="287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H="1">
            <a:off x="3850920" y="2708280"/>
            <a:ext cx="3095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 flipH="1">
            <a:off x="3852720" y="2924280"/>
            <a:ext cx="38880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3852720" y="2997360"/>
            <a:ext cx="3095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852720" y="2781360"/>
            <a:ext cx="3888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 flipV="1">
            <a:off x="6948360" y="2421000"/>
            <a:ext cx="0" cy="287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740720" y="2924280"/>
            <a:ext cx="0" cy="649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 flipV="1">
            <a:off x="7740720" y="2420640"/>
            <a:ext cx="0" cy="360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948360" y="2997360"/>
            <a:ext cx="0" cy="576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0" y="6446880"/>
            <a:ext cx="9144000" cy="36828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1c388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EL54B, </a:t>
            </a: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Sistemas para el Procesamiento de la Informació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OMPONENTES BÁSICOS DE LA CP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2209680" y="3962520"/>
            <a:ext cx="0" cy="1371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/>
          <p:nvPr/>
        </p:nvSpPr>
        <p:spPr>
          <a:xfrm>
            <a:off x="1690560" y="2279520"/>
            <a:ext cx="1224000" cy="1024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DECO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INSTR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1546200" y="4073400"/>
            <a:ext cx="1513080" cy="1224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CPU    TIMING CONTRO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780000" y="2489040"/>
            <a:ext cx="934920" cy="700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INST.  REG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435640" y="1547640"/>
            <a:ext cx="1224000" cy="8017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INTERF. BUS DATO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7308720" y="2128680"/>
            <a:ext cx="1150920" cy="1511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ALU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64000" y="3352680"/>
            <a:ext cx="1324080" cy="6858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ARREGLO REGIST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5365800" y="4648320"/>
            <a:ext cx="1324080" cy="6858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BUFFER DIRECC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0" name=""/>
          <p:cNvCxnSpPr>
            <a:stCxn id="343" idx="2"/>
            <a:endCxn id="344" idx="0"/>
          </p:cNvCxnSpPr>
          <p:nvPr/>
        </p:nvCxnSpPr>
        <p:spPr>
          <a:xfrm>
            <a:off x="2303280" y="3316320"/>
            <a:ext cx="1080" cy="745200"/>
          </a:xfrm>
          <a:prstGeom prst="straightConnector1">
            <a:avLst/>
          </a:prstGeom>
          <a:ln w="25560">
            <a:solidFill>
              <a:srgbClr val="ff3300"/>
            </a:solidFill>
            <a:miter/>
            <a:tailEnd len="med" type="triangle" w="lg"/>
          </a:ln>
        </p:spPr>
      </p:cxnSp>
      <p:cxnSp>
        <p:nvCxnSpPr>
          <p:cNvPr id="351" name=""/>
          <p:cNvCxnSpPr>
            <a:stCxn id="348" idx="2"/>
            <a:endCxn id="349" idx="0"/>
          </p:cNvCxnSpPr>
          <p:nvPr/>
        </p:nvCxnSpPr>
        <p:spPr>
          <a:xfrm>
            <a:off x="6025680" y="4051440"/>
            <a:ext cx="2520" cy="584640"/>
          </a:xfrm>
          <a:prstGeom prst="straightConnector1">
            <a:avLst/>
          </a:prstGeom>
          <a:ln w="25560">
            <a:solidFill>
              <a:srgbClr val="ff3300"/>
            </a:solidFill>
            <a:miter/>
            <a:headEnd len="med" type="triangle" w="lg"/>
            <a:tailEnd len="med" type="triangle" w="lg"/>
          </a:ln>
        </p:spPr>
      </p:cxnSp>
      <p:sp>
        <p:nvSpPr>
          <p:cNvPr id="352" name=""/>
          <p:cNvSpPr/>
          <p:nvPr/>
        </p:nvSpPr>
        <p:spPr>
          <a:xfrm>
            <a:off x="6012000" y="1157400"/>
            <a:ext cx="0" cy="399960"/>
          </a:xfrm>
          <a:prstGeom prst="line">
            <a:avLst/>
          </a:prstGeom>
          <a:ln w="25560">
            <a:solidFill>
              <a:srgbClr val="ff33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 flipH="1">
            <a:off x="2914200" y="2846520"/>
            <a:ext cx="863640" cy="1440"/>
          </a:xfrm>
          <a:prstGeom prst="line">
            <a:avLst/>
          </a:prstGeom>
          <a:ln w="25560">
            <a:solidFill>
              <a:srgbClr val="ff33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1690560" y="5297400"/>
            <a:ext cx="0" cy="503280"/>
          </a:xfrm>
          <a:prstGeom prst="line">
            <a:avLst/>
          </a:prstGeom>
          <a:ln w="25560">
            <a:solidFill>
              <a:srgbClr val="ff33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 flipV="1">
            <a:off x="2914560" y="5297400"/>
            <a:ext cx="0" cy="463680"/>
          </a:xfrm>
          <a:prstGeom prst="line">
            <a:avLst/>
          </a:prstGeom>
          <a:ln w="25560">
            <a:solidFill>
              <a:srgbClr val="ff33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274920" y="4440240"/>
            <a:ext cx="136836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ff3300"/>
                </a:solidFill>
                <a:latin typeface="Arial"/>
              </a:rPr>
              <a:t>CPU TIMING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059280" y="4648320"/>
            <a:ext cx="512640" cy="0"/>
          </a:xfrm>
          <a:prstGeom prst="line">
            <a:avLst/>
          </a:prstGeom>
          <a:ln w="25560">
            <a:solidFill>
              <a:srgbClr val="ff33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969840" y="5800680"/>
            <a:ext cx="1368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ff3300"/>
                </a:solidFill>
                <a:latin typeface="Arial"/>
              </a:rPr>
              <a:t>OUTPUT CONTRO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2266920" y="5800680"/>
            <a:ext cx="136836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ff3300"/>
                </a:solidFill>
                <a:latin typeface="Arial"/>
              </a:rPr>
              <a:t>INPUT CONTRO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6012000" y="5329080"/>
            <a:ext cx="0" cy="400320"/>
          </a:xfrm>
          <a:prstGeom prst="line">
            <a:avLst/>
          </a:prstGeom>
          <a:ln w="25560">
            <a:solidFill>
              <a:srgbClr val="ff33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003640" y="5729400"/>
            <a:ext cx="208764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ff3300"/>
                </a:solidFill>
                <a:latin typeface="Arial"/>
              </a:rPr>
              <a:t>BUS DE DIRECC.  16 BIT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6012000" y="981000"/>
            <a:ext cx="20160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ff3300"/>
                </a:solidFill>
                <a:latin typeface="Arial"/>
              </a:rPr>
              <a:t>BUS DE DATOS  8 BIT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4714920" y="2847960"/>
            <a:ext cx="2592360" cy="0"/>
          </a:xfrm>
          <a:prstGeom prst="line">
            <a:avLst/>
          </a:prstGeom>
          <a:ln w="25560">
            <a:solidFill>
              <a:srgbClr val="ff3300"/>
            </a:solidFill>
            <a:miter/>
            <a:headEnd len="med" type="triangle" w="med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6012000" y="2349360"/>
            <a:ext cx="0" cy="1003320"/>
          </a:xfrm>
          <a:prstGeom prst="line">
            <a:avLst/>
          </a:prstGeom>
          <a:ln w="25560">
            <a:solidFill>
              <a:srgbClr val="ff33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74640" y="3208320"/>
            <a:ext cx="512640" cy="0"/>
          </a:xfrm>
          <a:prstGeom prst="line">
            <a:avLst/>
          </a:prstGeom>
          <a:ln w="255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684360" y="3567240"/>
            <a:ext cx="512640" cy="0"/>
          </a:xfrm>
          <a:prstGeom prst="line">
            <a:avLst/>
          </a:prstGeom>
          <a:ln w="255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84360" y="3927600"/>
            <a:ext cx="512640" cy="0"/>
          </a:xfrm>
          <a:prstGeom prst="line">
            <a:avLst/>
          </a:prstGeom>
          <a:ln w="255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179280" y="3208320"/>
            <a:ext cx="136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339966"/>
                </a:solidFill>
                <a:latin typeface="Arial"/>
              </a:rPr>
              <a:t>+5V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250920" y="3567240"/>
            <a:ext cx="136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339966"/>
                </a:solidFill>
                <a:latin typeface="Arial"/>
              </a:rPr>
              <a:t>GN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250920" y="3927600"/>
            <a:ext cx="136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339966"/>
                </a:solidFill>
                <a:latin typeface="Arial"/>
              </a:rPr>
              <a:t>CLK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0" y="6446880"/>
            <a:ext cx="9144000" cy="36828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1c388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EL54B, </a:t>
            </a: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Sistemas para el Procesamiento de la Informació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OMPONENTES BÁSICOS DE LA CP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5076720" y="2565360"/>
            <a:ext cx="2160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ff3300"/>
                </a:solidFill>
                <a:latin typeface="Arial"/>
              </a:rPr>
              <a:t>BUS  DATOS      INT  ERN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4" name=""/>
          <p:cNvGraphicFramePr/>
          <p:nvPr/>
        </p:nvGraphicFramePr>
        <p:xfrm>
          <a:off x="684360" y="2205000"/>
          <a:ext cx="4174920" cy="2879640"/>
        </p:xfrm>
        <a:graphic>
          <a:graphicData uri="http://schemas.openxmlformats.org/drawingml/2006/table">
            <a:tbl>
              <a:tblPr/>
              <a:tblGrid>
                <a:gridCol w="1043640"/>
                <a:gridCol w="1043640"/>
                <a:gridCol w="1043640"/>
                <a:gridCol w="1044000"/>
              </a:tblGrid>
              <a:tr h="7196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00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00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00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75" name=""/>
          <p:cNvGraphicFramePr/>
          <p:nvPr/>
        </p:nvGraphicFramePr>
        <p:xfrm>
          <a:off x="5869080" y="2205000"/>
          <a:ext cx="2519280" cy="2879640"/>
        </p:xfrm>
        <a:graphic>
          <a:graphicData uri="http://schemas.openxmlformats.org/drawingml/2006/table">
            <a:tbl>
              <a:tblPr/>
              <a:tblGrid>
                <a:gridCol w="1259640"/>
                <a:gridCol w="1259640"/>
              </a:tblGrid>
              <a:tr h="57600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600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564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600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60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6" name=""/>
          <p:cNvSpPr/>
          <p:nvPr/>
        </p:nvSpPr>
        <p:spPr>
          <a:xfrm>
            <a:off x="611280" y="5300640"/>
            <a:ext cx="115236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867280" y="5300640"/>
            <a:ext cx="129708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7280" y="1916280"/>
            <a:ext cx="252108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11280" y="5373720"/>
            <a:ext cx="115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8 B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5940360" y="5373720"/>
            <a:ext cx="11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8 B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588000" y="1484280"/>
            <a:ext cx="11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16 B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0" y="6446880"/>
            <a:ext cx="9144000" cy="36828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1c388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EL54B, </a:t>
            </a: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Sistemas para el Procesamiento de la Informació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REGISTROS DE    Z-8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533520" y="189000"/>
            <a:ext cx="82296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000000"/>
                </a:solidFill>
                <a:uFillTx/>
                <a:latin typeface="Arial"/>
              </a:rPr>
              <a:t>REGISTRO DE ESTADOS DE   Z-8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5" name=""/>
          <p:cNvGraphicFramePr/>
          <p:nvPr/>
        </p:nvGraphicFramePr>
        <p:xfrm>
          <a:off x="1523880" y="1052640"/>
          <a:ext cx="6096240" cy="1255680"/>
        </p:xfrm>
        <a:graphic>
          <a:graphicData uri="http://schemas.openxmlformats.org/drawingml/2006/table">
            <a:tbl>
              <a:tblPr/>
              <a:tblGrid>
                <a:gridCol w="762120"/>
                <a:gridCol w="762120"/>
                <a:gridCol w="761760"/>
                <a:gridCol w="762120"/>
                <a:gridCol w="762120"/>
                <a:gridCol w="761760"/>
                <a:gridCol w="762120"/>
                <a:gridCol w="762120"/>
              </a:tblGrid>
              <a:tr h="7351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/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86" name=""/>
          <p:cNvSpPr/>
          <p:nvPr/>
        </p:nvSpPr>
        <p:spPr>
          <a:xfrm>
            <a:off x="1042920" y="2455920"/>
            <a:ext cx="6840720" cy="36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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:   </a:t>
            </a:r>
            <a:r>
              <a:rPr b="0" lang="es-ES_tradnl" sz="1800" spc="-1" strike="noStrike" u="sng">
                <a:solidFill>
                  <a:srgbClr val="000000"/>
                </a:solidFill>
                <a:uFillTx/>
                <a:latin typeface="Arial"/>
              </a:rPr>
              <a:t>BIT DE ACARRE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- OP. ARITMÉT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- OP. DESPLAZAMI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- OP. COMPARACIÓN  ( A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≥ B → C = 0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- SCF  → 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- AND  → 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- OR    →  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- XOR  → 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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N:   BIT DE RES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SI LA ÚLTIMA OPERACI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Ó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N FUE UNA RESTA  N →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0" y="6446880"/>
            <a:ext cx="9144000" cy="36828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1c388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EL54B, </a:t>
            </a: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Sistemas para el Procesamiento de la Informació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380880" y="189000"/>
            <a:ext cx="81536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000000"/>
                </a:solidFill>
                <a:uFillTx/>
                <a:latin typeface="Arial"/>
              </a:rPr>
              <a:t>REGISTRO DE ESTADOS DE   Z-8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9" name=""/>
          <p:cNvGraphicFramePr/>
          <p:nvPr/>
        </p:nvGraphicFramePr>
        <p:xfrm>
          <a:off x="1547640" y="996840"/>
          <a:ext cx="6072480" cy="1193760"/>
        </p:xfrm>
        <a:graphic>
          <a:graphicData uri="http://schemas.openxmlformats.org/drawingml/2006/table">
            <a:tbl>
              <a:tblPr/>
              <a:tblGrid>
                <a:gridCol w="758880"/>
                <a:gridCol w="758880"/>
                <a:gridCol w="758880"/>
                <a:gridCol w="760320"/>
                <a:gridCol w="758880"/>
                <a:gridCol w="758880"/>
                <a:gridCol w="758880"/>
                <a:gridCol w="758880"/>
              </a:tblGrid>
              <a:tr h="6732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/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90" name=""/>
          <p:cNvSpPr/>
          <p:nvPr/>
        </p:nvSpPr>
        <p:spPr>
          <a:xfrm>
            <a:off x="538200" y="2293920"/>
            <a:ext cx="8137440" cy="41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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/V:   </a:t>
            </a:r>
            <a:r>
              <a:rPr b="0" lang="es-ES_tradnl" sz="1800" spc="-1" strike="noStrike" u="sng">
                <a:solidFill>
                  <a:srgbClr val="000000"/>
                </a:solidFill>
                <a:uFillTx/>
                <a:latin typeface="Arial"/>
              </a:rPr>
              <a:t>BIT DE PARIDAD / DESBORDAMI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- LÓGICAS O DESPLAZAMIENTO  P  ( PAR = 1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- ARITMÉTICAS O INCREMENTO  V   ( UNO SÓLO = 1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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H:     </a:t>
            </a:r>
            <a:r>
              <a:rPr b="0" lang="es-ES_tradnl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BIT DE ACARREO DE NIB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ES 1 SI HAY ACARREO ( DESBORDAMIENTO ) DEL </a:t>
            </a:r>
            <a:r>
              <a:rPr b="0" lang="es-ES_tradnl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BIT 3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 AL </a:t>
            </a:r>
            <a:r>
              <a:rPr b="0" lang="es-ES_tradnl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BI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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Z:     </a:t>
            </a:r>
            <a:r>
              <a:rPr b="0" lang="es-ES_tradnl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BIT DE NUL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ES 1 SI EL RESULTADO ES CERO EN OPERA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ARITMÉTICAS Y OPERACIONES LÓGICA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EN COMPARACIONES ES 1 SI LOS ELEMENTOS COMPAR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SON IGU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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S:    </a:t>
            </a:r>
            <a:r>
              <a:rPr b="0" lang="es-ES_tradnl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BIT DE SIG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ES 1 SI ES NEGATIVO, 0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SI ES NO NEGAT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0" y="6446880"/>
            <a:ext cx="9144000" cy="36828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1c388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EL54B, </a:t>
            </a: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Sistemas para el Procesamiento de la Informació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13T01:48:21Z</dcterms:created>
  <dc:creator>Patricio Catalán</dc:creator>
  <dc:description/>
  <dc:language>en-US</dc:language>
  <cp:lastModifiedBy>Patricio Catalan</cp:lastModifiedBy>
  <dcterms:modified xsi:type="dcterms:W3CDTF">2007-08-13T02:40:25Z</dcterms:modified>
  <cp:revision>5</cp:revision>
  <dc:subject/>
  <dc:title>Diapositiva 1</dc:title>
</cp:coreProperties>
</file>