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728-6453-40FB-9807-E75864B4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2D1-4508-4FDE-8C70-A34322AA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09C-D1BE-4772-9375-DB106C31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5FD-F511-4CBB-B9AC-7D65A2B7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A22-EEFF-4954-969B-CD31DD5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C2B-715B-4DCE-86FA-C9A3BDF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8B8-A9DE-4996-9EB8-CF74865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D64-5D1D-4B49-8DC4-8D4E0BB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851-920A-4596-A02A-605C156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FE5-BA7F-4FC0-87E8-B763980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4CB-5118-4BBE-A680-9393C3A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E31-FB9A-4D56-9B45-7DF9DDE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4E3-714F-4AA5-9DCE-880FE16DA0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981000"/>
          <a:ext cx="8291520" cy="436428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388800"/>
                <a:gridCol w="390600"/>
                <a:gridCol w="387360"/>
                <a:gridCol w="389160"/>
                <a:gridCol w="387360"/>
                <a:gridCol w="387360"/>
                <a:gridCol w="392040"/>
                <a:gridCol w="387360"/>
                <a:gridCol w="374400"/>
                <a:gridCol w="427320"/>
                <a:gridCol w="404640"/>
                <a:gridCol w="465120"/>
                <a:gridCol w="590760"/>
                <a:gridCol w="588960"/>
                <a:gridCol w="590400"/>
              </a:tblGrid>
              <a:tr h="270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0920" y="5516640"/>
          <a:ext cx="8713800" cy="760320"/>
        </p:xfrm>
        <a:graphic>
          <a:graphicData uri="http://schemas.openxmlformats.org/drawingml/2006/table">
            <a:tbl>
              <a:tblPr/>
              <a:tblGrid>
                <a:gridCol w="1015920"/>
                <a:gridCol w="654120"/>
                <a:gridCol w="652320"/>
                <a:gridCol w="558720"/>
                <a:gridCol w="648000"/>
                <a:gridCol w="647640"/>
                <a:gridCol w="649080"/>
                <a:gridCol w="647640"/>
                <a:gridCol w="3240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981000"/>
          <a:ext cx="8713800" cy="4159440"/>
        </p:xfrm>
        <a:graphic>
          <a:graphicData uri="http://schemas.openxmlformats.org/drawingml/2006/table">
            <a:tbl>
              <a:tblPr/>
              <a:tblGrid>
                <a:gridCol w="724680"/>
                <a:gridCol w="1032480"/>
                <a:gridCol w="307800"/>
                <a:gridCol w="306720"/>
                <a:gridCol w="307800"/>
                <a:gridCol w="306360"/>
                <a:gridCol w="307800"/>
                <a:gridCol w="356400"/>
                <a:gridCol w="307800"/>
                <a:gridCol w="306000"/>
                <a:gridCol w="369000"/>
                <a:gridCol w="368640"/>
                <a:gridCol w="368640"/>
                <a:gridCol w="380880"/>
                <a:gridCol w="480600"/>
                <a:gridCol w="539640"/>
                <a:gridCol w="541080"/>
                <a:gridCol w="368640"/>
                <a:gridCol w="1032840"/>
              </a:tblGrid>
              <a:tr h="231120"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cc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rue PC ← n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sign neg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4200" y="544500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06280" y="900000"/>
          <a:ext cx="8686800" cy="4765680"/>
        </p:xfrm>
        <a:graphic>
          <a:graphicData uri="http://schemas.openxmlformats.org/drawingml/2006/table">
            <a:tbl>
              <a:tblPr/>
              <a:tblGrid>
                <a:gridCol w="733320"/>
                <a:gridCol w="932040"/>
                <a:gridCol w="310680"/>
                <a:gridCol w="310680"/>
                <a:gridCol w="310320"/>
                <a:gridCol w="310680"/>
                <a:gridCol w="310680"/>
                <a:gridCol w="360360"/>
                <a:gridCol w="310680"/>
                <a:gridCol w="310680"/>
                <a:gridCol w="372960"/>
                <a:gridCol w="372960"/>
                <a:gridCol w="372600"/>
                <a:gridCol w="385200"/>
                <a:gridCol w="484920"/>
                <a:gridCol w="546840"/>
                <a:gridCol w="546480"/>
                <a:gridCol w="596880"/>
                <a:gridCol w="807840"/>
              </a:tblGrid>
              <a:tr h="195120"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C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R NZ,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1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not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Z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is m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X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P (I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NZ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=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 ≠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PC +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4200" y="5734080"/>
          <a:ext cx="7705440" cy="647640"/>
        </p:xfrm>
        <a:graphic>
          <a:graphicData uri="http://schemas.openxmlformats.org/drawingml/2006/table">
            <a:tbl>
              <a:tblPr/>
              <a:tblGrid>
                <a:gridCol w="763200"/>
                <a:gridCol w="69422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represents the extension in the relative addressing m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is a signed two's complement number in the range &lt;-126,129&gt;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2 in the op-code provides an effective address of PC+e as PC is incremented by 2 prior to the addition of 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MP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1052640"/>
          <a:ext cx="8569080" cy="4378320"/>
        </p:xfrm>
        <a:graphic>
          <a:graphicData uri="http://schemas.openxmlformats.org/drawingml/2006/table">
            <a:tbl>
              <a:tblPr/>
              <a:tblGrid>
                <a:gridCol w="898560"/>
                <a:gridCol w="901440"/>
                <a:gridCol w="401760"/>
                <a:gridCol w="399960"/>
                <a:gridCol w="401760"/>
                <a:gridCol w="401760"/>
                <a:gridCol w="401400"/>
                <a:gridCol w="401760"/>
                <a:gridCol w="401760"/>
                <a:gridCol w="401400"/>
                <a:gridCol w="416160"/>
                <a:gridCol w="414360"/>
                <a:gridCol w="414000"/>
                <a:gridCol w="487440"/>
                <a:gridCol w="606600"/>
                <a:gridCol w="610920"/>
                <a:gridCol w="6080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HL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X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X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IY+d),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Y+d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B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0920" y="5575320"/>
          <a:ext cx="8713800" cy="760320"/>
        </p:xfrm>
        <a:graphic>
          <a:graphicData uri="http://schemas.openxmlformats.org/drawingml/2006/table">
            <a:tbl>
              <a:tblPr/>
              <a:tblGrid>
                <a:gridCol w="1081080"/>
                <a:gridCol w="647640"/>
                <a:gridCol w="647640"/>
                <a:gridCol w="576360"/>
                <a:gridCol w="647640"/>
                <a:gridCol w="649440"/>
                <a:gridCol w="64764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001880"/>
          <a:ext cx="8424360" cy="4433760"/>
        </p:xfrm>
        <a:graphic>
          <a:graphicData uri="http://schemas.openxmlformats.org/drawingml/2006/table">
            <a:tbl>
              <a:tblPr/>
              <a:tblGrid>
                <a:gridCol w="884520"/>
                <a:gridCol w="884160"/>
                <a:gridCol w="396720"/>
                <a:gridCol w="390240"/>
                <a:gridCol w="398160"/>
                <a:gridCol w="393480"/>
                <a:gridCol w="394920"/>
                <a:gridCol w="393480"/>
                <a:gridCol w="398160"/>
                <a:gridCol w="393120"/>
                <a:gridCol w="407880"/>
                <a:gridCol w="406440"/>
                <a:gridCol w="407520"/>
                <a:gridCol w="481680"/>
                <a:gridCol w="594720"/>
                <a:gridCol w="599760"/>
                <a:gridCol w="59940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BC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C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DE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)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(nn)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n)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A,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I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 R,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5537160"/>
          <a:ext cx="8856720" cy="700200"/>
        </p:xfrm>
        <a:graphic>
          <a:graphicData uri="http://schemas.openxmlformats.org/drawingml/2006/table">
            <a:tbl>
              <a:tblPr/>
              <a:tblGrid>
                <a:gridCol w="1152720"/>
                <a:gridCol w="718920"/>
                <a:gridCol w="649440"/>
                <a:gridCol w="647640"/>
                <a:gridCol w="647640"/>
                <a:gridCol w="647640"/>
                <a:gridCol w="576360"/>
                <a:gridCol w="647640"/>
                <a:gridCol w="3168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 :  Regis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8440" y="981000"/>
          <a:ext cx="8547120" cy="439920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180720"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HL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dd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X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90000" rIns="9000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600" bIns="21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98440" y="907920"/>
          <a:ext cx="8547120" cy="4473720"/>
        </p:xfrm>
        <a:graphic>
          <a:graphicData uri="http://schemas.openxmlformats.org/drawingml/2006/table">
            <a:tbl>
              <a:tblPr/>
              <a:tblGrid>
                <a:gridCol w="787320"/>
                <a:gridCol w="93996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0880"/>
                <a:gridCol w="406440"/>
                <a:gridCol w="558720"/>
                <a:gridCol w="559080"/>
                <a:gridCol w="558720"/>
                <a:gridCol w="482400"/>
                <a:gridCol w="482760"/>
              </a:tblGrid>
              <a:tr h="202320"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IY,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n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dd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(nn)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+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n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lIns="90000" rIns="90000" tIns="32400" bIns="32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400" bIns="32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5960" y="828720"/>
          <a:ext cx="8547120" cy="4545000"/>
        </p:xfrm>
        <a:graphic>
          <a:graphicData uri="http://schemas.openxmlformats.org/drawingml/2006/table">
            <a:tbl>
              <a:tblPr/>
              <a:tblGrid>
                <a:gridCol w="787680"/>
                <a:gridCol w="93960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0880"/>
                <a:gridCol w="406440"/>
                <a:gridCol w="381240"/>
                <a:gridCol w="406080"/>
                <a:gridCol w="559080"/>
                <a:gridCol w="558720"/>
                <a:gridCol w="558720"/>
                <a:gridCol w="482760"/>
                <a:gridCol w="482400"/>
              </a:tblGrid>
              <a:tr h="187920"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 SP,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r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q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+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(S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+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5516640"/>
          <a:ext cx="4319280" cy="792000"/>
        </p:xfrm>
        <a:graphic>
          <a:graphicData uri="http://schemas.openxmlformats.org/drawingml/2006/table">
            <a:tbl>
              <a:tblPr/>
              <a:tblGrid>
                <a:gridCol w="718920"/>
                <a:gridCol w="360036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  is any of the register pairs BC, DE, HL, SP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q  is any of the register pairs AF, BC, DE, H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IR)H, (PAIR)L  refer to high order and low order eight bits of the register pair respectively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9440" y="5516640"/>
          <a:ext cx="4103640" cy="792000"/>
        </p:xfrm>
        <a:graphic>
          <a:graphicData uri="http://schemas.openxmlformats.org/drawingml/2006/table">
            <a:tbl>
              <a:tblPr/>
              <a:tblGrid>
                <a:gridCol w="682560"/>
                <a:gridCol w="3421080"/>
              </a:tblGrid>
              <a:tr h="792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a 16-bit 'nn' value or address is specifi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byte of the pair is the least significant byte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LOA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84320" y="892080"/>
          <a:ext cx="8775360" cy="4768920"/>
        </p:xfrm>
        <a:graphic>
          <a:graphicData uri="http://schemas.openxmlformats.org/drawingml/2006/table">
            <a:tbl>
              <a:tblPr/>
              <a:tblGrid>
                <a:gridCol w="761760"/>
                <a:gridCol w="1054080"/>
                <a:gridCol w="330120"/>
                <a:gridCol w="330480"/>
                <a:gridCol w="330120"/>
                <a:gridCol w="330120"/>
                <a:gridCol w="330120"/>
                <a:gridCol w="381240"/>
                <a:gridCol w="330120"/>
                <a:gridCol w="330120"/>
                <a:gridCol w="380880"/>
                <a:gridCol w="381240"/>
                <a:gridCol w="380880"/>
                <a:gridCol w="406440"/>
                <a:gridCol w="558720"/>
                <a:gridCol w="558720"/>
                <a:gridCol w="559080"/>
                <a:gridCol w="520560"/>
                <a:gridCol w="52056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 A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+ 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is any of r, n, (HL), (IX+d), (IY+d) as shown for ADD instruction. The indicated bits replace the 000 in the ADD set abov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BC A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- 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⋀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⋁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R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A ⊕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-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573408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1041480"/>
          <a:ext cx="8840520" cy="4187880"/>
        </p:xfrm>
        <a:graphic>
          <a:graphicData uri="http://schemas.openxmlformats.org/drawingml/2006/table">
            <a:tbl>
              <a:tblPr/>
              <a:tblGrid>
                <a:gridCol w="749160"/>
                <a:gridCol w="1187280"/>
                <a:gridCol w="325440"/>
                <a:gridCol w="325440"/>
                <a:gridCol w="324000"/>
                <a:gridCol w="325440"/>
                <a:gridCol w="325440"/>
                <a:gridCol w="374760"/>
                <a:gridCol w="325440"/>
                <a:gridCol w="323640"/>
                <a:gridCol w="374760"/>
                <a:gridCol w="376200"/>
                <a:gridCol w="374760"/>
                <a:gridCol w="399960"/>
                <a:gridCol w="549360"/>
                <a:gridCol w="550800"/>
                <a:gridCol w="549360"/>
                <a:gridCol w="566640"/>
                <a:gridCol w="51264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← r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HL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 ← (IX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 ← (IY+d)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← 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is any of r, (HL), (IX+d), (IY+d) as shown for INC. Same format and states as INC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100 with 101 in OP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5516640"/>
          <a:ext cx="7848360" cy="647640"/>
        </p:xfrm>
        <a:graphic>
          <a:graphicData uri="http://schemas.openxmlformats.org/drawingml/2006/table">
            <a:tbl>
              <a:tblPr/>
              <a:tblGrid>
                <a:gridCol w="865080"/>
                <a:gridCol w="69832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V symbol in the P/V flag column indicates that the P/V flag contains the overflow of the result of the operation. Similarly the P symbol indicates parity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1 means overf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= 0 means not overflow. P = 1 means parity of the result is even.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= 0 means parity of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result is od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BIT ARITHMETIC AND LOG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96920" y="824040"/>
          <a:ext cx="8750160" cy="4765680"/>
        </p:xfrm>
        <a:graphic>
          <a:graphicData uri="http://schemas.openxmlformats.org/drawingml/2006/table">
            <a:tbl>
              <a:tblPr/>
              <a:tblGrid>
                <a:gridCol w="787320"/>
                <a:gridCol w="1244520"/>
                <a:gridCol w="317520"/>
                <a:gridCol w="317520"/>
                <a:gridCol w="317520"/>
                <a:gridCol w="317520"/>
                <a:gridCol w="317520"/>
                <a:gridCol w="380880"/>
                <a:gridCol w="317520"/>
                <a:gridCol w="317520"/>
                <a:gridCol w="381240"/>
                <a:gridCol w="406080"/>
                <a:gridCol w="381240"/>
                <a:gridCol w="380880"/>
                <a:gridCol w="558720"/>
                <a:gridCol w="559080"/>
                <a:gridCol w="558720"/>
                <a:gridCol w="444240"/>
                <a:gridCol w="444600"/>
              </a:tblGrid>
              <a:tr h="1735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ss +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C HL,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ss - 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X,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IY,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p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← ss -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 as abo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 ← IX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I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 ← IY +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4200" y="5661000"/>
          <a:ext cx="7705440" cy="692280"/>
        </p:xfrm>
        <a:graphic>
          <a:graphicData uri="http://schemas.openxmlformats.org/drawingml/2006/table">
            <a:tbl>
              <a:tblPr/>
              <a:tblGrid>
                <a:gridCol w="763560"/>
                <a:gridCol w="6941880"/>
              </a:tblGrid>
              <a:tr h="696240"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is any of the register pairs BC, DE, HL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 is any of the register pairs BC, DE, IX, S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 is any of the register pairs BC, DE, IY, SP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1731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-BIT ARITHMET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1:53Z</dcterms:created>
  <dc:creator>Patricio Catalán</dc:creator>
  <dc:description/>
  <dc:language>en-US</dc:language>
  <cp:lastModifiedBy>Patricio Catalan</cp:lastModifiedBy>
  <dcterms:modified xsi:type="dcterms:W3CDTF">2007-08-13T02:44:08Z</dcterms:modified>
  <cp:revision>3</cp:revision>
  <dc:subject/>
  <dc:title>Diapositiva 1</dc:title>
</cp:coreProperties>
</file>