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B97-A588-4D7C-A2F5-439B2F7B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FA4-BD35-4741-96C4-4E7885C5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3CD-27DB-4307-BDF5-31C6D79B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6B7-2697-4C9B-9041-B9A71760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4B2-68D3-4FDC-8284-651799C4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871-B1E1-4381-9385-9EC8BD1F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0B0-DAC1-428F-92E5-BC3C5FCA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272-AFD8-4A53-9BAC-71FA1A59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0ED-5429-4A60-9C38-8AB659CB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D5C-D668-4762-917D-C9CA2198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D46-B524-4BAE-B0E6-3336758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A90-4F1C-4855-BDFC-4BC1454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5F4F-C928-4957-8E48-4C5E32D1A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08360" y="3141720"/>
            <a:ext cx="1789200" cy="113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P.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88000" y="3124080"/>
            <a:ext cx="1789200" cy="1135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124080"/>
            <a:ext cx="1789200" cy="1135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125360"/>
            <a:ext cx="1789200" cy="1135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5140440"/>
            <a:ext cx="1789200" cy="1135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 Secu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3502080"/>
            <a:ext cx="1152360" cy="431640"/>
          </a:xfrm>
          <a:prstGeom prst="rightArrow">
            <a:avLst>
              <a:gd name="adj1" fmla="val 50000"/>
              <a:gd name="adj2" fmla="val 66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3502080"/>
            <a:ext cx="1079280" cy="431640"/>
          </a:xfrm>
          <a:prstGeom prst="rightArrow">
            <a:avLst>
              <a:gd name="adj1" fmla="val 50000"/>
              <a:gd name="adj2" fmla="val 62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3708360" y="249372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3707640" y="450900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5400000">
            <a:off x="4572000" y="249300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5400000">
            <a:off x="4571280" y="450828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QUITECTURA DE VON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0" y="260280"/>
            <a:ext cx="464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MEMORIA -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1920960"/>
            <a:ext cx="2009880" cy="29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2568600"/>
            <a:ext cx="20113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2568600"/>
            <a:ext cx="1800" cy="38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268360" y="4440240"/>
            <a:ext cx="1800" cy="38880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6560" y="1811160"/>
            <a:ext cx="779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280" y="4800600"/>
            <a:ext cx="1198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ØF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4152960"/>
            <a:ext cx="1198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2963880"/>
            <a:ext cx="1871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1920960"/>
            <a:ext cx="1685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S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136600"/>
            <a:ext cx="32400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2395440"/>
            <a:ext cx="720720" cy="9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3080" y="2971800"/>
            <a:ext cx="720720" cy="93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3473280"/>
            <a:ext cx="720720" cy="9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3978360"/>
            <a:ext cx="720720" cy="93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9080" y="20289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.P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1800" y="2538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4160" y="3041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5080" y="35449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9080" y="261144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9966"/>
                </a:solidFill>
                <a:latin typeface="Arial"/>
              </a:rPr>
              <a:t>CALL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318780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9966"/>
                </a:solidFill>
                <a:latin typeface="Arial"/>
              </a:rPr>
              <a:t>CALL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368928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9966"/>
                </a:solidFill>
                <a:latin typeface="Arial"/>
              </a:rPr>
              <a:t>CALL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3640" y="462456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RET.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412128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RET.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619440"/>
            <a:ext cx="93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RET.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043080"/>
            <a:ext cx="93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21440" y="2755800"/>
            <a:ext cx="790560" cy="216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3330720"/>
            <a:ext cx="790560" cy="144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3835440"/>
            <a:ext cx="792360" cy="144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76" idx="2"/>
            <a:endCxn id="75" idx="1"/>
          </p:cNvCxnSpPr>
          <p:nvPr/>
        </p:nvCxnSpPr>
        <p:spPr>
          <a:xfrm flipV="1" rot="16200000">
            <a:off x="7002000" y="3564720"/>
            <a:ext cx="1080360" cy="1620000"/>
          </a:xfrm>
          <a:prstGeom prst="curvedConnector5">
            <a:avLst>
              <a:gd name="adj1" fmla="val -21166"/>
              <a:gd name="adj2" fmla="val 57057"/>
              <a:gd name="adj3" fmla="val -21166"/>
            </a:avLst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cxnSp>
        <p:nvCxnSpPr>
          <p:cNvPr id="84" name=""/>
          <p:cNvCxnSpPr>
            <a:stCxn id="77" idx="2"/>
            <a:endCxn id="74" idx="1"/>
          </p:cNvCxnSpPr>
          <p:nvPr/>
        </p:nvCxnSpPr>
        <p:spPr>
          <a:xfrm flipV="1" rot="16200000">
            <a:off x="5851080" y="3061440"/>
            <a:ext cx="1078560" cy="1621800"/>
          </a:xfrm>
          <a:prstGeom prst="curvedConnector5">
            <a:avLst>
              <a:gd name="adj1" fmla="val -21202"/>
              <a:gd name="adj2" fmla="val 57038"/>
              <a:gd name="adj3" fmla="val -21202"/>
            </a:avLst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cxnSp>
        <p:nvCxnSpPr>
          <p:cNvPr id="85" name=""/>
          <p:cNvCxnSpPr>
            <a:stCxn id="78" idx="2"/>
            <a:endCxn id="73" idx="1"/>
          </p:cNvCxnSpPr>
          <p:nvPr/>
        </p:nvCxnSpPr>
        <p:spPr>
          <a:xfrm flipV="1" rot="16200000">
            <a:off x="4662360" y="2523240"/>
            <a:ext cx="1152720" cy="1620000"/>
          </a:xfrm>
          <a:prstGeom prst="curvedConnector5">
            <a:avLst>
              <a:gd name="adj1" fmla="val -19837"/>
              <a:gd name="adj2" fmla="val 57057"/>
              <a:gd name="adj3" fmla="val -19837"/>
            </a:avLst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sp>
        <p:nvSpPr>
          <p:cNvPr id="86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59280" y="620640"/>
            <a:ext cx="2736720" cy="5761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263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 -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1143800">
            <a:off x="4219920" y="435600"/>
            <a:ext cx="474480" cy="4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1" y="14174"/>
                </a:moveTo>
                <a:arcTo wR="10800" hR="10800" stAng="9707773" swAng="12328334"/>
                <a:lnTo>
                  <a:pt x="10800" y="10800"/>
                </a:lnTo>
                <a:close/>
              </a:path>
              <a:path fill="none" w="21600" h="21600">
                <a:moveTo>
                  <a:pt x="541" y="14174"/>
                </a:moveTo>
                <a:arcTo wR="10800" hR="10800" stAng="9707773" swAng="12328334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003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2290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57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286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3155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436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37238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4012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430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4589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4882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5165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5452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574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6028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1714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426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113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842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95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2003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2290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257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286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155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3436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7238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4012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430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4589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4882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5165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5452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574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60289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1714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426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113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842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595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765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981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1268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1557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1844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2133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2421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6000" y="2708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2997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3284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3573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3860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4149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4437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47260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5013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5300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5589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587700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6165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765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981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12682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1557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1844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133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7280" y="2421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27082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2997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3284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3573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3860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4149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4437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47260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7280" y="5300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5589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27280" y="5877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6165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20030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22903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5794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28602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31557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34365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7238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40129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43002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8000" y="4589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8826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5165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54525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574020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6028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OR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17143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14266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11394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8427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5950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2003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2290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00720" y="257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28602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00720" y="3155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00720" y="3436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37238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4012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F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4292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589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486864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5157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54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573372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6021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0720" y="17143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1426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11394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00720" y="8427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595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44616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PU 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3429000"/>
            <a:ext cx="648000" cy="360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1989000"/>
            <a:ext cx="648000" cy="360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3716280"/>
            <a:ext cx="647640" cy="360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0920" y="4941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0920" y="52293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5516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580536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609300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5080" y="6093000"/>
            <a:ext cx="28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58053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72360" y="5516640"/>
            <a:ext cx="93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4941720"/>
            <a:ext cx="86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522936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4653000"/>
            <a:ext cx="64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4076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03640" y="836640"/>
            <a:ext cx="2952720" cy="554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7440" y="27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 -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830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11192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1413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OR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5080" y="16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19414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3640" y="23004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F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2997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3290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3597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3862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221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3640" y="486900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R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51577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US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5518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3640" y="5734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+ 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5973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71640" y="98100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71640" y="1270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71640" y="1557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71640" y="184464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71640" y="206208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771640" y="2494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71640" y="314172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771640" y="530208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71640" y="5013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566244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71640" y="587844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609444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342900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3718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1640" y="4005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436572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68360" y="836640"/>
            <a:ext cx="287640" cy="1800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2997360"/>
            <a:ext cx="287640" cy="1512720"/>
          </a:xfrm>
          <a:custGeom>
            <a:avLst/>
            <a:gdLst>
              <a:gd name="textAreaLeft" fmla="*/ 183960 w 287640"/>
              <a:gd name="textAreaRight" fmla="*/ 288000 w 2876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68360" y="4870440"/>
            <a:ext cx="287640" cy="577800"/>
          </a:xfrm>
          <a:custGeom>
            <a:avLst/>
            <a:gdLst>
              <a:gd name="textAreaLeft" fmla="*/ 183960 w 287640"/>
              <a:gd name="textAreaRight" fmla="*/ 288000 w 28764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105408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337032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48038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OL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92720" y="981000"/>
            <a:ext cx="395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92720" y="400536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56360" y="4797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6360" y="6021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981000"/>
            <a:ext cx="792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4005360"/>
            <a:ext cx="1198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61080" y="981000"/>
            <a:ext cx="287280" cy="3024360"/>
          </a:xfrm>
          <a:custGeom>
            <a:avLst/>
            <a:gdLst>
              <a:gd name="textAreaLeft" fmla="*/ 0 w 287280"/>
              <a:gd name="textAreaRight" fmla="*/ 103680 w 287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61080" y="4724280"/>
            <a:ext cx="216000" cy="13701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70160"/>
              <a:gd name="textAreaBottom" fmla="*/ 1334520 h 13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4800600"/>
            <a:ext cx="792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56360" y="6021360"/>
            <a:ext cx="792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213372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61080" y="516240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56360" y="1341360"/>
            <a:ext cx="57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PU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9079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119700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148428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17002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234936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068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35772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364500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393372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4292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494172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522936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32000" y="836640"/>
            <a:ext cx="3816360" cy="54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47640" y="959760"/>
            <a:ext cx="1297080" cy="3682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5280" y="959760"/>
            <a:ext cx="1297080" cy="3682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47640" y="1771560"/>
            <a:ext cx="3384720" cy="432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66"/>
                </a:solidFill>
                <a:latin typeface="Arial"/>
              </a:rPr>
              <a:t>CIRC. ARIT. Y 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33992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413080" y="13395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10526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844360" y="119556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57440" y="2637000"/>
            <a:ext cx="1297080" cy="4316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89440" y="220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421080" y="220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47640" y="3500280"/>
            <a:ext cx="1297080" cy="432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35280" y="3500280"/>
            <a:ext cx="129708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7440" y="4437000"/>
            <a:ext cx="1297080" cy="432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9708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8472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7080" y="32846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1080" y="32846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5080" y="3068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9894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4210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284720" y="3932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04720" y="414828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5300640"/>
            <a:ext cx="1368360" cy="7923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RC.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4720" y="537228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44720" y="551664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4720" y="566100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44720" y="6019920"/>
            <a:ext cx="28728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5732640"/>
            <a:ext cx="5763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5080" y="5300640"/>
            <a:ext cx="142920" cy="79236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1080" y="530064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SEÑALES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88000" y="1197000"/>
            <a:ext cx="136872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 /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3573360"/>
            <a:ext cx="136836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5080" y="4869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5080" y="5084640"/>
            <a:ext cx="410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308720" y="4797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850920" y="2708280"/>
            <a:ext cx="309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852720" y="292428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2997360"/>
            <a:ext cx="30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278136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948360" y="2421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40720" y="2924280"/>
            <a:ext cx="0" cy="64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740720" y="2420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2997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NENTES BÁSICOS DE LA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3962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690560" y="2279520"/>
            <a:ext cx="1224000" cy="10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C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46200" y="4073400"/>
            <a:ext cx="151308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PU    TIMING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80000" y="2489040"/>
            <a:ext cx="934920" cy="7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.  RE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35640" y="1547640"/>
            <a:ext cx="1224000" cy="80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TERF. BUS DA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08720" y="2128680"/>
            <a:ext cx="11509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64000" y="3352680"/>
            <a:ext cx="13240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RREGLO REGI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65800" y="4648320"/>
            <a:ext cx="13240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FFER DIREC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"/>
          <p:cNvCxnSpPr>
            <a:stCxn id="343" idx="2"/>
            <a:endCxn id="344" idx="0"/>
          </p:cNvCxnSpPr>
          <p:nvPr/>
        </p:nvCxnSpPr>
        <p:spPr>
          <a:xfrm>
            <a:off x="2303280" y="3316320"/>
            <a:ext cx="1080" cy="745200"/>
          </a:xfrm>
          <a:prstGeom prst="straightConnector1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</p:cxnSp>
      <p:cxnSp>
        <p:nvCxnSpPr>
          <p:cNvPr id="351" name=""/>
          <p:cNvCxnSpPr>
            <a:stCxn id="348" idx="2"/>
            <a:endCxn id="349" idx="0"/>
          </p:cNvCxnSpPr>
          <p:nvPr/>
        </p:nvCxnSpPr>
        <p:spPr>
          <a:xfrm>
            <a:off x="6025680" y="4051440"/>
            <a:ext cx="2520" cy="584640"/>
          </a:xfrm>
          <a:prstGeom prst="straightConnector1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352" name=""/>
          <p:cNvSpPr/>
          <p:nvPr/>
        </p:nvSpPr>
        <p:spPr>
          <a:xfrm>
            <a:off x="6012000" y="1157400"/>
            <a:ext cx="0" cy="39996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914200" y="2846520"/>
            <a:ext cx="863640" cy="1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90560" y="5297400"/>
            <a:ext cx="0" cy="503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914560" y="5297400"/>
            <a:ext cx="0" cy="4636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4920" y="4440240"/>
            <a:ext cx="1368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CPU TI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59280" y="4648320"/>
            <a:ext cx="51264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69840" y="5800680"/>
            <a:ext cx="1368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OUTPUT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66920" y="5800680"/>
            <a:ext cx="1368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INPUT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2000" y="5329080"/>
            <a:ext cx="0" cy="40032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03640" y="5729400"/>
            <a:ext cx="2087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BUS DE DIRECC.  16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981000"/>
            <a:ext cx="2016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BUS DE DATOS  8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4920" y="2847960"/>
            <a:ext cx="2592360" cy="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12000" y="2349360"/>
            <a:ext cx="0" cy="100332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4640" y="3208320"/>
            <a:ext cx="512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3567240"/>
            <a:ext cx="512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3927600"/>
            <a:ext cx="512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320832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9966"/>
                </a:solidFill>
                <a:latin typeface="Arial"/>
              </a:rPr>
              <a:t>+5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356724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9966"/>
                </a:solidFill>
                <a:latin typeface="Arial"/>
              </a:rPr>
              <a:t>G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392760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339966"/>
                </a:solidFill>
                <a:latin typeface="Arial"/>
              </a:rPr>
              <a:t>CL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NENTES BÁSICOS DE LA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256536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BUS  DATOS      INT  ER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84360" y="2205000"/>
          <a:ext cx="4174920" cy="2879640"/>
        </p:xfrm>
        <a:graphic>
          <a:graphicData uri="http://schemas.openxmlformats.org/drawingml/2006/table">
            <a:tbl>
              <a:tblPr/>
              <a:tblGrid>
                <a:gridCol w="1043640"/>
                <a:gridCol w="1043640"/>
                <a:gridCol w="1043640"/>
                <a:gridCol w="1044000"/>
              </a:tblGrid>
              <a:tr h="71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869080" y="2205000"/>
          <a:ext cx="2519280" cy="2879640"/>
        </p:xfrm>
        <a:graphic>
          <a:graphicData uri="http://schemas.openxmlformats.org/drawingml/2006/table">
            <a:tbl>
              <a:tblPr/>
              <a:tblGrid>
                <a:gridCol w="1259640"/>
                <a:gridCol w="1259640"/>
              </a:tblGrid>
              <a:tr h="5760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611280" y="530064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530064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1916280"/>
            <a:ext cx="2521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1280" y="5373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0360" y="5373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88000" y="1484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ISTROS DE 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3352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REGISTRO DE ESTADOS DE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23880" y="1052640"/>
          <a:ext cx="6096240" cy="1255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3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1042920" y="2455920"/>
            <a:ext cx="684072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: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T DE ACAR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P. ARITMÉ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P. DESPLA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OP. COMPARACIÓN  ( 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≥ B → C =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SCF  →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AND  →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OR    →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XOR  →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:   BIT DE 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I LA ÚLTIMA OPERA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 FUE UNA RESTA  N →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0880" y="189000"/>
            <a:ext cx="815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REGISTRO DE ESTADOS DE   Z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47640" y="996840"/>
          <a:ext cx="6072480" cy="1193760"/>
        </p:xfrm>
        <a:graphic>
          <a:graphicData uri="http://schemas.openxmlformats.org/drawingml/2006/table">
            <a:tbl>
              <a:tblPr/>
              <a:tblGrid>
                <a:gridCol w="758880"/>
                <a:gridCol w="758880"/>
                <a:gridCol w="758880"/>
                <a:gridCol w="760320"/>
                <a:gridCol w="758880"/>
                <a:gridCol w="758880"/>
                <a:gridCol w="758880"/>
                <a:gridCol w="758880"/>
              </a:tblGrid>
              <a:tr h="6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538200" y="2293920"/>
            <a:ext cx="813744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/V: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T DE PARIDAD / DESBOR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LÓGICAS O DESPLAZAMIENTO  P  ( PAR =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 ARITMÉTICAS O INCREMENTO  V   ( UNO SÓLO =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H: 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DE ACARREO DE N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1 SI HAY ACARREO ( DESBORDAMIENTO ) DEL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Z: 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DE NU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1 SI EL RESULTADO ES CERO EN 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RITMÉTICAS Y OPERACIONES LÓG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N COMPARACIONES ES 1 SI LOS ELEMENTOS COMPA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ON IG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: 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T DE SI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1 SI ES NEGATIVO, 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I ES N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01:48:21Z</dcterms:created>
  <dc:creator>Patricio Catalán</dc:creator>
  <dc:description/>
  <dc:language>en-US</dc:language>
  <cp:lastModifiedBy>Patricio Catalan</cp:lastModifiedBy>
  <dcterms:modified xsi:type="dcterms:W3CDTF">2007-08-13T02:40:25Z</dcterms:modified>
  <cp:revision>5</cp:revision>
  <dc:subject/>
  <dc:title>Diapositiva 1</dc:title>
</cp:coreProperties>
</file>