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C023-F858-4065-8BCC-8ECC9166D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2B68-BF65-46DA-B2BA-1C37C7738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E51D-F63E-409F-B668-06F50C72D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DEEB-0CDD-44F7-88AA-3367EDD1A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E683-8CF8-4CB9-BFE2-E128A0911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1278-A3E8-4853-853A-BF962A32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357C-C98E-4865-B8A4-C12A18002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8560-310B-4C2D-8F77-9D6598202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5D5D-340E-4954-8389-F5262A45F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6DF2-799B-4755-9091-FAF9FBB4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481C-8DAA-418C-99F2-A352E2C9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D912-E115-4277-8CA6-960B80DE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9C5E8-B03B-4BDC-BDE3-7AF432BAB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08360" y="3141720"/>
            <a:ext cx="1789200" cy="1135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.P.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588000" y="3124080"/>
            <a:ext cx="1789200" cy="113508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al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55640" y="3124080"/>
            <a:ext cx="1789200" cy="113508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t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08360" y="1125360"/>
            <a:ext cx="1789200" cy="1135080"/>
          </a:xfrm>
          <a:prstGeom prst="rect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moria Princip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708360" y="5140440"/>
            <a:ext cx="1789200" cy="1135080"/>
          </a:xfrm>
          <a:prstGeom prst="rect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moria Secund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56000" y="3502080"/>
            <a:ext cx="1152360" cy="431640"/>
          </a:xfrm>
          <a:prstGeom prst="rightArrow">
            <a:avLst>
              <a:gd name="adj1" fmla="val 50000"/>
              <a:gd name="adj2" fmla="val 667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508720" y="3502080"/>
            <a:ext cx="1079280" cy="431640"/>
          </a:xfrm>
          <a:prstGeom prst="rightArrow">
            <a:avLst>
              <a:gd name="adj1" fmla="val 50000"/>
              <a:gd name="adj2" fmla="val 625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6200000">
            <a:off x="3708360" y="2493720"/>
            <a:ext cx="863640" cy="43164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3707640" y="4509000"/>
            <a:ext cx="865080" cy="431640"/>
          </a:xfrm>
          <a:prstGeom prst="rightArrow">
            <a:avLst>
              <a:gd name="adj1" fmla="val 50000"/>
              <a:gd name="adj2" fmla="val 5010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 rot="5400000">
            <a:off x="4572000" y="2493000"/>
            <a:ext cx="863640" cy="43164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 rot="5400000">
            <a:off x="4571280" y="4508280"/>
            <a:ext cx="865080" cy="431640"/>
          </a:xfrm>
          <a:prstGeom prst="rightArrow">
            <a:avLst>
              <a:gd name="adj1" fmla="val 50000"/>
              <a:gd name="adj2" fmla="val 5010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QUITECTURA DE VON NEUMA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446880"/>
            <a:ext cx="9144000" cy="368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c3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L54B,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stemas para el Procesamiento de la Inform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0" y="260280"/>
            <a:ext cx="46483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MEMORIA - ST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58920" y="1920960"/>
            <a:ext cx="2009880" cy="2916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58920" y="2568600"/>
            <a:ext cx="201132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2568600"/>
            <a:ext cx="1800" cy="388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268360" y="4440240"/>
            <a:ext cx="1800" cy="38880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6560" y="1811160"/>
            <a:ext cx="7797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1280" y="4800600"/>
            <a:ext cx="11988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ØFFFF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92360" y="4152960"/>
            <a:ext cx="11984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9966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32000" y="2963880"/>
            <a:ext cx="187164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PROGRA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76360" y="1920960"/>
            <a:ext cx="168588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Arial"/>
              </a:rPr>
              <a:t>S.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48000" y="2136600"/>
            <a:ext cx="324000" cy="23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M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00720" y="2395440"/>
            <a:ext cx="720720" cy="93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53080" y="2971800"/>
            <a:ext cx="720720" cy="93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04000" y="3473280"/>
            <a:ext cx="720720" cy="93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956720" y="3978360"/>
            <a:ext cx="720720" cy="93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29080" y="202896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P.Pr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1800" y="253836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R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734160" y="304164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R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885080" y="354492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R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29080" y="2611440"/>
            <a:ext cx="936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339966"/>
                </a:solidFill>
                <a:latin typeface="Arial"/>
              </a:rPr>
              <a:t>CALL 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3187800"/>
            <a:ext cx="936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339966"/>
                </a:solidFill>
                <a:latin typeface="Arial"/>
              </a:rPr>
              <a:t>CALL 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32720" y="3689280"/>
            <a:ext cx="936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339966"/>
                </a:solidFill>
                <a:latin typeface="Arial"/>
              </a:rPr>
              <a:t>CALL 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883640" y="4624560"/>
            <a:ext cx="936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333399"/>
                </a:solidFill>
                <a:latin typeface="Arial"/>
              </a:rPr>
              <a:t>RET. 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732720" y="4121280"/>
            <a:ext cx="936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333399"/>
                </a:solidFill>
                <a:latin typeface="Arial"/>
              </a:rPr>
              <a:t>RET. 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619440"/>
            <a:ext cx="936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333399"/>
                </a:solidFill>
                <a:latin typeface="Arial"/>
              </a:rPr>
              <a:t>RET. 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3043080"/>
            <a:ext cx="936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333399"/>
                </a:solidFill>
                <a:latin typeface="Arial"/>
              </a:rPr>
              <a:t>E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221440" y="2755800"/>
            <a:ext cx="790560" cy="21600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372360" y="3330720"/>
            <a:ext cx="790560" cy="14436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24720" y="3835440"/>
            <a:ext cx="792360" cy="14436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76" idx="2"/>
            <a:endCxn id="75" idx="1"/>
          </p:cNvCxnSpPr>
          <p:nvPr/>
        </p:nvCxnSpPr>
        <p:spPr>
          <a:xfrm flipV="1" rot="16200000">
            <a:off x="7002000" y="3564720"/>
            <a:ext cx="1080360" cy="1620000"/>
          </a:xfrm>
          <a:prstGeom prst="curvedConnector5">
            <a:avLst>
              <a:gd name="adj1" fmla="val -21166"/>
              <a:gd name="adj2" fmla="val 57057"/>
              <a:gd name="adj3" fmla="val -21166"/>
            </a:avLst>
          </a:prstGeom>
          <a:ln w="25560">
            <a:solidFill>
              <a:srgbClr val="ff3300"/>
            </a:solidFill>
            <a:miter/>
            <a:tailEnd len="med" type="triangle" w="lg"/>
          </a:ln>
        </p:spPr>
      </p:cxnSp>
      <p:cxnSp>
        <p:nvCxnSpPr>
          <p:cNvPr id="84" name=""/>
          <p:cNvCxnSpPr>
            <a:stCxn id="77" idx="2"/>
            <a:endCxn id="74" idx="1"/>
          </p:cNvCxnSpPr>
          <p:nvPr/>
        </p:nvCxnSpPr>
        <p:spPr>
          <a:xfrm flipV="1" rot="16200000">
            <a:off x="5851080" y="3061440"/>
            <a:ext cx="1078560" cy="1621800"/>
          </a:xfrm>
          <a:prstGeom prst="curvedConnector5">
            <a:avLst>
              <a:gd name="adj1" fmla="val -21202"/>
              <a:gd name="adj2" fmla="val 57038"/>
              <a:gd name="adj3" fmla="val -21202"/>
            </a:avLst>
          </a:prstGeom>
          <a:ln w="25560">
            <a:solidFill>
              <a:srgbClr val="ff3300"/>
            </a:solidFill>
            <a:miter/>
            <a:tailEnd len="med" type="triangle" w="lg"/>
          </a:ln>
        </p:spPr>
      </p:cxnSp>
      <p:cxnSp>
        <p:nvCxnSpPr>
          <p:cNvPr id="85" name=""/>
          <p:cNvCxnSpPr>
            <a:stCxn id="78" idx="2"/>
            <a:endCxn id="73" idx="1"/>
          </p:cNvCxnSpPr>
          <p:nvPr/>
        </p:nvCxnSpPr>
        <p:spPr>
          <a:xfrm flipV="1" rot="16200000">
            <a:off x="4662360" y="2523240"/>
            <a:ext cx="1152720" cy="1620000"/>
          </a:xfrm>
          <a:prstGeom prst="curvedConnector5">
            <a:avLst>
              <a:gd name="adj1" fmla="val -19837"/>
              <a:gd name="adj2" fmla="val 57057"/>
              <a:gd name="adj3" fmla="val -19837"/>
            </a:avLst>
          </a:prstGeom>
          <a:ln w="25560">
            <a:solidFill>
              <a:srgbClr val="ff3300"/>
            </a:solidFill>
            <a:miter/>
            <a:tailEnd len="med" type="triangle" w="lg"/>
          </a:ln>
        </p:spPr>
      </p:cxnSp>
      <p:sp>
        <p:nvSpPr>
          <p:cNvPr id="86" name=""/>
          <p:cNvSpPr/>
          <p:nvPr/>
        </p:nvSpPr>
        <p:spPr>
          <a:xfrm>
            <a:off x="0" y="6446880"/>
            <a:ext cx="9144000" cy="368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c3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L54B,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stemas para el Procesamiento de la Inform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059280" y="620640"/>
            <a:ext cx="2736720" cy="5761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64000" y="263700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Z - 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1143800">
            <a:off x="4219920" y="435600"/>
            <a:ext cx="474480" cy="47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41" y="14174"/>
                </a:moveTo>
                <a:arcTo wR="10800" hR="10800" stAng="9707773" swAng="12328334"/>
                <a:lnTo>
                  <a:pt x="10800" y="10800"/>
                </a:lnTo>
                <a:close/>
              </a:path>
              <a:path fill="none" w="21600" h="21600">
                <a:moveTo>
                  <a:pt x="541" y="14174"/>
                </a:moveTo>
                <a:arcTo wR="10800" hR="10800" stAng="9707773" swAng="12328334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16360" y="200304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916360" y="229032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16360" y="257940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16360" y="286020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16360" y="315576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16360" y="343656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916360" y="372384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916360" y="401292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916360" y="430020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16360" y="458928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916360" y="488268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16360" y="516528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916360" y="545256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16360" y="574020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16360" y="602892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16360" y="171432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916360" y="142668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16360" y="113940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16360" y="84276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16360" y="59508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92720" y="200304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92720" y="229032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92720" y="257940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92720" y="286020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92720" y="315576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92720" y="343656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92720" y="372384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292720" y="401292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92720" y="430020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292720" y="458928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92720" y="488268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92720" y="516528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92720" y="545256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92720" y="574020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292720" y="602892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92720" y="171432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292720" y="142668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292720" y="113940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292720" y="84276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92720" y="59508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96000" y="765000"/>
            <a:ext cx="431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981000"/>
            <a:ext cx="431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96000" y="1268280"/>
            <a:ext cx="431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96000" y="1557360"/>
            <a:ext cx="431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96000" y="1844640"/>
            <a:ext cx="431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96000" y="2133720"/>
            <a:ext cx="431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96000" y="2421000"/>
            <a:ext cx="431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6000" y="2708280"/>
            <a:ext cx="431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96000" y="2997360"/>
            <a:ext cx="431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796000" y="3284640"/>
            <a:ext cx="431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96000" y="3573360"/>
            <a:ext cx="431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796000" y="3860640"/>
            <a:ext cx="431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796000" y="4149720"/>
            <a:ext cx="431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796000" y="4437000"/>
            <a:ext cx="431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96000" y="4726080"/>
            <a:ext cx="431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5013360"/>
            <a:ext cx="431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96000" y="5300640"/>
            <a:ext cx="431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96000" y="5589720"/>
            <a:ext cx="431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796000" y="5877000"/>
            <a:ext cx="431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96000" y="6165720"/>
            <a:ext cx="431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627280" y="76500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627280" y="98100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627280" y="126828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627280" y="155736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27280" y="184464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627280" y="213372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627280" y="242100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627280" y="270828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627280" y="299736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627280" y="328464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627280" y="357336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627280" y="386064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627280" y="414972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627280" y="443700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627280" y="472608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27280" y="501336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27280" y="530064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627280" y="558972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627280" y="587700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27280" y="616572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08000" y="2003040"/>
            <a:ext cx="6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908000" y="2290320"/>
            <a:ext cx="6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908000" y="2579400"/>
            <a:ext cx="6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08000" y="2860200"/>
            <a:ext cx="6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908000" y="3155760"/>
            <a:ext cx="6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08000" y="3436560"/>
            <a:ext cx="6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+5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08000" y="3723840"/>
            <a:ext cx="6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908000" y="4012920"/>
            <a:ext cx="6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908000" y="4300200"/>
            <a:ext cx="6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908000" y="4589280"/>
            <a:ext cx="6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908000" y="4882680"/>
            <a:ext cx="6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08000" y="5165280"/>
            <a:ext cx="6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N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763640" y="545256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HA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92360" y="5740200"/>
            <a:ext cx="93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MRE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763640" y="602892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IOR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908000" y="1714320"/>
            <a:ext cx="6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08000" y="1426680"/>
            <a:ext cx="6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8000" y="1139400"/>
            <a:ext cx="6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908000" y="842760"/>
            <a:ext cx="6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08000" y="595080"/>
            <a:ext cx="6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00720" y="200304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300720" y="229032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300720" y="257940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00720" y="286020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00720" y="315576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300720" y="343656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300720" y="372384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G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00720" y="401292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RF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00720" y="429228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300720" y="458928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300720" y="4868640"/>
            <a:ext cx="115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BUS RE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300720" y="515736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227640" y="544464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BUS 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56360" y="5733720"/>
            <a:ext cx="93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W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56360" y="602100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300720" y="171432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00720" y="142668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300720" y="113940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00720" y="84276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300720" y="59508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6446160"/>
            <a:ext cx="9144000" cy="368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c3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L54B,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stemas para el Procesamiento de la Inform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PU    Z-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908000" y="3429000"/>
            <a:ext cx="648000" cy="360360"/>
          </a:xfrm>
          <a:prstGeom prst="ellipse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908000" y="1989000"/>
            <a:ext cx="648000" cy="360360"/>
          </a:xfrm>
          <a:prstGeom prst="ellipse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72360" y="3716280"/>
            <a:ext cx="647640" cy="360360"/>
          </a:xfrm>
          <a:prstGeom prst="ellipse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050920" y="4941720"/>
            <a:ext cx="36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050920" y="5229360"/>
            <a:ext cx="36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08000" y="5516640"/>
            <a:ext cx="503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908000" y="5805360"/>
            <a:ext cx="503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08000" y="6093000"/>
            <a:ext cx="57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445080" y="6093000"/>
            <a:ext cx="28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443640" y="5805360"/>
            <a:ext cx="36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372360" y="5516640"/>
            <a:ext cx="93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443640" y="4941720"/>
            <a:ext cx="865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443640" y="5229360"/>
            <a:ext cx="504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443640" y="4653000"/>
            <a:ext cx="649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443640" y="4076640"/>
            <a:ext cx="57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443640" y="4365720"/>
            <a:ext cx="28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203640" y="836640"/>
            <a:ext cx="2952720" cy="5545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97440" y="278136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Z - 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203640" y="83016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203640" y="11192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MRE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03640" y="141300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IOR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05080" y="165276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03640" y="194148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W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203640" y="230040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RF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03640" y="299736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HA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03640" y="329076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203640" y="359712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03640" y="38624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N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03640" y="422100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203640" y="4869000"/>
            <a:ext cx="11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BUS RE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03640" y="515772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BUS 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03640" y="551808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3640" y="573408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+ 5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203640" y="59738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G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2771640" y="981000"/>
            <a:ext cx="39528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2771640" y="1270080"/>
            <a:ext cx="39528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771640" y="1557360"/>
            <a:ext cx="39528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2771640" y="1844640"/>
            <a:ext cx="39528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2771640" y="2062080"/>
            <a:ext cx="39528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771640" y="2494080"/>
            <a:ext cx="39528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771640" y="3141720"/>
            <a:ext cx="39528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2771640" y="5302080"/>
            <a:ext cx="39528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771640" y="5013360"/>
            <a:ext cx="39528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771640" y="5662440"/>
            <a:ext cx="39528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771640" y="5878440"/>
            <a:ext cx="39528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771640" y="6094440"/>
            <a:ext cx="39528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771640" y="3429000"/>
            <a:ext cx="39528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771640" y="3718080"/>
            <a:ext cx="39528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771640" y="4005360"/>
            <a:ext cx="39528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71640" y="4365720"/>
            <a:ext cx="39528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268360" y="836640"/>
            <a:ext cx="287640" cy="1800360"/>
          </a:xfrm>
          <a:custGeom>
            <a:avLst/>
            <a:gdLst>
              <a:gd name="textAreaLeft" fmla="*/ 183960 w 287640"/>
              <a:gd name="textAreaRight" fmla="*/ 288000 w 28764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268360" y="2997360"/>
            <a:ext cx="287640" cy="1512720"/>
          </a:xfrm>
          <a:custGeom>
            <a:avLst/>
            <a:gdLst>
              <a:gd name="textAreaLeft" fmla="*/ 183960 w 287640"/>
              <a:gd name="textAreaRight" fmla="*/ 288000 w 287640"/>
              <a:gd name="textAreaTop" fmla="*/ 39240 h 1512720"/>
              <a:gd name="textAreaBottom" fmla="*/ 147348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68360" y="4870440"/>
            <a:ext cx="287640" cy="577800"/>
          </a:xfrm>
          <a:custGeom>
            <a:avLst/>
            <a:gdLst>
              <a:gd name="textAreaLeft" fmla="*/ 183960 w 287640"/>
              <a:gd name="textAreaRight" fmla="*/ 288000 w 287640"/>
              <a:gd name="textAreaTop" fmla="*/ 14760 h 577800"/>
              <a:gd name="textAreaBottom" fmla="*/ 563040 h 57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11280" y="1054080"/>
            <a:ext cx="1728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S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11280" y="3370320"/>
            <a:ext cx="172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11280" y="480384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TROL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192720" y="981000"/>
            <a:ext cx="39528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192720" y="4005360"/>
            <a:ext cx="39528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156360" y="4797360"/>
            <a:ext cx="4316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56360" y="6021360"/>
            <a:ext cx="4316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156360" y="981000"/>
            <a:ext cx="7920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156360" y="4005360"/>
            <a:ext cx="11984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661080" y="981000"/>
            <a:ext cx="287280" cy="3024360"/>
          </a:xfrm>
          <a:custGeom>
            <a:avLst/>
            <a:gdLst>
              <a:gd name="textAreaLeft" fmla="*/ 0 w 287280"/>
              <a:gd name="textAreaRight" fmla="*/ 103680 w 287280"/>
              <a:gd name="textAreaTop" fmla="*/ 78840 h 3024360"/>
              <a:gd name="textAreaBottom" fmla="*/ 2945520 h 302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661080" y="4724280"/>
            <a:ext cx="216000" cy="137016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70160"/>
              <a:gd name="textAreaBottom" fmla="*/ 1334520 h 13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156360" y="4800600"/>
            <a:ext cx="7920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156360" y="6021360"/>
            <a:ext cx="7920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732720" y="2133720"/>
            <a:ext cx="180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661080" y="5162400"/>
            <a:ext cx="180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156360" y="1341360"/>
            <a:ext cx="576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6446880"/>
            <a:ext cx="9144000" cy="368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c3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L54B,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stemas para el Procesamiento de la Inform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PU   Z-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276720" y="907920"/>
            <a:ext cx="287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276720" y="1197000"/>
            <a:ext cx="57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276720" y="1484280"/>
            <a:ext cx="57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276720" y="1700280"/>
            <a:ext cx="287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276720" y="1989000"/>
            <a:ext cx="358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276720" y="2349360"/>
            <a:ext cx="57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276720" y="3068640"/>
            <a:ext cx="503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276720" y="3357720"/>
            <a:ext cx="503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276720" y="3645000"/>
            <a:ext cx="358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76720" y="3933720"/>
            <a:ext cx="358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276720" y="429264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276720" y="4941720"/>
            <a:ext cx="93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276720" y="5229360"/>
            <a:ext cx="93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332000" y="836640"/>
            <a:ext cx="3816360" cy="5472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547640" y="959760"/>
            <a:ext cx="1297080" cy="36828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635280" y="959760"/>
            <a:ext cx="1297080" cy="36828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M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547640" y="1771560"/>
            <a:ext cx="3384720" cy="432000"/>
          </a:xfrm>
          <a:prstGeom prst="rect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9966"/>
                </a:solidFill>
                <a:latin typeface="Arial"/>
              </a:rPr>
              <a:t>CIRC. ARIT. Y LO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81080" y="1339920"/>
            <a:ext cx="0" cy="43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2413080" y="1339560"/>
            <a:ext cx="0" cy="43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844720" y="1052640"/>
            <a:ext cx="792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2844360" y="1195560"/>
            <a:ext cx="792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557440" y="2637000"/>
            <a:ext cx="1297080" cy="4316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989440" y="2205000"/>
            <a:ext cx="0" cy="43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3421080" y="2205000"/>
            <a:ext cx="0" cy="43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547640" y="3500280"/>
            <a:ext cx="1297080" cy="43200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635280" y="3500280"/>
            <a:ext cx="1297080" cy="4320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557440" y="4437000"/>
            <a:ext cx="1297080" cy="43200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197080" y="3284640"/>
            <a:ext cx="0" cy="215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284720" y="3284640"/>
            <a:ext cx="0" cy="215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97080" y="3284640"/>
            <a:ext cx="79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421080" y="3284640"/>
            <a:ext cx="863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205080" y="3068640"/>
            <a:ext cx="0" cy="1368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2989440" y="306864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3421080" y="306864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284720" y="393228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3204720" y="4148280"/>
            <a:ext cx="1079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476360" y="5300640"/>
            <a:ext cx="1368360" cy="79236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CIRC. DE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844720" y="5372280"/>
            <a:ext cx="287280" cy="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844720" y="5516640"/>
            <a:ext cx="287280" cy="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844720" y="5661000"/>
            <a:ext cx="287280" cy="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844720" y="6019920"/>
            <a:ext cx="287280" cy="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700360" y="5732640"/>
            <a:ext cx="57636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205080" y="5300640"/>
            <a:ext cx="142920" cy="792360"/>
          </a:xfrm>
          <a:custGeom>
            <a:avLst/>
            <a:gdLst>
              <a:gd name="textAreaLeft" fmla="*/ 0 w 142920"/>
              <a:gd name="textAreaRight" fmla="*/ 51480 w 14292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421080" y="5300640"/>
            <a:ext cx="1368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Arial"/>
              </a:rPr>
              <a:t>SEÑALES DE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588000" y="1197000"/>
            <a:ext cx="1368720" cy="1224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 /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589800" y="3573360"/>
            <a:ext cx="1368360" cy="1224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EM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205080" y="4869000"/>
            <a:ext cx="0" cy="21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205080" y="5084640"/>
            <a:ext cx="4103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7308720" y="479736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3850920" y="2708280"/>
            <a:ext cx="3095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3852720" y="2924280"/>
            <a:ext cx="3888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852720" y="2997360"/>
            <a:ext cx="3095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852720" y="2781360"/>
            <a:ext cx="3888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948360" y="242100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740720" y="2924280"/>
            <a:ext cx="0" cy="64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7740720" y="2420640"/>
            <a:ext cx="0" cy="36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948360" y="299736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6446880"/>
            <a:ext cx="9144000" cy="368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c3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L54B,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stemas para el Procesamiento de la Inform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MPONENTES BÁSICOS DE LA CP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209680" y="3962520"/>
            <a:ext cx="0" cy="1371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1690560" y="2279520"/>
            <a:ext cx="1224000" cy="1024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DECO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INST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546200" y="4073400"/>
            <a:ext cx="1513080" cy="1224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CPU    TIMING CONTRO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780000" y="2489040"/>
            <a:ext cx="934920" cy="70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INST.  RE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435640" y="1547640"/>
            <a:ext cx="1224000" cy="80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INTERF. BUS DAT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308720" y="2128680"/>
            <a:ext cx="1150920" cy="1511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64000" y="3352680"/>
            <a:ext cx="1324080" cy="685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ARREGLO REGIST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365800" y="4648320"/>
            <a:ext cx="1324080" cy="685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BUFFER DIREC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0" name=""/>
          <p:cNvCxnSpPr>
            <a:stCxn id="343" idx="2"/>
            <a:endCxn id="344" idx="0"/>
          </p:cNvCxnSpPr>
          <p:nvPr/>
        </p:nvCxnSpPr>
        <p:spPr>
          <a:xfrm>
            <a:off x="2303280" y="3316320"/>
            <a:ext cx="1080" cy="745200"/>
          </a:xfrm>
          <a:prstGeom prst="straightConnector1">
            <a:avLst/>
          </a:prstGeom>
          <a:ln w="25560">
            <a:solidFill>
              <a:srgbClr val="ff3300"/>
            </a:solidFill>
            <a:miter/>
            <a:tailEnd len="med" type="triangle" w="lg"/>
          </a:ln>
        </p:spPr>
      </p:cxnSp>
      <p:cxnSp>
        <p:nvCxnSpPr>
          <p:cNvPr id="351" name=""/>
          <p:cNvCxnSpPr>
            <a:stCxn id="348" idx="2"/>
            <a:endCxn id="349" idx="0"/>
          </p:cNvCxnSpPr>
          <p:nvPr/>
        </p:nvCxnSpPr>
        <p:spPr>
          <a:xfrm>
            <a:off x="6025680" y="4051440"/>
            <a:ext cx="2520" cy="584640"/>
          </a:xfrm>
          <a:prstGeom prst="straightConnector1">
            <a:avLst/>
          </a:prstGeom>
          <a:ln w="25560">
            <a:solidFill>
              <a:srgbClr val="ff3300"/>
            </a:solidFill>
            <a:miter/>
            <a:headEnd len="med" type="triangle" w="lg"/>
            <a:tailEnd len="med" type="triangle" w="lg"/>
          </a:ln>
        </p:spPr>
      </p:cxnSp>
      <p:sp>
        <p:nvSpPr>
          <p:cNvPr id="352" name=""/>
          <p:cNvSpPr/>
          <p:nvPr/>
        </p:nvSpPr>
        <p:spPr>
          <a:xfrm>
            <a:off x="6012000" y="1157400"/>
            <a:ext cx="0" cy="399960"/>
          </a:xfrm>
          <a:prstGeom prst="line">
            <a:avLst/>
          </a:prstGeom>
          <a:ln w="25560">
            <a:solidFill>
              <a:srgbClr val="ff33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2914200" y="2846520"/>
            <a:ext cx="863640" cy="144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690560" y="5297400"/>
            <a:ext cx="0" cy="50328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2914560" y="5297400"/>
            <a:ext cx="0" cy="46368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274920" y="4440240"/>
            <a:ext cx="1368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3300"/>
                </a:solidFill>
                <a:latin typeface="Arial"/>
              </a:rPr>
              <a:t>CPU TIM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059280" y="4648320"/>
            <a:ext cx="512640" cy="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969840" y="5800680"/>
            <a:ext cx="1368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3300"/>
                </a:solidFill>
                <a:latin typeface="Arial"/>
              </a:rPr>
              <a:t>OUTPUT CONTRO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266920" y="5800680"/>
            <a:ext cx="1368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3300"/>
                </a:solidFill>
                <a:latin typeface="Arial"/>
              </a:rPr>
              <a:t>INPUT CONTRO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012000" y="5329080"/>
            <a:ext cx="0" cy="400320"/>
          </a:xfrm>
          <a:prstGeom prst="line">
            <a:avLst/>
          </a:prstGeom>
          <a:ln w="25560">
            <a:solidFill>
              <a:srgbClr val="ff33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003640" y="5729400"/>
            <a:ext cx="20876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3300"/>
                </a:solidFill>
                <a:latin typeface="Arial"/>
              </a:rPr>
              <a:t>BUS DE DIRECC.  16 BI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012000" y="981000"/>
            <a:ext cx="2016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3300"/>
                </a:solidFill>
                <a:latin typeface="Arial"/>
              </a:rPr>
              <a:t>BUS DE DATOS  8 BI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714920" y="2847960"/>
            <a:ext cx="2592360" cy="0"/>
          </a:xfrm>
          <a:prstGeom prst="line">
            <a:avLst/>
          </a:prstGeom>
          <a:ln w="25560">
            <a:solidFill>
              <a:srgbClr val="ff3300"/>
            </a:solidFill>
            <a:miter/>
            <a:headEnd len="med" type="triangle" w="med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012000" y="2349360"/>
            <a:ext cx="0" cy="1003320"/>
          </a:xfrm>
          <a:prstGeom prst="line">
            <a:avLst/>
          </a:prstGeom>
          <a:ln w="25560">
            <a:solidFill>
              <a:srgbClr val="ff33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74640" y="3208320"/>
            <a:ext cx="51264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84360" y="3567240"/>
            <a:ext cx="51264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84360" y="3927600"/>
            <a:ext cx="51264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79280" y="3208320"/>
            <a:ext cx="136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339966"/>
                </a:solidFill>
                <a:latin typeface="Arial"/>
              </a:rPr>
              <a:t>+5V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50920" y="3567240"/>
            <a:ext cx="136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339966"/>
                </a:solidFill>
                <a:latin typeface="Arial"/>
              </a:rPr>
              <a:t>GN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50920" y="3927600"/>
            <a:ext cx="136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339966"/>
                </a:solidFill>
                <a:latin typeface="Arial"/>
              </a:rPr>
              <a:t>CL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6446880"/>
            <a:ext cx="9144000" cy="368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c3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L54B,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stemas para el Procesamiento de la Inform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MPONENTES BÁSICOS DE LA CP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076720" y="2565360"/>
            <a:ext cx="216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3300"/>
                </a:solidFill>
                <a:latin typeface="Arial"/>
              </a:rPr>
              <a:t>BUS  DATOS      INT  ERN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684360" y="2205000"/>
          <a:ext cx="4174920" cy="2879640"/>
        </p:xfrm>
        <a:graphic>
          <a:graphicData uri="http://schemas.openxmlformats.org/drawingml/2006/table">
            <a:tbl>
              <a:tblPr/>
              <a:tblGrid>
                <a:gridCol w="1043640"/>
                <a:gridCol w="1043640"/>
                <a:gridCol w="1043640"/>
                <a:gridCol w="1044000"/>
              </a:tblGrid>
              <a:tr h="719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5" name=""/>
          <p:cNvGraphicFramePr/>
          <p:nvPr/>
        </p:nvGraphicFramePr>
        <p:xfrm>
          <a:off x="5869080" y="2205000"/>
          <a:ext cx="2519280" cy="2879640"/>
        </p:xfrm>
        <a:graphic>
          <a:graphicData uri="http://schemas.openxmlformats.org/drawingml/2006/table">
            <a:tbl>
              <a:tblPr/>
              <a:tblGrid>
                <a:gridCol w="1259640"/>
                <a:gridCol w="1259640"/>
              </a:tblGrid>
              <a:tr h="57600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00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564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00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6" name=""/>
          <p:cNvSpPr/>
          <p:nvPr/>
        </p:nvSpPr>
        <p:spPr>
          <a:xfrm>
            <a:off x="611280" y="5300640"/>
            <a:ext cx="11523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867280" y="5300640"/>
            <a:ext cx="12970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7280" y="1916280"/>
            <a:ext cx="25210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11280" y="537372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8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940360" y="537372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8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588000" y="148428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6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6446880"/>
            <a:ext cx="9144000" cy="368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c3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L54B,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stemas para el Procesamiento de la Inform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GISTROS DE    Z-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53352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REGISTRO DE ESTADOS DE   Z-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1523880" y="1052640"/>
          <a:ext cx="6096240" cy="125568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735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/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6" name=""/>
          <p:cNvSpPr/>
          <p:nvPr/>
        </p:nvSpPr>
        <p:spPr>
          <a:xfrm>
            <a:off x="1042920" y="2455920"/>
            <a:ext cx="6840720" cy="36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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:   </a:t>
            </a: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BIT DE ACARR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OP. ARITMÉ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OP. DESPLAZ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OP. COMPARACIÓN  ( A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≥ B → C = 0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- SCF  →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- AND  →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- OR    →  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- XOR  →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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N:   BIT DE RE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SI LA ÚLTIMA OPERAC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N FUE UNA RESTA  N →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6446880"/>
            <a:ext cx="9144000" cy="368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c3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L54B,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stemas para el Procesamiento de la Inform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380880" y="189000"/>
            <a:ext cx="8153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REGISTRO DE ESTADOS DE   Z-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1547640" y="996840"/>
          <a:ext cx="6072480" cy="1193760"/>
        </p:xfrm>
        <a:graphic>
          <a:graphicData uri="http://schemas.openxmlformats.org/drawingml/2006/table">
            <a:tbl>
              <a:tblPr/>
              <a:tblGrid>
                <a:gridCol w="758880"/>
                <a:gridCol w="758880"/>
                <a:gridCol w="758880"/>
                <a:gridCol w="760320"/>
                <a:gridCol w="758880"/>
                <a:gridCol w="758880"/>
                <a:gridCol w="758880"/>
                <a:gridCol w="758880"/>
              </a:tblGrid>
              <a:tr h="673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/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0" name=""/>
          <p:cNvSpPr/>
          <p:nvPr/>
        </p:nvSpPr>
        <p:spPr>
          <a:xfrm>
            <a:off x="538200" y="2293920"/>
            <a:ext cx="8137440" cy="41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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/V:   </a:t>
            </a: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BIT DE PARIDAD / DESBORD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- LÓGICAS O DESPLAZAMIENTO  P  ( PAR = 1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- ARITMÉTICAS O INCREMENTO  V   ( UNO SÓLO = 1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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H:     </a:t>
            </a: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IT DE ACARREO DE N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ES 1 SI HAY ACARREO ( DESBORDAMIENTO ) DEL </a:t>
            </a: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IT 3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AL </a:t>
            </a: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I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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Z:     </a:t>
            </a: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IT DE NU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ES 1 SI EL RESULTADO ES CERO EN OPER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ARITMÉTICAS Y OPERACIONES LÓGIC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EN COMPARACIONES ES 1 SI LOS ELEMENTOS COMPA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SON IGU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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S:    </a:t>
            </a: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IT DE SIG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ES 1 SI ES NEGATIVO, 0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SI ES NO NEG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6446880"/>
            <a:ext cx="9144000" cy="368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c3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L54B,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stemas para el Procesamiento de la Inform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3T01:48:21Z</dcterms:created>
  <dc:creator>Patricio Catalán</dc:creator>
  <dc:description/>
  <dc:language>en-US</dc:language>
  <cp:lastModifiedBy>Patricio Catalan</cp:lastModifiedBy>
  <dcterms:modified xsi:type="dcterms:W3CDTF">2007-08-13T02:40:25Z</dcterms:modified>
  <cp:revision>5</cp:revision>
  <dc:subject/>
  <dc:title>Diapositiva 1</dc:title>
</cp:coreProperties>
</file>