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6D8-0840-4D40-B847-D2B1E67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044-27E8-4253-8910-F8849BC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482-ECB0-43F1-AC04-72A40300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589-4C87-4FEC-919D-658C5D77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0B2D-71C1-49A5-AD19-0ECFA3B3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9220-EB80-4D73-981A-76E7804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17CD-3F47-43C4-935D-9BAFF91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E54-E944-4E1D-A075-D178FAB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0248-D15F-42F4-B34C-04CA1A8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A1C-AC72-4B67-B9BD-DC804833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56B-CE5D-43B1-A804-66163BB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DE5-D685-4E67-BE66-EB2ADC9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AFE-195D-4B3A-AA3E-E3F49C5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B01-B6C4-4471-811A-1FBC938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B92E-7D55-472F-B4D4-CA12C54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94EF-B10A-4F88-8885-AD6C2D9D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127E-E2F8-48A7-9087-EED2382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2F3-4BD7-48DF-8F96-203F0787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3CE-02B3-478A-A9FC-A09CFEE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0E8-96EB-4796-B304-ABD9033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CD6-FD25-4092-8011-C9D6ED96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5C0-561D-4400-9A2F-FC37771A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ABD-C831-4796-8728-D8F9E80E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677-8CA3-43F7-B582-BD5C879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2A3-6181-4B46-898C-DE559724F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44E-33C6-4A68-A2B2-FCC78349E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EL42D Control de Sistema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Clase Auxiliar: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Lugar Geométrico de las Raíce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(LGR) </a:t>
            </a:r>
            <a:br>
              <a:rPr sz="3000"/>
            </a:br>
            <a:r>
              <a:rPr b="1" i="1" lang="es-ES" sz="1200" spc="-1" strike="noStrike">
                <a:solidFill>
                  <a:srgbClr val="feec94"/>
                </a:solidFill>
                <a:latin typeface="Times New Roman"/>
              </a:rPr>
              <a:t>(Last Greatest Runaway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365720"/>
            <a:ext cx="374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yuda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Gonzalo Kaempfe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ra. Doris Sáez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333360"/>
          <a:ext cx="3673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673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5013360"/>
          <a:ext cx="2431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13360"/>
                    <a:ext cx="243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Lugar geométrico de las raíc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Tahoma"/>
              </a:rPr>
              <a:t>¿Qué e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Corresponde a los puntos del plano complejo, en donde se mueven los polos de un sistema en lazo cerrado con un controlador proporcional (o “sin compensar”), al variar la ganancia del controlado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43700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_tradnl" sz="2600" spc="-1" strike="noStrike">
                <a:solidFill>
                  <a:srgbClr val="ffffff"/>
                </a:solidFill>
                <a:latin typeface="Tahoma"/>
              </a:rPr>
              <a:t>Cómo se determin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445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NEX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Analógic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Dibujar polos y ceros del sistem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existe siempre que a la derecha se vea un número impar de polos y ceros en el eje re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se inicia en los polos y, termina en los ceros o,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i #Polos-#Ceros = N &gt; 0, entonces, el LGR de N polos debe terminar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síntotas: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unto de Partida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ngulo de asíntotas c/r al eje real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en el cual el LGR cruza el eje imaginario (K crítico que garantice estabilidad) se calcula utilizando el criterio de Routh-Hurwit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de salida de los polos del LGR del eje real se calcula así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ángulo de salida de un polo (o el ángulo de llegada de un cero) c/r al LGR se puede determinar con la condición de ángulo, solo si la planta en lazo abierto posee polos conjugad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95640" y="2708280"/>
          <a:ext cx="1308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08280"/>
                    <a:ext cx="1308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35640" y="3645000"/>
          <a:ext cx="328464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645000"/>
                    <a:ext cx="32846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659640" y="479736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479736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discret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 casi la misma historia. A continuación se muestran las principales diferencia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punto de partida del eje real se calcula con la siguiente rel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K crítico se calcula con el criterio de Jury o con el criterio de Routh Hurwitz, aplicando la transformación bilineal y utilizando la sigueinte aproximación, para encontrar el w ficticio crí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(W es un número complejo: W=a+j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580000" y="2060640"/>
          <a:ext cx="18003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18003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80000" y="3429000"/>
          <a:ext cx="18352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429000"/>
                    <a:ext cx="1835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Diseño de controladores en base a LG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2:18:07Z</dcterms:created>
  <dc:creator>Gonzalo Kaempfe</dc:creator>
  <dc:description/>
  <dc:language>en-US</dc:language>
  <cp:lastModifiedBy>Sala</cp:lastModifiedBy>
  <dcterms:modified xsi:type="dcterms:W3CDTF">2007-09-27T13:37:09Z</dcterms:modified>
  <cp:revision>18</cp:revision>
  <dc:subject/>
  <dc:title>EL41B Laboratorio de Redes  Experiencia Electiva I: Resistencias y Condensadores en Potencia.</dc:title>
</cp:coreProperties>
</file>