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5EA-4E67-4588-B91A-7D984A14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04D-9BFA-4B9E-8B23-3090488B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12F-D973-42A5-AEF1-B4C59C16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A7F-2169-441B-9C19-C190DF40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8DF3-85FC-4177-9181-D0A6F03D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C30F-CF3E-481A-AE27-DFDEF460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D21B-D353-45A2-AAB0-AA312D7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7261-1664-471D-9E54-6948F6C5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B7D5-231C-4F33-B429-360FF85B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ACE-76CE-450D-9DC7-CE0167F6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1B5-148E-47EB-9273-47A41E8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B73-CFAF-407F-9506-2F9C6863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F20A-DE8A-48C1-8D89-DF355CB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19FF-89B7-48FB-BD0D-7DD8AB9A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864A-3DAE-492E-9F5C-CCFC6F3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00DB-271C-4534-B641-5988B6B9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2763-5F01-4678-B53F-03A77685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38B-67B7-4504-837E-185749A1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648-F1D1-4538-BB41-75ED545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78D-54BD-4044-B570-48D75F0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A80-BC36-41DC-9368-6A9313BE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B57-1AFE-4D3F-AF95-0D87DC7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744-A34F-42B1-A500-3D347E3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595-CB64-41B7-9382-342582E2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8C6A-B575-446B-8C80-489C226BE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7FE-BCB6-4B46-BC65-DA6A3C86B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EL42D Control de Sistema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Clase Auxiliar: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Lugar Geométrico de las Raíce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(LGR) </a:t>
            </a:r>
            <a:br>
              <a:rPr sz="3000"/>
            </a:br>
            <a:r>
              <a:rPr b="1" i="1" lang="es-ES" sz="1200" spc="-1" strike="noStrike">
                <a:solidFill>
                  <a:srgbClr val="feec94"/>
                </a:solidFill>
                <a:latin typeface="Times New Roman"/>
              </a:rPr>
              <a:t>(Last Greatest Runaway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365720"/>
            <a:ext cx="374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yuda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Gonzalo Kaempfe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ra. Doris Sáez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333360"/>
          <a:ext cx="36734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673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71640" y="5013360"/>
          <a:ext cx="2431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13360"/>
                    <a:ext cx="243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Lugar geométrico de las raíc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Tahoma"/>
              </a:rPr>
              <a:t>¿Qué e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Corresponde a los puntos del plano complejo, en donde se mueven los polos de un sistema en lazo cerrado con un controlador proporcional (o “sin compensar”), al variar la ganancia del controlado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43700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0" i="1" lang="es-ES_tradnl" sz="2600" spc="-1" strike="noStrike">
                <a:solidFill>
                  <a:srgbClr val="ffffff"/>
                </a:solidFill>
                <a:latin typeface="Tahoma"/>
              </a:rPr>
              <a:t>Cómo se determin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4450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NEX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Analógic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Dibujar polos y ceros del sistem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existe siempre que a la derecha se vea un número impar de polos y ceros en el eje re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se inicia en los polos y, termina en los ceros o,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i #Polos-#Ceros = N &gt; 0, entonces, el LGR de N polos debe terminar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síntotas: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unto de Partida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ngulo de asíntotas c/r al eje real =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en el cual el LGR cruza el eje imaginario (K crítico que garantice estabilidad) se calcula utilizando el criterio de Routh-Hurwit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de salida de los polos del LGR del eje real se calcula así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ángulo de salida de un polo (o el ángulo de llegada de un cero) c/r al LGR se puede determinar con la condición de ángulo, solo si la planta en lazo abierto posee polos conjugad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95640" y="2708280"/>
          <a:ext cx="1308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708280"/>
                    <a:ext cx="1308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35640" y="3645000"/>
          <a:ext cx="328464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645000"/>
                    <a:ext cx="32846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659640" y="4797360"/>
          <a:ext cx="133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479736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discret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 casi la misma historia. A continuación se muestran las principales diferencia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punto de partida del eje real se calcula con la siguiente rel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K crítico se calcula con el criterio de Jury o con el criterio de Routh Hurwitz, aplicando la transformación bilineal y utilizando la sigueinte aproximación, para encontrar el w ficticio crí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(W es un número complejo: W=a+j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580000" y="2060640"/>
          <a:ext cx="18003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060640"/>
                    <a:ext cx="18003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80000" y="3429000"/>
          <a:ext cx="18352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429000"/>
                    <a:ext cx="1835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Diseño de controladores en base a LG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2:18:07Z</dcterms:created>
  <dc:creator>Gonzalo Kaempfe</dc:creator>
  <dc:description/>
  <dc:language>en-US</dc:language>
  <cp:lastModifiedBy>Sala</cp:lastModifiedBy>
  <dcterms:modified xsi:type="dcterms:W3CDTF">2007-09-27T13:37:09Z</dcterms:modified>
  <cp:revision>18</cp:revision>
  <dc:subject/>
  <dc:title>EL41B Laboratorio de Redes  Experiencia Electiva I: Resistencias y Condensadores en Potencia.</dc:title>
</cp:coreProperties>
</file>