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51EA-B3CA-4D0B-9AF1-D517E68B3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6B90-55DC-49C7-ACE4-5BB717AAA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F647-C17E-41F1-9EE9-AEB21BDDB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6149-BA57-4D7D-9A07-280D562D6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AE40E-3750-42F4-80AB-DD8F4468C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E395E-E1E1-4C66-B56C-EE3D3EE44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E0667-8A44-45B3-B976-DFB062AE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BC9E9-45F0-4022-BC9A-DE674403A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27118-883F-4C79-8981-997A9C747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3BFA1-98DE-4CF1-949D-DEB280F75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CC260-BBE0-408E-8C73-2B97A7E4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81C6-6537-4D46-A37F-DCC306395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D8A8C-9212-4193-9734-D864CBD9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2CA0E-B7AB-4979-A7DB-CE7CB47A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4FACC-931E-4AA1-81A4-6F8BA2937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EF75E-96BA-41D2-B093-A6988A93B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505E4-0296-4721-9A0F-429FB3AEC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8076-8A3B-4297-A247-9608F4B6A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90E8-CE3E-400D-90E1-966CA22D1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06C6-5C99-4E9A-B802-F9761E566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2C75-7705-49BC-A3F3-0FE9F0139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EA23-5054-41D1-A958-7EFFEB92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F044-024C-48FB-91F6-F42A4F6C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B6C2-0700-45DE-975F-E50EFBD9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7D4E4-F566-46A3-813F-28E4EB2212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98A93-3700-4778-BED4-04C57BBF08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2060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s-ES" sz="3000" spc="-1" strike="noStrike">
                <a:solidFill>
                  <a:srgbClr val="feec94"/>
                </a:solidFill>
                <a:latin typeface="Times New Roman"/>
              </a:rPr>
              <a:t>EL42D Control de Sistemas</a:t>
            </a:r>
            <a:br>
              <a:rPr sz="3000"/>
            </a:br>
            <a:r>
              <a:rPr b="1" lang="es-ES" sz="30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3000"/>
            </a:br>
            <a:r>
              <a:rPr b="1" lang="es-ES" sz="3000" spc="-1" strike="noStrike">
                <a:solidFill>
                  <a:srgbClr val="feec94"/>
                </a:solidFill>
                <a:latin typeface="Times New Roman"/>
              </a:rPr>
              <a:t>Clase Auxiliar:</a:t>
            </a:r>
            <a:br>
              <a:rPr sz="3000"/>
            </a:br>
            <a:r>
              <a:rPr b="1" lang="es-ES" sz="3000" spc="-1" strike="noStrike">
                <a:solidFill>
                  <a:srgbClr val="feec94"/>
                </a:solidFill>
                <a:latin typeface="Times New Roman"/>
              </a:rPr>
              <a:t>Lugar Geométrico de las Raíces</a:t>
            </a:r>
            <a:br>
              <a:rPr sz="3000"/>
            </a:br>
            <a:r>
              <a:rPr b="1" lang="es-ES" sz="3000" spc="-1" strike="noStrike">
                <a:solidFill>
                  <a:srgbClr val="feec94"/>
                </a:solidFill>
                <a:latin typeface="Times New Roman"/>
              </a:rPr>
              <a:t>(LGR) </a:t>
            </a:r>
            <a:br>
              <a:rPr sz="3000"/>
            </a:br>
            <a:r>
              <a:rPr b="1" i="1" lang="es-ES" sz="1200" spc="-1" strike="noStrike">
                <a:solidFill>
                  <a:srgbClr val="feec94"/>
                </a:solidFill>
                <a:latin typeface="Times New Roman"/>
              </a:rPr>
              <a:t>(Last Greatest Runaway)</a:t>
            </a:r>
            <a:endParaRPr b="1" lang="en-US" sz="1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788000" y="4365720"/>
            <a:ext cx="3744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Ayudant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Gonzalo Kaempfe 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Profes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Dra. Doris Sáez 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50920" y="333360"/>
          <a:ext cx="3673440" cy="137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333360"/>
                    <a:ext cx="3673440" cy="13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971640" y="5013360"/>
          <a:ext cx="2431800" cy="82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5013360"/>
                    <a:ext cx="243180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ahoma"/>
              </a:rPr>
              <a:t>Lugar geométrico de las raíces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500" spc="-1" strike="noStrike">
                <a:solidFill>
                  <a:srgbClr val="ffffff"/>
                </a:solidFill>
                <a:latin typeface="Tahoma"/>
              </a:rPr>
              <a:t>¿Qué es?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500" spc="-1" strike="noStrike">
                <a:solidFill>
                  <a:srgbClr val="ffffff"/>
                </a:solidFill>
                <a:latin typeface="Tahoma"/>
              </a:rPr>
              <a:t>Corresponde a los puntos del plano complejo, en donde se mueven los polos de un sistema en lazo cerrado con un controlador proporcional (o “sin compensar”), al variar la ganancia del controlador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16000" y="443700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ahoma"/>
              </a:rPr>
              <a:t>¿</a:t>
            </a:r>
            <a:r>
              <a:rPr b="0" i="1" lang="es-ES_tradnl" sz="2600" spc="-1" strike="noStrike">
                <a:solidFill>
                  <a:srgbClr val="ffffff"/>
                </a:solidFill>
                <a:latin typeface="Tahoma"/>
              </a:rPr>
              <a:t>Cómo se determina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67280" y="5445000"/>
            <a:ext cx="172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ff"/>
                </a:solidFill>
                <a:latin typeface="Tahoma"/>
              </a:rPr>
              <a:t>NEXT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eec94"/>
                </a:solidFill>
                <a:latin typeface="Tahoma"/>
              </a:rPr>
              <a:t>Diseño de LGR Analógico</a:t>
            </a:r>
            <a:endParaRPr b="1" lang="en-US" sz="3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Dibujar polos y ceros del sistema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El LGR existe siempre que a la derecha se vea un número impar de polos y ceros en el eje real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El LGR se inicia en los polos y, termina en los ceros o, en el infinito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Si #Polos-#Ceros = N &gt; 0, entonces, el LGR de N polos debe terminar en el infinito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Asíntotas: </a:t>
            </a: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Punto de Partida: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3" marL="1879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3" marL="1879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Angulo de asíntotas c/r al eje real =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El punto en el cual el LGR cruza el eje imaginario (K crítico que garantice estabilidad) se calcula utilizando el criterio de Routh-Hurwitz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El punto de salida de los polos del LGR del eje real se calcula así: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El ángulo de salida de un polo (o el ángulo de llegada de un cero) c/r al LGR se puede determinar con la condición de ángulo, solo si la planta en lazo abierto posee polos conjugado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995640" y="2708280"/>
          <a:ext cx="1308240" cy="63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2708280"/>
                    <a:ext cx="130824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5435640" y="3645000"/>
          <a:ext cx="3284640" cy="49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35640" y="3645000"/>
                    <a:ext cx="3284640" cy="49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6659640" y="4797360"/>
          <a:ext cx="133344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59640" y="4797360"/>
                    <a:ext cx="13334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eec94"/>
                </a:solidFill>
                <a:latin typeface="Tahoma"/>
              </a:rPr>
              <a:t>Diseño de LGR discreto</a:t>
            </a:r>
            <a:endParaRPr b="1" lang="en-US" sz="3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Es casi la misma historia. A continuación se muestran las principales diferencia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El punto de partida del eje real se calcula con la siguiente relació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El K crítico se calcula con el criterio de Jury o con el criterio de Routh Hurwitz, aplicando la transformación bilineal y utilizando la sigueinte aproximación, para encontrar el w ficticio crític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(W es un número complejo: W=a+jw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580000" y="2060640"/>
          <a:ext cx="1800360" cy="61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0000" y="2060640"/>
                    <a:ext cx="1800360" cy="6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5580000" y="3429000"/>
          <a:ext cx="1835280" cy="79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0000" y="3429000"/>
                    <a:ext cx="183528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ahoma"/>
              </a:rPr>
              <a:t>Diseño de controladores en base a LGR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0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4T02:18:07Z</dcterms:created>
  <dc:creator>Gonzalo Kaempfe</dc:creator>
  <dc:description/>
  <dc:language>en-US</dc:language>
  <cp:lastModifiedBy>Sala</cp:lastModifiedBy>
  <dcterms:modified xsi:type="dcterms:W3CDTF">2007-09-27T13:37:09Z</dcterms:modified>
  <cp:revision>18</cp:revision>
  <dc:subject/>
  <dc:title>EL41B Laboratorio de Redes  Experiencia Electiva I: Resistencias y Condensadores en Potencia.</dc:title>
</cp:coreProperties>
</file>