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33F0-B8C3-4099-A25A-FE071270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93F1-ED29-43B8-A843-0CD0E4AE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EFC6-CA5F-4356-905D-77D0F46F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681B-AE74-4512-9B5D-6BAD0D0B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4A8A-4608-499C-832F-5126EAEE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B2C5-EE53-450E-A55D-410C90C6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2961-E0A7-4C17-AF35-EAE6C613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42D0-07AD-4493-A371-F5DD254F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F3AC-C7A1-44F9-B3C7-9164976E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9788-5E04-4A64-BF63-8C60DA23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66EA-901E-438E-B809-CDD2E36B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18F3-F18B-4601-B871-8214C0DB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DB98-2DD9-4970-A398-26C7A40E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6A7F-89B3-40FB-AA75-F470DA1F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7DB2-EA77-4675-ABBA-EF0C451E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AFE0-3914-434B-B4E1-EFA9BFF5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515C-2620-43FA-827E-97617230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0C1E-4EAD-462E-A07E-CE74822F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9027-D5D0-421D-9BAF-840F52DC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E3AE-4365-4807-8E97-BCCDF765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1A6D-12AA-4D0D-A049-2684E3A7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D7F-635D-4E09-9D71-61D26C67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5915-C0D4-4114-82AF-49CA5316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4790-B5C4-4516-8266-32E6665B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D1B5-85CD-4C0E-B98F-D04CF050EE5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E13E-37A0-484E-B786-7F104D2BEB7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Arial"/>
              </a:rPr>
              <a:t>Detección y corrección de errores.</a:t>
            </a:r>
            <a:br>
              <a:rPr sz="3200"/>
            </a:br>
            <a:r>
              <a:rPr b="1" lang="es-CL" sz="3200" spc="-1" strike="noStrike">
                <a:solidFill>
                  <a:srgbClr val="003366"/>
                </a:solidFill>
                <a:latin typeface="Arial"/>
              </a:rPr>
              <a:t>Asignación de Estados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ign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2852640"/>
          <a:ext cx="49687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852640"/>
                    <a:ext cx="49687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940360" y="2708280"/>
          <a:ext cx="1728720" cy="96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2708280"/>
                    <a:ext cx="17287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5162400" y="2349360"/>
            <a:ext cx="39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erifique las asignac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867280" y="4221000"/>
          <a:ext cx="1729080" cy="92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21000"/>
                    <a:ext cx="17290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C73-94D2-4836-A87D-6A044E8919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tección y correc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1640" y="2362320"/>
          <a:ext cx="61642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2362320"/>
                    <a:ext cx="61642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84E-6C8E-4611-BAAB-072008560D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tección y correc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01640" y="2362320"/>
          <a:ext cx="61642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2362320"/>
                    <a:ext cx="61642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3F2E-F06D-4B10-BB45-B1A916D357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tección y correc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Distancia Ha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Número de bits en que difieren dos vector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Distancia Hamming de un códig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ínima distancia entre sus palabras clav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Decodificación de vecino más cercan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ecodificar x como la palabra clave más cercana a ‘y + e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ABBC-6154-47C8-AE5A-1C79B41402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tección y correc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55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n código con distancia mínima ‘d’ puede corregir [0.5(d-1)] errores, si ‘d’ es par, el código puede simultáneamente corregir 0.5(d - 2) errores y detectar d/2 error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[] = cajón inferi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36C8-A5C2-456B-B0BD-15815A3F0B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tección y correc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55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n código con distancia mínima ‘d’ puede corregir [0.5(d-1)] errores, si ‘d’ es par, el código puede simultáneamente corregir 0.5(d - 2) errores y detectar d/2 error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[] = cajón inferi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00000" y="4221000"/>
          <a:ext cx="7489800" cy="18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221000"/>
                    <a:ext cx="7489800" cy="18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8A12-D712-4613-9332-429E588F14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ódigo Hamm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Código de longitud </a:t>
            </a:r>
            <a:r>
              <a:rPr b="1" lang="es-CL" sz="2800" spc="-1" strike="noStrike">
                <a:solidFill>
                  <a:srgbClr val="003366"/>
                </a:solidFill>
                <a:latin typeface="Arial"/>
              </a:rPr>
              <a:t>n = 2</a:t>
            </a:r>
            <a:r>
              <a:rPr b="1" lang="es-CL" sz="2800" spc="-1" strike="noStrike" baseline="30000">
                <a:solidFill>
                  <a:srgbClr val="003366"/>
                </a:solidFill>
                <a:latin typeface="Arial"/>
              </a:rPr>
              <a:t>r</a:t>
            </a:r>
            <a:r>
              <a:rPr b="1" lang="es-CL" sz="2800" spc="-1" strike="noStrike">
                <a:solidFill>
                  <a:srgbClr val="003366"/>
                </a:solidFill>
                <a:latin typeface="Arial"/>
              </a:rPr>
              <a:t>  –  1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n = longitud de la palabra clav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r = numero de bits de par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Si k = numero de datos del mensa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k &lt;= 2</a:t>
            </a:r>
            <a:r>
              <a:rPr b="1" lang="es-CL" sz="2400" spc="-1" strike="noStrike" baseline="30000">
                <a:solidFill>
                  <a:srgbClr val="003366"/>
                </a:solidFill>
                <a:latin typeface="Arial"/>
              </a:rPr>
              <a:t>r</a:t>
            </a: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 – r – 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B63F-2FE6-4DB2-B9A0-28C9514DC7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tección y correc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1. Usando código Hamming 7 – 4, codifica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101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2. Usando código Hamming 7 – 4, decodifica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10 00 0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00 00 00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B720-E836-4A5D-8B50-6FC9C2FB92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ign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829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cuentre una asignación libre de carreras críticas para la FSM siguien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9640" y="4005360"/>
          <a:ext cx="5616720" cy="14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05360"/>
                    <a:ext cx="561672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B54-24FD-444A-B0E9-04B796F5F2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11-08T04:44:35Z</dcterms:modified>
  <cp:revision>142</cp:revision>
  <dc:subject/>
  <dc:title>Repaso de Probabilidades</dc:title>
</cp:coreProperties>
</file>