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00F-7D30-4055-8D69-E5CD2867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BF9-2B4D-41B0-A1F0-3A431E54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4E2-F0A0-42FD-AF60-21C582E8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5B7-D478-4545-ABB4-B960D93C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15DF-EB5B-4C19-AE81-94BBA5DA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2E67-3F73-46BF-BF78-F17649E8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4DA7-CE49-4FAB-887E-7E2BD8C3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96FC-5232-4D59-9FE5-664E67B6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0301-13AB-4180-A777-E817068A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2A73-9775-405D-9E9B-C1DC2D23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7E68-D2C1-41D5-AADD-7D4307D9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D6B-9FB9-431A-97C6-15DDBF1B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4CDB-DC73-4629-A2D8-89E73D78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108F-D877-4C19-AE26-E846FCAB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9E8D-3EE8-4822-89FA-D9AE6D1D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DA38-FAEF-450E-8428-462B2593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465D-0B85-4E93-8916-666FC954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8C6-92C5-436E-A525-2F66197B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D8E-B3D4-454C-BA52-B1D9B05E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908-3F8E-49D6-A663-7CB7EBF2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38A-4F3F-41C3-BC2A-6C537B30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20E-ACA7-4FBD-B302-0FDB34C9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E52-4F3C-4C6A-A597-4C31546B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AA1-C7E5-4FA5-B968-80FA5758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5D5E-C2FA-4D99-B667-61DDAB4291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7952-331B-431A-B337-C94FEDBAE12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Detección y corrección de errores.</a:t>
            </a:r>
            <a:br>
              <a:rPr sz="3200"/>
            </a:b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Asignación de Estados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gn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2852640"/>
          <a:ext cx="49687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49687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940360" y="2708280"/>
          <a:ext cx="172872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2708280"/>
                    <a:ext cx="1728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162400" y="234936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erifique las asignac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867280" y="4221000"/>
          <a:ext cx="17290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21000"/>
                    <a:ext cx="17290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87E-2057-40AD-8CC5-D450BB0775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1640" y="2362320"/>
          <a:ext cx="61642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2362320"/>
                    <a:ext cx="6164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443-6247-403B-B3D1-02CD925D7A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01640" y="2362320"/>
          <a:ext cx="61642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2362320"/>
                    <a:ext cx="6164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F1C-D643-48A8-9A3D-49A8B72517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Distancia Ha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Número de bits en que difieren dos vecto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Distancia Hamming de un códi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ínima distancia entre sus palabras cla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Decodificación de vecino más cercan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codificar x como la palabra clave más cercana a ‘y + e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DE4-0633-48F6-AC4C-08384573B8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5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n código con distancia mínima ‘d’ puede corregir [0.5(d-1)] errores, si ‘d’ es par, el código puede simultáneamente corregir 0.5(d - 2) errores y detectar d/2 erro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[] = cajón inferi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3FA-F176-46FD-A625-813E7A4FAD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5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n código con distancia mínima ‘d’ puede corregir [0.5(d-1)] errores, si ‘d’ es par, el código puede simultáneamente corregir 0.5(d - 2) errores y detectar d/2 erro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[] = cajón inferi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00000" y="4221000"/>
          <a:ext cx="7489800" cy="18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221000"/>
                    <a:ext cx="7489800" cy="18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CA5-B9A6-4D21-AD48-AA81575FDF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ódigo Hamm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ódigo de longitud </a:t>
            </a:r>
            <a:r>
              <a:rPr b="1" lang="es-CL" sz="2800" spc="-1" strike="noStrike">
                <a:solidFill>
                  <a:srgbClr val="003366"/>
                </a:solidFill>
                <a:latin typeface="Arial"/>
              </a:rPr>
              <a:t>n = 2</a:t>
            </a:r>
            <a:r>
              <a:rPr b="1" lang="es-CL" sz="28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1" lang="es-CL" sz="2800" spc="-1" strike="noStrike">
                <a:solidFill>
                  <a:srgbClr val="003366"/>
                </a:solidFill>
                <a:latin typeface="Arial"/>
              </a:rPr>
              <a:t>  –  1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n = longitud de la palabra cla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r = numero de bits de par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Si k = numero de datos del mens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k &lt;= 2</a:t>
            </a:r>
            <a:r>
              <a:rPr b="1" lang="es-CL" sz="24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 – r – 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E93B-BBDC-47C4-A454-1CD2A77909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tección y correc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1. Usando código Hamming 7 – 4, codifica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101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2. Usando código Hamming 7 – 4, decodifica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10 00 0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00 00 00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56F-C878-4C3E-AEA0-7A6D306D01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gn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829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uentre una asignación libre de carreras críticas para la FSM sigui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4005360"/>
          <a:ext cx="561672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05360"/>
                    <a:ext cx="561672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0FD-0FF0-4026-A364-7E4A32A51F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11-08T04:44:35Z</dcterms:modified>
  <cp:revision>142</cp:revision>
  <dc:subject/>
  <dc:title>Repaso de Probabilidades</dc:title>
</cp:coreProperties>
</file>