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BDC-694A-44F3-A116-94D354D7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7AE-4AEC-475E-B448-08096029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5AA-C638-437C-BBFE-2C947F98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EA7-317F-461C-BF3D-A7E36E18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D718-7E9C-4855-B158-A5DB7788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64EC-924B-4ED0-BE03-EA274DA9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3E24-D23A-4C09-B3BC-D7C8E94C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2C40-6894-46F3-9947-8D932CCB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3A2A-A151-4888-9737-AF9E4CF4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56CD-0276-4CDB-98DB-6508E0BA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49B7-DE7C-4E68-A95F-47832FB5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6B5-DFFC-408B-B93E-C69B7B5F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C69C-772C-4FFB-893A-9A94EE08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8B1-3CB5-40AC-B47B-3B65AF0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E00B-0258-4A38-99FA-2A15F83D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66BC-FD26-4EE0-A3F1-2D10F675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17A4-3D44-47B2-B150-290A60BA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01C-F4C2-4526-86B2-F6980511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8A5-75B6-4BBF-AD7F-1365FC28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656-9808-417D-B759-AD25551F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741-6675-47A2-AAAC-4E80D5ED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42B-BD43-4E18-AF23-63905455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8E2-2067-4B66-92E2-942F2265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835-BFB4-454A-AFC5-6C4ED8C0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C35B-FD14-4932-94B9-70432A9681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F030-3EFC-45AE-A992-A53E76D6E3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Detección y corrección de errores.</a:t>
            </a:r>
            <a:br>
              <a:rPr sz="3200"/>
            </a:b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Asignación de Estados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2852640"/>
          <a:ext cx="49687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49687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940360" y="2708280"/>
          <a:ext cx="17287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08280"/>
                    <a:ext cx="172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162400" y="23493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ifique las asigna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867280" y="4221000"/>
          <a:ext cx="17290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21000"/>
                    <a:ext cx="17290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EF2-9358-414A-AFD2-751EF3FC5C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1640" y="2362320"/>
          <a:ext cx="6164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362320"/>
                    <a:ext cx="6164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450-0B9E-41F2-9F9A-E63D259280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1640" y="2362320"/>
          <a:ext cx="6164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362320"/>
                    <a:ext cx="6164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DBB-B62E-4418-85BD-B8AF0E66DB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istancia Ha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Número de bits en que difieren dos vect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istancia Hamming de un códi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ínima distancia entre sus palabras cla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ecodificación de vecino más cerca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codificar x como la palabra clave más cercana a ‘y + 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A49-EB18-4670-B29D-446015D7A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ódigo con distancia mínima ‘d’ puede corregir [0.5(d-1)] errores, si ‘d’ es par, el código puede simultáneamente corregir 0.5(d - 2) errores y detectar d/2 err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[] = cajón inferi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88E-7681-4647-B58D-99A2906A69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ódigo con distancia mínima ‘d’ puede corregir [0.5(d-1)] errores, si ‘d’ es par, el código puede simultáneamente corregir 0.5(d - 2) errores y detectar d/2 err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[] = cajón inferi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4221000"/>
          <a:ext cx="7489800" cy="18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221000"/>
                    <a:ext cx="7489800" cy="18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5A4-09DA-4EF7-AE85-63D9616E90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ódigo Ham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ódigo de longitud </a:t>
            </a: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n = 2</a:t>
            </a:r>
            <a:r>
              <a:rPr b="1" lang="es-CL" sz="28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  –  1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n = longitud de la palabra cla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r = numero de bits de par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i k = numero de datos del mens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k &lt;= 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 – r – 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FF8-5CF8-49AF-B76B-5CA787D7A1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1. Usando código Hamming 7 – 4, codifica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2. Usando código Hamming 7 – 4, decodifica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10 00 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00 00 00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E87-5047-4188-B08B-0B1BC5A00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uentre una asignación libre de carreras críticas para la FSM sigu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4005360"/>
          <a:ext cx="56167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56167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4BF-957F-4367-9F8F-D6F0F4212D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1-08T04:44:35Z</dcterms:modified>
  <cp:revision>142</cp:revision>
  <dc:subject/>
  <dc:title>Repaso de Probabilidades</dc:title>
</cp:coreProperties>
</file>