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1C2-AA40-4460-B6C8-D9B2D338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FAC-13C8-4125-8B4C-9A3E234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ABE-4C2E-4CB0-B5BE-7B604881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2B1-4938-4D64-B51F-CC5656B4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9DC4-C8FB-4D85-AC9B-ED705880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B0F-AFEB-483E-8147-ED39841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38D6-FB1E-4B51-AECD-4E3830D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451-92AF-402C-AD62-B80CA069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9A5-0BE6-48A1-BAEE-D670CF5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1FB1-A034-47AF-8613-3C98A29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A792-70F0-4E82-A4F7-7B634E8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7FD-EC44-4D76-AAC8-173A8AB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B18-64E2-419D-B7B0-BA59E78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BC4-3BB7-4D1F-9D97-508CA42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1D40-755B-40E0-85B4-0DE68240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212A-3B38-4CD5-8FDE-9BAD47A5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CD78-AA7C-4A3B-B73F-81BE9E2B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EAA-B3F0-4D12-A086-7A8E615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903-D85E-4908-B110-9014410E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08D-D77E-4E2E-B334-24C30A39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902-714D-4088-BB19-A1327576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84E-BC01-4111-9BE7-6E230A2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C65-AC4D-47D6-845F-4362BD19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89E-8753-4C47-A332-458BF28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FE4-646C-4C6E-AF0D-D7449977E8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6563-0A80-4A61-88CB-9388248ABD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Detección y corrección de errores.</a:t>
            </a: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1F9-0775-4055-B705-8B1E02A4D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764-7B07-4440-9D4F-A3C9E12E9A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732-113F-4900-BB49-382855276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úmero de bits en que difieren dos vect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 de un códi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ínima distancia entre sus palabras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ecodificación de vecino más cerca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codificar x como la palabra clave más cercana a ‘y + 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651-A194-41C6-B42C-03CE081DC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3F9-E440-4A91-BB9A-42F9BE4C0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4221000"/>
          <a:ext cx="748980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48980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4C9-E091-456E-A5DD-75DE460A5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ódigo Ham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ódigo de longitud 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n = 2</a:t>
            </a:r>
            <a:r>
              <a:rPr b="1" lang="es-CL" sz="28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  –  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 = longitud de la palabra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 = numero de bits de par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i k = numero de datos del mens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k &lt;= 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 – r – 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F72-8156-4CB9-8C2A-0287596EB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1. Usando código Hamming 7 – 4, 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2. Usando código Hamming 7 – 4, de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 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 00 00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BA0-784D-4555-A831-344DCA506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28E-0D49-43DD-A9C7-61FE55A63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8T04:44:35Z</dcterms:modified>
  <cp:revision>142</cp:revision>
  <dc:subject/>
  <dc:title>Repaso de Probabilidades</dc:title>
</cp:coreProperties>
</file>