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25B7-5CEA-4DA3-B1FF-4EB238E01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4953-4C65-475E-BA18-331EBB43F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D03D-125B-4D0F-8046-D6FC057E9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ECAF-F511-41DE-A439-B4476767C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74C1C-4F44-4FE5-A403-287D1C133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6557A-A2A2-472B-9EDF-32EDED5DA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F8E57-C836-409E-9099-D08AF6BB3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1363F-05AF-4376-A8EE-D1A21319E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A13E4-8883-4FE3-BE36-4B9816095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C51F6-4640-491E-A5F0-D058F1D72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71CD1-4577-4A5F-950E-09A5CBF6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8C09-6F99-4C9E-B1F5-81B0C8514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252E9-DEE7-44EA-8E61-3E1B76B0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B8AC7-7696-4743-964A-C7AB8190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64DF9-7DBF-4C73-B345-C842F213C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9BE43-B09F-45B6-9146-FA11EDF37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9F99F-7A51-4E8A-95AA-0C62952C5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A312-2FDE-469B-8485-767A65BE7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423A-46B9-496A-A3B4-3C5D4D74E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5DCE-F90C-4236-9E55-475CA4437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1C84-5CE2-4E9C-9C07-C3BF1F245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5197-5860-4E8B-9A0B-D51C6936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752E-9D89-4C55-A7EA-9014271B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6695-7FB9-4AF8-BCEC-E368764C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ABF99-775B-4DDD-BEEC-3569A41B617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86328-72B8-4CE2-A078-E42FD917806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66"/>
                </a:solidFill>
                <a:latin typeface="Arial"/>
              </a:rPr>
              <a:t>Minimización de FSM.</a:t>
            </a:r>
            <a:br>
              <a:rPr sz="3600"/>
            </a:br>
            <a:r>
              <a:rPr b="1" lang="es-CL" sz="3600" spc="-1" strike="noStrike">
                <a:solidFill>
                  <a:srgbClr val="003366"/>
                </a:solidFill>
                <a:latin typeface="Arial"/>
              </a:rPr>
              <a:t>Asignación de Estados.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43280" y="503568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66"/>
                </a:solidFill>
                <a:latin typeface="Arial"/>
              </a:rPr>
              <a:t>Javier Acuña O.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66"/>
                </a:solidFill>
                <a:latin typeface="Arial"/>
              </a:rPr>
              <a:t>EL42B. Procesamiento Digital de la Información.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nimización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45975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nimice la siguiente FS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556000" y="3284640"/>
          <a:ext cx="2160360" cy="171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3284640"/>
                    <a:ext cx="2160360" cy="17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C971-814C-4293-A1E5-58A6A82B32C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nimización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0920" y="2852640"/>
          <a:ext cx="5329080" cy="26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852640"/>
                    <a:ext cx="5329080" cy="26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6300720" y="2637000"/>
            <a:ext cx="2232000" cy="1774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0D1E-62CB-4A44-986D-D921EB142B6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nimización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6973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nimice usando un grafo de compatibilid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403280" y="3429000"/>
          <a:ext cx="1677960" cy="21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429000"/>
                    <a:ext cx="1677960" cy="21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E2FB-F43B-4825-8EFC-FB09D39271B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nimización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0" y="2276640"/>
          <a:ext cx="586728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76640"/>
                    <a:ext cx="586728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6443640" y="3141720"/>
            <a:ext cx="1733400" cy="2232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239F-9CC7-4127-856F-18D10B4D690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signación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68295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ncuentre una asignación libre de carreras críticas para la FSM siguient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539640" y="4005360"/>
          <a:ext cx="5616720" cy="14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005360"/>
                    <a:ext cx="561672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8952-8EBA-4414-8927-1FE72AB574F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signación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50920" y="2852640"/>
          <a:ext cx="4968720" cy="15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852640"/>
                    <a:ext cx="4968720" cy="15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5940360" y="2708280"/>
          <a:ext cx="1728720" cy="960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0360" y="2708280"/>
                    <a:ext cx="172872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5162400" y="2349360"/>
            <a:ext cx="39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Verifique las asignacion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5867280" y="4221000"/>
          <a:ext cx="1729080" cy="925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21000"/>
                    <a:ext cx="172908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0C8E-C451-4E93-BC3E-FBFB5083821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8T23:30:57Z</dcterms:created>
  <dc:creator>javier</dc:creator>
  <dc:description/>
  <dc:language>en-US</dc:language>
  <cp:lastModifiedBy>Javier</cp:lastModifiedBy>
  <dcterms:modified xsi:type="dcterms:W3CDTF">2007-11-01T17:46:32Z</dcterms:modified>
  <cp:revision>135</cp:revision>
  <dc:subject/>
  <dc:title>Repaso de Probabilidades</dc:title>
</cp:coreProperties>
</file>