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39B-A86F-4330-B929-A3E5D045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DFA-CFE9-451C-AC2F-A96F7964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1BB-98E7-4167-B2A6-D9652868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DB9-14B3-4888-A638-850E76C6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8DD-98B1-4556-9DF5-248B7649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04FF-CE03-4F38-9DDF-54F40E21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8A0E-36C2-4D16-AE00-B420ACA3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C7B8-915A-4F2F-821F-4AE32478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7558-E807-45D0-951D-65AC854A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A440-215E-451C-A6A5-E4514CA8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0B52-AAAB-4F09-ABF0-43582A0B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A1F-F725-481C-9A74-CC77F89F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4CA3-0E6A-4871-93E5-3862DE8E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1359-06F9-4250-A8B9-0D6F473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3BA0-22EA-4FE2-B380-DD877DF9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59AD-4E14-4973-AACF-662BE22A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7B64-489C-4855-9D1B-78E8AF60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6C3-6124-4A95-9B38-F23B0E2C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064-C6A0-401F-A52A-5B3A48CD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12B-B97C-4A3A-9944-D55E1956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56A-A160-44B1-BEF5-B491BF6B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E80-3C94-4730-8D96-EA02896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8CD-EB85-48DF-8B53-B7D00132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A3A-81B7-4F62-B0A5-F41C20C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3005-D93C-4F9D-B985-62590C94EB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1316-948A-4AF3-9D48-880F478435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Minimización de FSM.</a:t>
            </a:r>
            <a:br>
              <a:rPr sz="3600"/>
            </a:b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Asignación de Estado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ce la siguiente FS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56000" y="3284640"/>
          <a:ext cx="2160360" cy="17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284640"/>
                    <a:ext cx="216036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902-E45C-4B18-BBCC-FBEF801F8F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852640"/>
          <a:ext cx="532908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532908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223200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495-9331-41FD-9184-2D33EEE94E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973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ice usando un grafo de compat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3429000"/>
          <a:ext cx="16779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429000"/>
                    <a:ext cx="16779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0BA-3012-418F-8770-42922E5A01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nimiz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2276640"/>
          <a:ext cx="58672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58672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173340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4A4-6AF2-413A-B2E2-517C0CF6E8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uentre una asignación libre de carreras críticas para la FSM sigui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4005360"/>
          <a:ext cx="561672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05360"/>
                    <a:ext cx="56167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6AE-281C-4191-A3C4-99DC93996D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gnació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2852640"/>
          <a:ext cx="49687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49687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2708280"/>
          <a:ext cx="172872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2708280"/>
                    <a:ext cx="1728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162400" y="2349360"/>
            <a:ext cx="39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erifique las asigna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867280" y="4221000"/>
          <a:ext cx="17290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21000"/>
                    <a:ext cx="17290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BA5-5C55-4404-824D-E6ADCF519D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1-01T17:46:32Z</dcterms:modified>
  <cp:revision>135</cp:revision>
  <dc:subject/>
  <dc:title>Repaso de Probabilidades</dc:title>
</cp:coreProperties>
</file>