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6FA-6405-4360-86E3-CB936A89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C14-2C39-412E-AE23-139A3940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5EA-9ACD-480C-92FB-78B59966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A90-159C-4167-9C73-24440608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6983-13A6-4F54-9C46-749768A3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D075-6EEC-4267-B5A4-2F37BFA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4A9-F859-407C-9C80-3D59C90F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2E01-D49F-4855-86DA-061E1D0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5F37-21BB-42FB-8F7A-B5DE07D9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AE52-FAFC-4322-A7FE-375DF6A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1F1-8CF4-4693-B766-5CCAC09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6D4-9655-46FF-BA3E-B591271F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3D7C-D4E8-4735-819B-7B68E8B8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1FC-CE36-4BEF-AF61-7CC23D99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84DC-46C0-4328-B6E6-D3E3CCC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0D64-0679-46B4-A336-8F202903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5EB0-40FE-4CFD-ADC1-1FE4E4B1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E0D-40FA-40A9-8AE9-D6C15504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473-7604-4DAC-80AC-A13E28CD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B74-C862-4B3A-90E5-1F5375EF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968-87C9-479A-A29E-40D3FF02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920-5907-42AA-B096-F9EEE5DB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5EE-64EB-4518-91F3-DA57C2ED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41F-ED5E-46EC-BAE0-F1122CEB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D074-843B-4298-9472-7F078E14FA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8D11-3D43-488E-BB85-3E9C4FDBA4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Minimización de FSM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la siguiente F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56000" y="3284640"/>
          <a:ext cx="216036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284640"/>
                    <a:ext cx="216036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7E4-1BAD-4D4C-AF8C-2F6D12A6E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852640"/>
          <a:ext cx="532908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53290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23200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62D-1CCC-4A3F-8CE7-9BD23DC9E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973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usando un grafo de compat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3429000"/>
          <a:ext cx="16779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16779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228-E143-44B1-AE1F-9240D4B1E9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2276640"/>
          <a:ext cx="58672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58672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17334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E9B-7A73-4896-9830-9AE8CFE63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D21-9311-4D53-AC5F-1525DE618B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215-63CA-4CE8-B27E-FBAABB14AC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1T17:46:32Z</dcterms:modified>
  <cp:revision>135</cp:revision>
  <dc:subject/>
  <dc:title>Repaso de Probabilidades</dc:title>
</cp:coreProperties>
</file>