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68E-DBCA-4821-A83F-F9AD9DFF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6C3-F03F-49E7-A229-1D5152C1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9B6-D005-463B-A65C-851CC24F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9C7-DE1A-443F-A48C-1601A687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7FCE-1784-48EB-B147-55FBBAEB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7A64-A1DD-4E50-8F5F-0DE18F4A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1889-AA1A-436C-B062-ACF548C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8068-244B-41ED-A330-0BC9C00F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3900-4E82-4408-A13B-31B4124F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59AF-F2D9-4E4B-B771-F03497DF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D1D5-D3A5-4F82-A2E6-2689CEC5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E36-C399-42D8-A6D9-43FDBF47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F5DA-DDAA-4BB9-BB6F-AED1FEA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AECD-E0E2-453E-9093-D035156E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EDFF-3A81-45D1-AB4A-A5AE1E43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8099-ECE8-46F5-B571-929DF489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BCB6-205A-4015-BD7A-FE02FDA0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871-B41E-4809-AD0D-380EAC08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6C1-2B59-4700-ADF7-11B4C33B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F66-047D-4561-B43B-5FF67AA0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E4A-0B78-460E-BD2F-4E072CC2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47D-6CE1-4217-A315-CC718ADD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266-41A5-41CE-9A4F-118FD318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CAE-AE15-4817-AC3E-BC43B7B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202C-91B3-4877-86F6-933F8B559B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76D4-1354-47DD-BDE9-2B53E2E579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Minimización de FSM.</a:t>
            </a:r>
            <a:br>
              <a:rPr sz="3600"/>
            </a:b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Asignación de Estado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ce la siguiente FS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56000" y="3284640"/>
          <a:ext cx="2160360" cy="17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284640"/>
                    <a:ext cx="216036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A66-1072-4BAB-8166-5AFA63BA59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852640"/>
          <a:ext cx="532908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532908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223200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C22-069B-43BA-B3B0-858E0126BA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973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ce usando un grafo de compat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3429000"/>
          <a:ext cx="16779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429000"/>
                    <a:ext cx="16779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3CD-FE68-4427-8F82-D3CF44E493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2276640"/>
          <a:ext cx="58672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58672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173340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814-DA10-4F59-9DED-2F1C61F8F9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uentre una asignación libre de carreras críticas para la FSM sigu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4005360"/>
          <a:ext cx="56167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56167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253-CE12-4A21-96C9-BD3ADC9A4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2852640"/>
          <a:ext cx="49687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49687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2708280"/>
          <a:ext cx="17287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08280"/>
                    <a:ext cx="172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162400" y="23493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ifique las asigna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867280" y="4221000"/>
          <a:ext cx="17290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21000"/>
                    <a:ext cx="17290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E8C-1588-4701-B112-01A6E8DD9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1-01T17:46:32Z</dcterms:modified>
  <cp:revision>135</cp:revision>
  <dc:subject/>
  <dc:title>Repaso de Probabilidades</dc:title>
</cp:coreProperties>
</file>