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E0C-C237-41D4-B3E3-83570B1F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44B-FEDD-4C66-B4A2-0117FAF9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581-EFE5-490A-A8FD-F9BF4DDC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C99-0204-42C3-8251-38D3D19E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21E-194D-429C-BFBC-16F6A9C0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CC0C-416A-448D-A1E8-2F7886AE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46BE-64A3-4C8E-BD20-C4F40BB8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B9E1-7C3F-4CA6-8BA6-E66A3BBA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DACD-3069-43C1-8491-9764FDA1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545E-A145-441B-A17D-8E11E8F8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3B0F-B6F1-4B3B-BCD6-891A4D6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C45-2FC9-44A6-8CAC-DB48B6A9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1F45-31B4-482C-81C0-53ECAB1D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6DB3-143B-41DE-8FA9-D4A9317E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0E48-EAD0-4370-980E-B494E99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F2ED-9FDD-464C-A5E4-CAE15342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D946-32B9-48AF-AB21-F2BC2243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134-5130-4EE2-8114-818006F8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85C-1D15-4DB4-AA93-F322FCEE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320-4B60-4B80-8C25-8979AA5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375-318D-45E9-8F4E-766FC4FE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7E9-77B1-4125-A57D-AADC7CAB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0B3-FB77-456B-8628-08632FC1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B09-DFCA-4FED-B5BC-6E850681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14DA-65D4-437A-8F3C-AE8FA7ED7C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29AD-E9FB-4688-96F3-AA14467692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Diseño de FS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SM que reconoce 01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2762280"/>
          <a:ext cx="555336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62280"/>
                    <a:ext cx="55533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E78-D400-46F2-9BD8-070B9A47CB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de exci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2349360"/>
          <a:ext cx="460872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60872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88000" y="2637000"/>
          <a:ext cx="3770280" cy="19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637000"/>
                    <a:ext cx="377028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85B-7EFD-490D-894B-1A956BE34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637000"/>
          <a:ext cx="417672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417672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98C-3F0E-4258-97B8-9D0B0165B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rchivo Espres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63640" y="2492280"/>
          <a:ext cx="28177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92280"/>
                    <a:ext cx="28177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FB0-DD5E-411B-B5A6-771E163E07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0-12T22:42:26Z</dcterms:modified>
  <cp:revision>122</cp:revision>
  <dc:subject/>
  <dc:title>Repaso de Probabilidades</dc:title>
</cp:coreProperties>
</file>