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7D2-5496-4944-AADA-72E075AA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769-D91C-4A92-A480-D85C8918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C4C-9034-42C3-AEE6-F0FAB824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DC8-CECD-449B-8DEC-14833021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2874-9E0F-49AD-B97C-EDF0BEBA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313-68A4-4607-AD40-777E1154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8FDA-8051-406A-9188-F9A0A73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D51E-A2A1-4006-8B0F-372D2998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6F9D-27EE-46B3-B938-5B095271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5CF6-68EE-410D-8EB0-ADD5CD21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31B-949D-4467-8B9A-1F43A93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EDB-B962-4C76-9514-BC51CBFF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589B-5722-437C-8F97-6DE1148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2D04-51A7-4652-9CF2-F0E63A2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1F9B-9C08-472B-B127-842236FD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14F1-FB25-487C-853F-9E1AF219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214F-7557-4128-9BC3-C2D32DD6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5FF-7675-4A7F-9437-A97076F5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022-6A3C-46F5-BA8E-38D4D9EE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A64-82F7-4D80-839D-08263512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ED5-FD12-4396-B97B-7359F06B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644-0561-434F-93BA-4465742B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9C5-B8BD-41B8-A795-2C2833A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DF6-9213-4AEA-8E5E-ECD310FF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2D02-9675-41B3-A21A-619C33F57E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DA5-1142-408D-9ECE-1FA3DC947B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Diseño de FS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SM que reconoce 01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762280"/>
          <a:ext cx="555336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62280"/>
                    <a:ext cx="5553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EA6-D98B-4341-804A-AA0659F08E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de exci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2349360"/>
          <a:ext cx="4608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608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8000" y="2637000"/>
          <a:ext cx="3770280" cy="19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37000"/>
                    <a:ext cx="3770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202-716F-4273-B64A-30A8D952F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637000"/>
          <a:ext cx="417672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417672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5E7-42BC-48B3-8A3D-F80ABED15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rchivo Espres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3640" y="2492280"/>
          <a:ext cx="28177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92280"/>
                    <a:ext cx="28177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CE2-21DF-4667-B22C-849B79687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0-12T22:42:26Z</dcterms:modified>
  <cp:revision>122</cp:revision>
  <dc:subject/>
  <dc:title>Repaso de Probabilidades</dc:title>
</cp:coreProperties>
</file>