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E59-3C69-4423-87F3-5D6F3000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84F-22EA-4CCF-B9F8-C80E555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9ED-4E15-431F-A2D9-AD89AA6F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234C-6457-4C3A-962C-D0C9DD3D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5CFF-32D0-41C7-A928-218175E4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0476-C84E-4212-BE28-11F79EEC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69E9-1590-4074-B0DA-478F84AD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FAED-3561-4F8E-B3CC-594F0EE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5003-D1DE-44D1-9DDC-98CC447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8510-CEB1-4C9C-9ECF-3075F912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F8AB-DF6C-48CE-A055-929170C6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F83-748D-4014-B244-C3F9A51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EF9D-D3DB-43E6-912B-EB117A5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3299-5B22-4ABE-A1D5-9DFD0922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3802-621F-4E38-9083-EF4D609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2E6C-129F-44BB-807C-531F4F15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A8B-CE8F-49CF-8882-A6FE18EE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358-06F6-4F3E-8FE3-83BCFE54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079E-5102-4451-A93C-19B70C9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FEF-BE41-4F8E-8FD2-E982FCE4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935-62BF-4F4A-8F04-2DAB250D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BD9-867D-40B1-95B1-19674756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955-49FD-4B40-B78E-0D51F57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806-E670-46FA-A9D8-3CD7EBF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6145-75E7-4C9A-BCCA-817D082884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40F3-53CF-487B-9E72-DA7F0FED76E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66"/>
                </a:solidFill>
                <a:latin typeface="Arial"/>
              </a:rPr>
              <a:t>Diseño de FSM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3280" y="503568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EL42B. Procesamiento Digital de la Información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FSM que reconoce 01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908000" y="2762280"/>
          <a:ext cx="5553360" cy="29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762280"/>
                    <a:ext cx="555336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E13-C4E0-476B-92E6-F3EC102AF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abla de excit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2349360"/>
          <a:ext cx="4608720" cy="375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349360"/>
                    <a:ext cx="4608720" cy="37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788000" y="2637000"/>
          <a:ext cx="3770280" cy="19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637000"/>
                    <a:ext cx="377028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834-B0F6-4326-AF6E-15A7A61EB8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55640" y="2637000"/>
          <a:ext cx="417672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417672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64A-8F21-4254-8FAD-3605A58B40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rchivo Espress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63640" y="2492280"/>
          <a:ext cx="28177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92280"/>
                    <a:ext cx="28177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vier Acuña O. EL42B, Procesamiento Digital de la Información 2007.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7F5-7EDA-41AB-8E84-9778CD9B89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8T23:30:57Z</dcterms:created>
  <dc:creator>javier</dc:creator>
  <dc:description/>
  <dc:language>en-US</dc:language>
  <cp:lastModifiedBy>javier</cp:lastModifiedBy>
  <dcterms:modified xsi:type="dcterms:W3CDTF">2007-10-12T22:42:26Z</dcterms:modified>
  <cp:revision>122</cp:revision>
  <dc:subject/>
  <dc:title>Repaso de Probabilidades</dc:title>
</cp:coreProperties>
</file>