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2BD1F-39F0-49B3-89B8-DD201DC35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1A3AD-E1CF-4F14-9F98-3A13B02AA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EA8DD-C8A6-4282-9443-12EC606D6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48FFE-79B5-4086-8C9A-D6BC6B857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5BCA1-3B7A-4214-9CE6-EFC8A3CA3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BC694-622B-4A57-A436-198D6FC20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C3E3A-4AA3-4D3A-A452-99E3F19B2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16C21-213D-4CFE-988D-3FBA23092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9B760-8B7D-4DE9-A91F-27A10797C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ED4E8-901A-4960-9B14-CDBEBBB38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41618-EC58-40F6-8F01-CF780A60D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FEF88-254B-4815-B0D8-0BE8F7D60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96D0A-A9DA-458A-AE5B-B8A2D426A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B8475-73E1-4D2F-BE84-9D5D5847F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DD017-2E22-4471-9631-E49C06DAC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92781-3F0E-48FE-8567-768E10B23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E8A1C-988A-4A78-9BDD-19E6EC6CB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931D4-ED2E-4EB9-B3E1-D337ABFE6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AA05E-7029-4F2E-AF66-72A5C4AF1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83B4D-D0F3-4181-A9CA-502A48A17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929DB-FA46-4ACE-B818-56C316A43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9F328-1CD2-41EC-8421-0D974EEBC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97CB6-85F8-4ED2-9AB8-70BCE9AA8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3D728-945B-40D3-9DF1-8837D2E75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36B59-7869-409E-B8C6-9DAC46AD83E6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C59D1-7CBB-4F2A-A534-E9926EFE2AEE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3366"/>
                </a:solidFill>
                <a:latin typeface="Arial"/>
              </a:rPr>
              <a:t>Diseño de FSM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43280" y="503568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6666"/>
                </a:solidFill>
                <a:latin typeface="Arial"/>
              </a:rPr>
              <a:t>Javier Acuña O.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6666"/>
                </a:solidFill>
                <a:latin typeface="Arial"/>
              </a:rPr>
              <a:t>EL42B. Procesamiento Digital de la Información.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FSM que reconoce 0110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1908000" y="2762280"/>
          <a:ext cx="5553360" cy="29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8000" y="2762280"/>
                    <a:ext cx="5553360" cy="29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vier Acuña O. EL42B, Procesamiento Digital de la Información 2007.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DB946-F7C4-4F3E-A0F0-3FFD8B3AC99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Tabla de excitació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179280" y="2349360"/>
          <a:ext cx="4608720" cy="375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2349360"/>
                    <a:ext cx="4608720" cy="375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3" name=""/>
          <p:cNvGraphicFramePr/>
          <p:nvPr/>
        </p:nvGraphicFramePr>
        <p:xfrm>
          <a:off x="4788000" y="2637000"/>
          <a:ext cx="3770280" cy="1985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88000" y="2637000"/>
                    <a:ext cx="3770280" cy="198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vier Acuña O. EL42B, Procesamiento Digital de la Información 2007.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016C8-12D7-42E0-AB42-38E3864D817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8T23:30:57Z</dcterms:created>
  <dc:creator>javier</dc:creator>
  <dc:description/>
  <dc:language>en-US</dc:language>
  <cp:lastModifiedBy>javier</cp:lastModifiedBy>
  <dcterms:modified xsi:type="dcterms:W3CDTF">2007-10-05T03:22:22Z</dcterms:modified>
  <cp:revision>121</cp:revision>
  <dc:subject/>
  <dc:title>Repaso de Probabilidades</dc:title>
</cp:coreProperties>
</file>