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BD2-92C0-419B-AC77-7A88489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A83-E275-4E44-9493-6A0A31C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0AD-9577-4E05-A31B-CF281054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649-BBB5-4AF0-A7EA-820100DD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3E18-94F1-4632-806D-F48702CD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CE3-8DBD-40BA-969A-AF0C7A98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435-B7C0-4048-8772-22C5CC8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8A4-7FF0-44D9-8AA1-EB1979CC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5BC3-6E2B-41D2-BB3F-44668FB3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D20E-9FF3-4C38-ABEB-8DFCB7A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1D44-1C9B-4BE8-AFE7-04DC9C3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971-7CD8-419C-BAC6-E5788BD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E1D3-02C6-4058-8702-ABB8A7E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1F57-C4A4-4ABB-8D8F-B32C4FA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2429-C6F1-4287-BB17-7401A01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72F-7398-44A7-BA10-0243A177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F8DE-829C-47E2-A2C1-204021B3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A27-37B2-4DE8-A2B6-7F41008F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D4B-4A63-4DA7-BBC7-7AD17F8D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F6C-E18C-4335-A18B-2CF5157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0D0-A671-4EA9-8D72-FB2C7586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DCC-912B-4978-BD20-905B9AF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62C-BC1D-4370-B249-03F547D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957-6BF7-4988-ABF1-3825BFC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DFB-CAE4-4D5C-998B-111A47F016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173F-EACE-469D-A8A4-2C4177C50E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BF8-2748-4FFA-8089-5472811ECC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C3C-C92F-453C-91DC-D36C6E5B9E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05T03:22:22Z</dcterms:modified>
  <cp:revision>121</cp:revision>
  <dc:subject/>
  <dc:title>Repaso de Probabilidades</dc:title>
</cp:coreProperties>
</file>