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0C79-ADD2-4E19-AD03-71AA6C0EB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8BEA-25A3-41D5-8168-AC846A75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64E7-432C-4241-AD3B-92447E808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0442-CB53-4CE6-AE2E-A7A705861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206B2-858D-4F17-B59F-BC42DC01C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9D880-9C2E-4E8E-B07F-26AE46B6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8151-BA9A-478C-A036-DBB90B77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DC7A2-5D92-49B4-B700-D184FD3F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C2AB-4DD2-4AEA-B5FD-5A0580D9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F94A-7934-4503-8810-EB19A0CA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C26A-92F1-4FE6-AC4F-E1E891A6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81D7-EA2D-45E7-815E-9F8E8BDE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8AC5-5298-422F-A30B-289A1E30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585D5-D4F7-48E1-9A28-DF496ED4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DA1EC-D1E5-4E70-B582-815EDA30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34C8-C7DA-42E0-93F9-3E7F47516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EA64-5881-4EE2-BC4F-6B8F75032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51BB-34E6-4978-8C44-80EC36F4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F97B-E288-43EA-B2E4-3AC7DB1D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62AA-2333-43F1-9E69-21755811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4C0D-FAE4-41A0-B194-3CA44427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E2CA-8594-496A-8345-58F458D6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B118-D7D6-4A7A-849F-719C0AC8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E88C-241C-4CB5-85A2-3DB3C898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F2B2-EC47-4F4A-90F4-642EB5291A7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2A21-ED7F-4349-9A93-DB55A728745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Diseño de FSM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3280" y="503568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Javier Acuña O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EL42B. Procesamiento Digital de la Información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FSM que reconoce 011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908000" y="2762280"/>
          <a:ext cx="5553360" cy="29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762280"/>
                    <a:ext cx="555336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14E3-8319-48E1-84B2-49F64E96C6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Tabla de excit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79280" y="2349360"/>
          <a:ext cx="4608720" cy="375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349360"/>
                    <a:ext cx="4608720" cy="37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788000" y="2637000"/>
          <a:ext cx="3770280" cy="198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2637000"/>
                    <a:ext cx="377028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13D7-35B3-449C-99E2-4CD98C9076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8T23:30:57Z</dcterms:created>
  <dc:creator>javier</dc:creator>
  <dc:description/>
  <dc:language>en-US</dc:language>
  <cp:lastModifiedBy>javier</cp:lastModifiedBy>
  <dcterms:modified xsi:type="dcterms:W3CDTF">2007-10-05T03:22:22Z</dcterms:modified>
  <cp:revision>121</cp:revision>
  <dc:subject/>
  <dc:title>Repaso de Probabilidades</dc:title>
</cp:coreProperties>
</file>