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D7DB-06A5-4F9B-95F2-9FE475C49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F6A6-4D46-42D1-B17C-904382802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64F2-E74A-40D6-B6D7-CD7BB40C6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B3E9-5665-4A59-9071-2EF98AD58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6E341-8204-4DAC-9A65-B0DC29D5C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5759A-4E9E-4E23-923B-3C0D4E6F6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8BC5D-25DD-4101-8AB9-233624EC8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03F98-8762-42CF-9B74-855CFE783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AE82D-BA27-40DF-804C-A987EE1A4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04D49-D937-40F1-8AAB-A546A29ED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908DD-3FB9-4ED4-BBD6-695BFA00D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60D6-64D3-43D7-A58C-948874FE8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DA146-E724-40B6-A10F-C156B2946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9F1CC-5A61-4810-9B7C-74AE79BCA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19C93-0B30-43B6-91BD-C69F2489D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D1EB3-CDCC-45EE-B2E0-623B2A227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67441-81FA-486C-BDB1-5E3A46B58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AD8C-4C69-4989-89BE-8C595828D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1D6C-C5AA-4B0B-879A-C9DD1D6A4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D851-4878-4731-99CE-1272CB1F6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617E-5367-41DC-B215-C52520254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5DF8-AB5E-4A11-A88E-CA7CF88AB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609D-3576-4FAD-8660-3D2D0EB42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8DA1-DAA6-4CAF-AA10-BBF1129C6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9F222-029B-4ABF-A72E-6998F9588BD9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56AC8-22FF-42F0-B214-B257808C8870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3366"/>
                </a:solidFill>
                <a:latin typeface="Arial"/>
              </a:rPr>
              <a:t>Diseño de FSM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43280" y="503568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66"/>
                </a:solidFill>
                <a:latin typeface="Arial"/>
              </a:rPr>
              <a:t>Javier Acuña O.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66"/>
                </a:solidFill>
                <a:latin typeface="Arial"/>
              </a:rPr>
              <a:t>EL42B. Procesamiento Digital de la Información.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FSM que reconoce 0110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908000" y="2762280"/>
          <a:ext cx="5553360" cy="29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2762280"/>
                    <a:ext cx="5553360" cy="29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ier Acuña O. EL42B, Procesamiento Digital de la Información 2007.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4B7E-3A1D-4DE5-8F53-2A7FC2EED91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Tabla de excitació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79280" y="2349360"/>
          <a:ext cx="4608720" cy="375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2349360"/>
                    <a:ext cx="4608720" cy="375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4788000" y="2637000"/>
          <a:ext cx="3770280" cy="1985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88000" y="2637000"/>
                    <a:ext cx="3770280" cy="198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ier Acuña O. EL42B, Procesamiento Digital de la Información 2007.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42D8-93E2-40C8-BB8A-CE1D5C45466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8T23:30:57Z</dcterms:created>
  <dc:creator>javier</dc:creator>
  <dc:description/>
  <dc:language>en-US</dc:language>
  <cp:lastModifiedBy>javier</cp:lastModifiedBy>
  <dcterms:modified xsi:type="dcterms:W3CDTF">2007-10-05T03:22:22Z</dcterms:modified>
  <cp:revision>121</cp:revision>
  <dc:subject/>
  <dc:title>Repaso de Probabilidades</dc:title>
</cp:coreProperties>
</file>