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F1A-07B6-4EAA-9E97-1896EACE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DDD-6334-41E0-BC57-8E48644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8BD-C1C5-44AB-A830-793F745E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1A6-E226-442F-9AE8-68E3F76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7EBA-725B-4E48-892B-10BBBD9F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9772-F9A7-4D4F-B7BB-65D67F5D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F19-7CA9-4025-9490-C47667C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502B-424D-4B36-B550-DAB83779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41E-4602-4E55-85FA-494E6D5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569-6233-4BB9-89BB-466493A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6CA-5C6F-4E61-971B-8D697FE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A30-2BFE-4B2E-ADDE-B7ED6E67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07C7-C0D3-432C-BEA6-9933332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92A5-DAA5-482C-B11F-BAC58F8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DE0-A485-48EE-A770-CD2D186E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027B-95A8-41E5-9B2D-0E75BFDF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3DC1-629B-4605-9FE0-F2425388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E85-CD12-4326-BE4A-10E9B2C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178-E6F6-4AD4-ADDD-E6C1296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2F3-A628-4D29-8C31-5D0AF097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FFB-533D-4BAE-8E44-C59C3D3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A35-E095-4CB5-811C-1BB5E1E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F5A-DE02-4968-A6FE-FBEBD3C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425-5A7A-46AC-B29C-8902770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6E6-4AD9-4C9C-ACAA-B0A3F0622D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09C-1092-4446-BC7F-0ACD3F21E6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Quine - M</a:t>
            </a:r>
            <a:r>
              <a:rPr b="1" lang="es-CL" sz="36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luskey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inimice la función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0,1,4,6,8,9,10,12)+d(5,7,1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D2D-D967-4F91-AD0E-C44C7D242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340000" y="2924280"/>
          <a:ext cx="360036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0036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93D-1B54-4F7E-8060-866315193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 de múltiples salid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3,5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2,3,5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D73-0555-4F11-9F11-E499C5ED55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411280" y="2924280"/>
          <a:ext cx="360072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24280"/>
                    <a:ext cx="360072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269-11F2-4A5C-81BF-F7B1D9698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Felices vacaciones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No se olviden de la tarea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881-691D-445A-834A-33AA443AE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Implementar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1,3,5,6,1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mu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decodific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a R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A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EAE-0DB3-4276-A933-D999AD509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2565360"/>
          <a:ext cx="15667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65360"/>
                    <a:ext cx="1566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1D8-42CC-43A2-B945-4308CAC6F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4005360"/>
          <a:ext cx="381924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3819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E29-89D9-4A09-9E6D-91C2EE0D6A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92360" y="2781360"/>
          <a:ext cx="4392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781360"/>
                    <a:ext cx="4392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84360" y="3789360"/>
          <a:ext cx="18111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789360"/>
                    <a:ext cx="18111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B9E-645E-48D5-9233-03282E43D3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3429000"/>
          <a:ext cx="37702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37702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175-24FA-4FE1-9BE9-71EDF45645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3,4,5,7,9,13,14,1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A1B-A9CD-4228-B6E7-CCEDD7D9C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00360" y="2781360"/>
          <a:ext cx="35272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81360"/>
                    <a:ext cx="35272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0A2-B9EC-4D83-80DD-E17780D0D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3789360"/>
          <a:ext cx="38196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3819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777-C286-4DD0-B57A-6C110B97E8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13T18:51:49Z</dcterms:modified>
  <cp:revision>117</cp:revision>
  <dc:subject/>
  <dc:title>Repaso de Probabilidades</dc:title>
</cp:coreProperties>
</file>