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A49-8DE8-4C2D-9CFB-29FD9176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F4E-2668-4DA1-96CB-3AC12CF7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72A-D18B-41C6-A25C-FA35358B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1C0-E4DB-4953-B539-9A15504F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F59-84C3-45C0-AB11-EE861341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B60A-BDFE-4BBC-9098-C93D12D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8A2F-1D3D-458B-98A9-8D6A42F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B5B1-C81F-42A0-9D82-F82E4A82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37DB-5B31-4E36-96F8-C223A793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B343-D431-46FE-AF9E-C4757086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11A3-F2DD-4B64-AE32-D764C1B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E9C-3FEC-4C28-AB90-856F9B3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02D-ACC5-44CF-847A-596D54C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003-5CE2-4C7D-AC5D-72160B6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03FE-76E7-4858-AF28-7D2BBCB1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5505-23E1-45E7-BC4D-6E937496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1381-667F-448A-ACE4-32859E62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A9F-01E5-4D05-9F1C-2731D37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ACD-7F8C-4AB6-BBE0-ABC0054D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A21-E1BF-48FE-9338-CAC878E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C55-3E7A-48D2-9853-76A4FC6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03E-4318-41DF-BA38-9280BA3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BB0-372B-4AFD-BA00-0D4D0BA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C6D-F43C-4411-A493-9CB4AF9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E69-22DE-434D-976C-74B8FAF8F7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00F-D3AD-4BC1-8BAE-58713E32F9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Quine - M</a:t>
            </a:r>
            <a:r>
              <a:rPr b="1" lang="es-CL" sz="3600" spc="-1" strike="noStrike" baseline="30000">
                <a:solidFill>
                  <a:srgbClr val="0033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luskey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inimice la función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0,1,4,6,8,9,10,12)+d(5,7,1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1F7-1169-4221-A1B9-1A0C2D42D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340000" y="2924280"/>
          <a:ext cx="360036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360036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117-87EF-4201-B2B3-D2AC71DC0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 de múltiples salid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3,5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2,3,5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E4C-995B-478B-9F7D-4E285DCF89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411280" y="2924280"/>
          <a:ext cx="360072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24280"/>
                    <a:ext cx="360072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0BF-49C5-4F1A-8CB2-F3535D04D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Felices vacaciones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No se olviden de la tarea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0F8-9DF9-4391-9BFB-EED709DC7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Implementar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1,3,5,6,1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mu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decodificad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a R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A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F62-5D45-4344-85A8-64068DCD3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2565360"/>
          <a:ext cx="15667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65360"/>
                    <a:ext cx="1566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0D0-DA91-4AA1-B147-26785EC39B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4005360"/>
          <a:ext cx="381924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3819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A09-9B17-421D-AA1E-53ECE0E23B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92360" y="2781360"/>
          <a:ext cx="4392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781360"/>
                    <a:ext cx="4392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84360" y="3789360"/>
          <a:ext cx="18111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789360"/>
                    <a:ext cx="18111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97B-7CCA-43FE-94C8-D2F1770C0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3429000"/>
          <a:ext cx="377028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377028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A15-6732-43A7-8864-62C68D644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3,4,5,7,9,13,14,1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3A4-714A-49E8-93B8-2B29F77E3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00360" y="2781360"/>
          <a:ext cx="35272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81360"/>
                    <a:ext cx="35272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F6D-1EBC-410F-BB68-AEF7E0E85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3789360"/>
          <a:ext cx="38196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789360"/>
                    <a:ext cx="38196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AF9-08D2-4AF9-A6C6-F0A1F29BE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13T18:51:49Z</dcterms:modified>
  <cp:revision>117</cp:revision>
  <dc:subject/>
  <dc:title>Repaso de Probabilidades</dc:title>
</cp:coreProperties>
</file>