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AEB-EE6A-47E4-A698-42732C67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8E8-E58E-4519-AC40-79A915E4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A15-1A65-46F3-8AF4-7C263142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2AD9-49F7-46B2-BA03-2DD8C84D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47EB-57A5-4DB3-9FF8-48D9C7DE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7FE3-B663-45D3-AA2A-C6E03732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DDB1-0E54-4DED-8C5B-207A6349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B122-3666-46CB-8E38-1305405C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C28F-9CD9-4764-99A9-882C3307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298E-06CE-4EF0-8406-A3FC9936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E994-19D2-4C5F-9C3E-C1357262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500-04EF-4075-8058-92E6C90D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4E36-479A-411E-9DA1-A84686BD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80F4-BF38-4D5B-9E10-D69F7CEA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2397-70F5-41F8-83C9-808AD569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D606-803D-46D1-B7B6-2DEB38AD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28EE-2A37-48CA-980F-BB5E0E27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E6D-385E-4026-8A11-A091457D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04B4-E336-40B6-9A4B-BE094880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A3D-B21A-4442-B110-19FE0FDC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77DC-5323-4731-B094-D2373E6A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0BA-E251-4A8D-8BD6-6B546E92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E87-C4DF-4B9A-919E-31ED0BEF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857-643D-46B3-B82B-7F9A7315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9AB6-40A9-4565-99C3-050F6111C93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0B77-BCE2-4EAD-B302-8AF1FFE4656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Quine - M</a:t>
            </a:r>
            <a:r>
              <a:rPr b="1" lang="es-CL" sz="3600" spc="-1" strike="noStrike" baseline="30000">
                <a:solidFill>
                  <a:srgbClr val="0033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Cluskey.</a:t>
            </a:r>
            <a:br>
              <a:rPr sz="3600"/>
            </a:b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Lógica con MSI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189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inimice la función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f(a,b,c,d) = </a:t>
            </a:r>
            <a:r>
              <a:rPr b="0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(0,1,4,6,8,9,10,12)+d(5,7,1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D7FE-CAF4-4C37-B67A-B3CF5D40A5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2340000" y="2924280"/>
          <a:ext cx="360036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924280"/>
                    <a:ext cx="360036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633-E7C4-4AAD-B1B3-818DEEB060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Minimice la función de múltiples salida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s-CL" sz="36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(x,y,z) = </a:t>
            </a:r>
            <a:r>
              <a:rPr b="0" lang="es-CL" sz="36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m(0,1,3,5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s-CL" sz="36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(x,y,z) = </a:t>
            </a:r>
            <a:r>
              <a:rPr b="0" lang="es-CL" sz="36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m(2,3,5,6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9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s-CL" sz="36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(x,y,z) = </a:t>
            </a:r>
            <a:r>
              <a:rPr b="0" lang="es-CL" sz="36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m(0,1,6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747-C9C7-4CDA-ACCD-7415F04A0C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411280" y="2924280"/>
          <a:ext cx="3600720" cy="26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924280"/>
                    <a:ext cx="360072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ED6-381D-4230-99D2-A741003BE2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F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Arial"/>
              </a:rPr>
              <a:t>Felices vacaciones!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Arial"/>
              </a:rPr>
              <a:t>No se olviden de la tarea!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911F-D353-4396-B0F8-B35A8EF583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Lógica con MS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Implementar la fun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f(A,B,C,D) = </a:t>
            </a:r>
            <a:r>
              <a:rPr b="0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(1,3,5,6,10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un mux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un decodificad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una RO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NAN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Usando N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36D-7045-4E9F-91E1-A9FD8DEDDC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f(A,B,C,D) = </a:t>
            </a:r>
            <a:r>
              <a:rPr b="1" lang="es-CL" sz="3600" spc="-1" strike="noStrike">
                <a:solidFill>
                  <a:srgbClr val="006666"/>
                </a:solidFill>
                <a:latin typeface="Symbol"/>
                <a:ea typeface="Symbol"/>
              </a:rPr>
              <a:t>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m(1,3,5,6,10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16000" y="2565360"/>
          <a:ext cx="156672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565360"/>
                    <a:ext cx="15667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6C5-8B35-481B-9792-F2064A57F5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f(A,B,C,D) = </a:t>
            </a:r>
            <a:r>
              <a:rPr b="1" lang="es-CL" sz="3600" spc="-1" strike="noStrike">
                <a:solidFill>
                  <a:srgbClr val="006666"/>
                </a:solidFill>
                <a:latin typeface="Symbol"/>
                <a:ea typeface="Symbol"/>
              </a:rPr>
              <a:t>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m(1,3,5,6,10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4005360"/>
          <a:ext cx="381924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05360"/>
                    <a:ext cx="381924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5BF-998A-47B2-93EE-B974E38DD0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Lógica con MS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scriba la función que implementan estos circui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492360" y="2781360"/>
          <a:ext cx="439272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781360"/>
                    <a:ext cx="43927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84360" y="3789360"/>
          <a:ext cx="1811160" cy="20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3789360"/>
                    <a:ext cx="18111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F08-690B-413D-B1E9-E5D07616F9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Lógica con MSI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189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scriba la función que implementan estos circuit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32000" y="3429000"/>
          <a:ext cx="3770280" cy="25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429000"/>
                    <a:ext cx="3770280" cy="25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5BB-946F-4BCA-AE88-373E36AD80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Minimice la fun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f(A,B,C,D) = </a:t>
            </a:r>
            <a:r>
              <a:rPr b="0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m(3,4,5,7,9,13,14,1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237-01CD-481C-B049-2D59B991F4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700360" y="2781360"/>
          <a:ext cx="352728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781360"/>
                    <a:ext cx="352728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750D-5910-479D-9561-BDC507A9B5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Quine-M</a:t>
            </a:r>
            <a:r>
              <a:rPr b="1" lang="es-CL" sz="3600" spc="-1" strike="noStrike" baseline="30000">
                <a:solidFill>
                  <a:srgbClr val="006666"/>
                </a:solidFill>
                <a:latin typeface="Arial"/>
              </a:rPr>
              <a:t>c</a:t>
            </a: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lusk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26920" y="3789360"/>
          <a:ext cx="38196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789360"/>
                    <a:ext cx="38196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C98-8830-4CDB-93CD-2B7A6ACEB4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09-13T18:51:49Z</dcterms:modified>
  <cp:revision>117</cp:revision>
  <dc:subject/>
  <dc:title>Repaso de Probabilidades</dc:title>
</cp:coreProperties>
</file>