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1E4-AEFC-4012-866A-FA0B8D33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333-9955-49BB-808A-C951A2C5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07B-7EDF-4DCE-BD45-C32B9838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A3A-E898-423C-ACA6-CBCF24A4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AF1F-DDCD-4C7A-A43B-4395B07A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135A-DBC9-4679-8031-9D0CFE08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4DE7-657F-4802-BEB1-5C8F199C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46C4-2815-47A4-903D-16BF7B0D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E3AD-AD00-487C-B4DA-C471FC8F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F318-D2CA-4C48-816B-40DB7841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A312-81AD-412E-A10F-1A0CE749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1CC-EB3E-4E1B-ACAF-6B2DBFDA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D5E0-2895-4968-889E-A697CFA6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2884-2AE4-40EA-93E7-5FF5179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599B-654E-4C1E-92E9-F6940E7E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F41C-04BB-4A3D-93DA-406E5F62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4CA2-9DE2-4DB6-BD77-EE1FD123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E94-B16B-4BCD-B342-8029B8FA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618-EFA2-45F7-952C-F3E9162B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FDD-2176-4FD4-9962-9424027E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DAB-7070-4274-9388-E2008184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CA3-0FD1-43BB-885D-4F6E9ECF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90A-AEB3-42DD-9650-D8A99E4C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B0E-4E96-4EC1-95AE-D83763D3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DC71-2C92-4C59-867C-E9C98F623E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84B5-129C-44AB-ADC6-B83BF85785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Quine - M</a:t>
            </a:r>
            <a:r>
              <a:rPr b="1" lang="es-CL" sz="3600" spc="-1" strike="noStrike" baseline="30000">
                <a:solidFill>
                  <a:srgbClr val="0033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Cluskey.</a:t>
            </a:r>
            <a:br>
              <a:rPr sz="3600"/>
            </a:b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inimice la función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(a,b,c,d) =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(0,1,4,6,8,9,10,12)+d(5,7,1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8AC-3DED-4240-974A-E0DF765670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2340000" y="2924280"/>
          <a:ext cx="360036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360036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272-C80C-4B46-B60D-6203F2F29D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inimice la función de múltiples salid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(x,y,z) = </a:t>
            </a:r>
            <a:r>
              <a:rPr b="0" lang="es-CL" sz="3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m(0,1,3,5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(x,y,z) = </a:t>
            </a:r>
            <a:r>
              <a:rPr b="0" lang="es-CL" sz="3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m(2,3,5,6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(x,y,z) = </a:t>
            </a:r>
            <a:r>
              <a:rPr b="0" lang="es-CL" sz="3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m(0,1,6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E6B-02F5-4467-8DA1-B9B17777DC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411280" y="2924280"/>
          <a:ext cx="360072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924280"/>
                    <a:ext cx="360072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55B-B280-4B81-8AF2-6D320451F1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Arial"/>
              </a:rPr>
              <a:t>Felices vacaciones!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Arial"/>
              </a:rPr>
              <a:t>No se olviden de la tarea!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1FF-5DBA-4D59-A8F1-5FEDD58A15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Implementar la fun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(A,B,C,D) =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(1,3,5,6,10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un mu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un decodificad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una RO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NA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N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B29-6F22-4AF4-91EE-FFA30D9B33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(A,B,C,D) = </a:t>
            </a:r>
            <a:r>
              <a:rPr b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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(1,3,5,6,10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16000" y="2565360"/>
          <a:ext cx="156672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565360"/>
                    <a:ext cx="15667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C7E-18D1-49A5-9BCE-769FA32F91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(A,B,C,D) = </a:t>
            </a:r>
            <a:r>
              <a:rPr b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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(1,3,5,6,10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4005360"/>
          <a:ext cx="381924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381924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CEF-9701-41CA-ACCA-27352283EC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scriba la función que implementan estos circui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92360" y="2781360"/>
          <a:ext cx="43927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781360"/>
                    <a:ext cx="43927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84360" y="3789360"/>
          <a:ext cx="181116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789360"/>
                    <a:ext cx="18111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413-5A12-4D6B-A588-13DDA7E9E8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scriba la función que implementan estos circui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32000" y="3429000"/>
          <a:ext cx="377028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429000"/>
                    <a:ext cx="377028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AC0-41C8-4CA7-B70D-7A0F70CABD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inimice la fun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(A,B,C,D) =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(3,4,5,7,9,13,14,1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FEA-0D0E-4D1D-BD44-E722340AC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700360" y="2781360"/>
          <a:ext cx="35272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81360"/>
                    <a:ext cx="35272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D0A-8C5C-4F28-AB56-5C834323C9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26920" y="3789360"/>
          <a:ext cx="38196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789360"/>
                    <a:ext cx="38196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E23-72D1-46E1-B9C3-F5AF62EF61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9-13T18:51:49Z</dcterms:modified>
  <cp:revision>117</cp:revision>
  <dc:subject/>
  <dc:title>Repaso de Probabilidades</dc:title>
</cp:coreProperties>
</file>