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2F0-5696-4F99-8C57-829087A0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738-CE5A-4F76-9952-0444218F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796-9DC1-4BD3-9390-29E9CDA6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DAB-7B9E-4AF0-AB0E-D49422CA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CE2F-A8EA-4431-95AC-BFE73427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E28C-5AD6-4A42-BB48-D70833FB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76F5-7A28-430A-91B3-5385592B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74F-C3A0-4D32-B4B1-8668C643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171B-FC97-4447-8EAF-03124136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33FB-0CAC-461E-8C8C-FF5BFBD1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0C46-D695-48EE-8C56-5156EBFD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783-F565-4E16-9DB4-81C678C0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CE3D-83DF-4E5D-9FD2-80FBE327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9345-56BB-41F3-95CD-070F19F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6973-813C-4FF1-BD81-52C0C7BE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C02D-1B1C-47BC-8AD4-217CCB3C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58E1-475B-4DA1-B39D-2CA08967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FF5-6B70-4D8C-B8A0-5560E55F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7F1-1941-4EED-A024-B8D2B241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36D-7C39-4BDC-9A68-9BD22E1A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D59-DD72-4E29-B376-73F17F33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BD6-C908-4B21-99C3-EF7D7CCE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4DE-80C5-4071-84B8-4C41A6E9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447-AAB1-4E5F-91CD-EAC2763D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04AF-8E00-4B9A-8092-DC10243889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726A-8B6B-45FB-9346-861F67038A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Circuitos Combinacionales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Utilizando un CI 74HC148 (codificador 8 a 3), diseñar un sistema de comunicación para las 16 habitaciones de un hotel, de modo que, cuando algún cliente desee que llegue el botones, pulse un botón, y en la conserjería se indique el número de la habitación (en binario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Si varios clientes llaman a la vez, la habitación de mayor número tiene priorida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AEB-11C2-495D-8BD3-617D70A151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74HC148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63640" y="2565360"/>
          <a:ext cx="345600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565360"/>
                    <a:ext cx="345600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79280" y="3284640"/>
          <a:ext cx="151308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284640"/>
                    <a:ext cx="1513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92720" y="2492280"/>
          <a:ext cx="3527280" cy="338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2492280"/>
                    <a:ext cx="352728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E7C-0F45-4FC3-8FD6-56CC99CBD9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187280" y="3068640"/>
          <a:ext cx="6553440" cy="28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068640"/>
                    <a:ext cx="655344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68360" y="189000"/>
            <a:ext cx="3770640" cy="261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AEE-3107-4D4D-B0E0-90ABD213AD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441520" y="2362320"/>
          <a:ext cx="5619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1520" y="2362320"/>
                    <a:ext cx="5619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510240" y="2362320"/>
          <a:ext cx="27000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0240" y="2362320"/>
                    <a:ext cx="2700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4000" y="260280"/>
          <a:ext cx="6202080" cy="626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260280"/>
                    <a:ext cx="620208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F50-AC27-4507-96EF-D732C6C56C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79280" y="260280"/>
          <a:ext cx="6142320" cy="616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614232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70B-B0CC-441B-BF6E-ED5B9B75C7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51280" y="2276640"/>
          <a:ext cx="48448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276640"/>
                    <a:ext cx="48448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755640" y="3141720"/>
            <a:ext cx="325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siguiente circuito, el período del reloj es 100 ns, el retardo en un inversor, es de 10 ns, y en una compuerta, de 20 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ibuje la salida 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2D3-3BFC-4279-B793-58BB59340F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268280"/>
          <a:ext cx="608472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60847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263-BF20-4D80-8076-B5CE992BD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5614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contrar la función SoP mínima del siguiente sistema de múltiples salid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19280" y="3213000"/>
          <a:ext cx="597708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597708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D22-578D-407A-A48D-580C7361CC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421000"/>
          <a:ext cx="65880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6588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8F4-34DB-4779-BD11-E45FEFC295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2920" y="2492280"/>
          <a:ext cx="36734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92280"/>
                    <a:ext cx="36734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367344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16000" y="5445000"/>
            <a:ext cx="3600360" cy="1212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292720" y="3573360"/>
            <a:ext cx="31240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628-3CE2-4CBA-86C6-DD61456EC5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492280"/>
          <a:ext cx="28814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28814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987640" y="3933720"/>
            <a:ext cx="2808360" cy="1212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262728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0" y="5645160"/>
            <a:ext cx="287964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019920" y="3860640"/>
            <a:ext cx="31240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F0F-838F-448B-9330-77C6D84AEB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abla Implicantes Primar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2349360"/>
          <a:ext cx="615636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615636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F04-5858-483D-9703-FB267DB355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26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ircuito tiene la siguiente tabla de ver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la función Booleana que lo defi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Dibuje un circuito que lo implemen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132000" y="2924280"/>
          <a:ext cx="2664000" cy="19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924280"/>
                    <a:ext cx="266400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5DE-E171-4757-8CE9-B1C51B1310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8-17T05:20:10Z</dcterms:modified>
  <cp:revision>92</cp:revision>
  <dc:subject/>
  <dc:title>Repaso de Probabilidades</dc:title>
</cp:coreProperties>
</file>