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434-B88E-4733-99CD-C5F0BCE8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C1E-A81C-4D90-B3CD-38CEDE0F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D48-1E33-44A8-84A1-6C8EFE71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3A6-A3C1-4587-A4C8-A07D8831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67A0-A78A-4D71-824E-AD235216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1986-5BA5-4DD1-BA37-4B449BEC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637A-138F-47C3-89E6-CBEC88AE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3757-288D-48C9-86A9-6F192AF4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BBD3-BBD5-4037-9F87-E37F0721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FA49-1F61-4E17-A1DC-82524A89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6B48-5E13-4249-886F-0FE88F65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440-FD10-4A22-BED1-7D3FE41D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E392-7920-4985-83C7-0805B566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1422-1E2B-48A4-9852-D1793A7E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EE3D-D7CD-4151-B428-599CDC2E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86EF-20DE-4BEF-A6A1-C2191B8A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9BCA-EB59-477F-8F2D-053B25C0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668-1BEA-4FB6-A1B7-B207CA44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C69-3E60-4411-A0A2-436FDC50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60A-4B09-42ED-B72A-F7F5964D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1DB-7853-42D1-9626-88CE0261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E90-9CC9-4D94-B91B-6377968F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311-855A-481B-AE4D-6EE4BEA7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CCB-F1D2-43BF-955E-C7E8724F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31AB-738D-487B-98E4-3F2426D1E7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6DC4-90D0-40FA-BC45-57929736C9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Circuitos Combinacionales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4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Utilizando un CI 74HC148 (codificador 8 a 3), diseñar un sistema de comunicación para las 16 habitaciones de un hotel, de modo que, cuando algún cliente desee que llegue el botones, pulse un botón, y en la conserjería se indique el número de la habitación (en binario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Si varios clientes llaman a la vez, la habitación de mayor número tiene priorida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AAB-5ABB-47E3-87B3-211FC7F213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74HC148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63640" y="2565360"/>
          <a:ext cx="345600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565360"/>
                    <a:ext cx="345600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79280" y="3284640"/>
          <a:ext cx="151308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284640"/>
                    <a:ext cx="15130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292720" y="2492280"/>
          <a:ext cx="3527280" cy="338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2492280"/>
                    <a:ext cx="352728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BA8-3679-4F7F-A26F-F8FA3EABF7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187280" y="3068640"/>
          <a:ext cx="6553440" cy="28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068640"/>
                    <a:ext cx="655344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268360" y="189000"/>
            <a:ext cx="3770640" cy="261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8D0-AE11-489E-94E8-A434C31B41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441520" y="2362320"/>
          <a:ext cx="56196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1520" y="2362320"/>
                    <a:ext cx="5619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510240" y="2362320"/>
          <a:ext cx="270000" cy="17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0240" y="2362320"/>
                    <a:ext cx="2700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24000" y="260280"/>
          <a:ext cx="6202080" cy="626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260280"/>
                    <a:ext cx="620208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28C-803E-4105-A6B5-8DDA056B4A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79280" y="260280"/>
          <a:ext cx="6142320" cy="616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6142320" cy="61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8F5-503E-47DE-A18A-2C5B6B3D50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51280" y="2276640"/>
          <a:ext cx="48448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276640"/>
                    <a:ext cx="48448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755640" y="3141720"/>
            <a:ext cx="3252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 el siguiente circuito, el período del reloj es 100 ns, el retardo en un inversor, es de 10 ns, y en una compuerta, de 20 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ibuje la salida 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85E-FAE7-4219-853A-AE5776A56E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268280"/>
          <a:ext cx="608472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60847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FD7-11DA-4131-BF2A-289F967C13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5614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contrar la función SoP mínima del siguiente sistema de múltiples salid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19280" y="3213000"/>
          <a:ext cx="597708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597708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14A-8940-46BD-A4E8-8C00C418FC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4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421000"/>
          <a:ext cx="658800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6588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2CC-0B81-404D-80CC-76809001A5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4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42920" y="2492280"/>
          <a:ext cx="36734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492280"/>
                    <a:ext cx="36734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3673440" cy="1212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16000" y="5445000"/>
            <a:ext cx="3600360" cy="1212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292720" y="3573360"/>
            <a:ext cx="3124080" cy="12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AB7-D346-4BA3-93AD-F207EF8CFA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4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492280"/>
          <a:ext cx="28814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2280"/>
                    <a:ext cx="28814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987640" y="3933720"/>
            <a:ext cx="2808360" cy="1212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262728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0" y="5645160"/>
            <a:ext cx="287964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6019920" y="3860640"/>
            <a:ext cx="3124080" cy="12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EE2-FA2D-43AC-920B-48F89D2D96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abla Implicantes Primario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2349360"/>
          <a:ext cx="615636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615636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E22-6504-4E18-8932-E32785CD77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3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263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n circuito tiene la siguiente tabla de ver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cuentre la función Booleana que lo defi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Dibuje un circuito que lo implemen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132000" y="2924280"/>
          <a:ext cx="2664000" cy="19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924280"/>
                    <a:ext cx="266400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8AB-EAF3-4907-AB1D-D63961896D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8-17T05:20:10Z</dcterms:modified>
  <cp:revision>92</cp:revision>
  <dc:subject/>
  <dc:title>Repaso de Probabilidades</dc:title>
</cp:coreProperties>
</file>