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705-BB1A-4BC7-9672-EB944FC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865-E00D-4268-BCA2-6FEC5C7D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FA7-8D0E-4578-86F0-3B0BC32D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BC8-DF31-466B-9980-23948021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C0C-6F56-4A08-A6BE-0F55DAD1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1AF4-938E-42D0-B867-22EECBFA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C478-0EC2-44CD-BE4F-05333E49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E28-FEC9-43AA-B45C-2710D624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E94F-4BA9-4FE3-BF65-3B6BCCC8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1552-5DFD-45E5-A983-7DAC4960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D577-A110-419E-AB7D-2EFA6F5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1FA-AB54-4F65-8155-53C1BD96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7415-7CB4-456D-BB01-4E00AC09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142-75BA-47E9-8EF2-EFB7E83D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DE3C-46E7-4F1F-8018-467A2B14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E47E-BDF5-4167-8BC3-B10CD03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4B31-589F-4B2F-A92B-0AA66723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E84-FFDA-4A09-AEE2-D6AD8A70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0AE-406E-4528-B34F-4FB81C0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503-F54F-49E0-BB02-8357181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68F-4D8F-4988-9F5F-8DDCA8A6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BBF-8238-4F41-A6DD-DBFBD178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088-C9D3-4AB6-9E7F-B985792E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F1E-E1BD-40A5-A425-CD3C8D37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4A4-A861-435B-A8CC-7FEF9AEFAF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9D3-A8C2-4373-8A6C-88CA8F76C1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ircuitos Combinacionale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Utilizando un CI 74HC148 (codificador 8 a 3), diseñar un sistema de comunicación para las 16 habitaciones de un hotel, de modo que, cuando algún cliente desee que llegue el botones, pulse un botón, y en la conserjería se indique el número de la habitación (en binario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i varios clientes llaman a la vez, la habitación de mayor número tiene prior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F88-43E2-48D2-A331-D21C8E056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74HC148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2565360"/>
          <a:ext cx="345600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565360"/>
                    <a:ext cx="34560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79280" y="3284640"/>
          <a:ext cx="151308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284640"/>
                    <a:ext cx="1513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92720" y="2492280"/>
          <a:ext cx="3527280" cy="338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492280"/>
                    <a:ext cx="35272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B14-D79B-49BA-A424-5D75C993AF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187280" y="3068640"/>
          <a:ext cx="655344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068640"/>
                    <a:ext cx="65534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68360" y="189000"/>
            <a:ext cx="3770640" cy="26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F87-1213-41AB-BF06-5F58C32696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441520" y="2362320"/>
          <a:ext cx="5619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1520" y="2362320"/>
                    <a:ext cx="5619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510240" y="2362320"/>
          <a:ext cx="27000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0240" y="2362320"/>
                    <a:ext cx="2700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4000" y="260280"/>
          <a:ext cx="6202080" cy="626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60280"/>
                    <a:ext cx="6202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713-B028-4360-A907-3614C5A034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9280" y="260280"/>
          <a:ext cx="6142320" cy="616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614232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312-935D-4CC1-93E5-78D901351B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ns, el retardo en un inversor, es de 10 ns, y en una compuerta, de 20 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D36-EEF4-4104-A72D-ABBD87CF3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268280"/>
          <a:ext cx="60847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60847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FC5-BE17-425A-9955-1BABA0A99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5614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contrar la función SoP mínima del siguiente sistema de múltiples sali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19280" y="3213000"/>
          <a:ext cx="597708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597708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8C8-E4D8-4857-A3FC-BC050EDE09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556-C5FD-415E-8E76-6B0A70E1D3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2492280"/>
          <a:ext cx="3673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92280"/>
                    <a:ext cx="3673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367344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16000" y="5445000"/>
            <a:ext cx="3600360" cy="121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292720" y="357336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394-CE9D-4D46-AFA2-E34974B64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492280"/>
          <a:ext cx="2881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2881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87640" y="3933720"/>
            <a:ext cx="2808360" cy="1212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62728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0" y="5645160"/>
            <a:ext cx="287964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019920" y="386064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A05-C090-427D-B1EB-41DFFDDB68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Implicantes Primar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2349360"/>
          <a:ext cx="615636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15636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57F-A067-4B40-95CB-DFD6685A1F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26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ircuito tiene la siguiente tabla de ver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la función Booleana que lo def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ibuje un circuito que lo implem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132000" y="2924280"/>
          <a:ext cx="2664000" cy="19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924280"/>
                    <a:ext cx="266400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854-D5AA-48AA-B36E-DA6BF850CA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7T05:20:10Z</dcterms:modified>
  <cp:revision>92</cp:revision>
  <dc:subject/>
  <dc:title>Repaso de Probabilidades</dc:title>
</cp:coreProperties>
</file>