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904-FBBC-4B08-B7D9-35FAE433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610-4C0E-44A4-9C42-C29310A8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9AA-BC6B-49E6-BB01-71B6CFBB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97F5-9FC5-4C30-8194-B4FA819B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E130-7F05-4C97-9A14-0E7ECECF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DE40-413B-4417-95A4-ECA58F29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EBBA-04C4-43C2-94BF-30A55D93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F64F-B1CC-4731-8FC3-35E437AF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531C-A470-4ED0-94EB-61037159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F926-9D0F-41D3-820E-D29DB41E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7760-324D-4C8E-9CC7-504BBCFD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B16-A6F7-4884-9B01-AF446307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7A9F-A371-4612-9399-9261BC82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2847-2BE3-4DD1-A4CC-8F6CE659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8087-223F-4422-8E4C-4B8862D2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B565-5529-4808-88F5-3953A84C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6DEB-1D4C-4050-9F28-6FEECAE5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54F-A40E-4D30-83CC-3D95C0AB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EC7-EDC6-4A76-9B82-9C1AF6EF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E33-6F76-47BD-8E13-4C666D58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686-02EC-414D-908B-B2C2FA0F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6F2-66FD-4799-A877-D8CD9BA1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C6E-63EE-4000-A50F-2AE064D0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9CD2-C902-4F2F-AF4F-E849D12D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44B5-E607-4AB6-89FA-50D694DDDF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E761-3A23-4360-931F-12F3DDFA02E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Circuitos Combinacionales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4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Utilizando un CI 74HC148 (codificador 8 a 3), diseñar un sistema de comunicación para las 16 habitaciones de un hotel, de modo que, cuando algún cliente desee que llegue el botones, pulse un botón, y en la conserjería se indique el número de la habitación (en binario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Si varios clientes llaman a la vez, la habitación de mayor número tiene priorida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AC6-7D9F-4F01-87CF-D74DC8E822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74HC148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63640" y="2565360"/>
          <a:ext cx="345600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565360"/>
                    <a:ext cx="345600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79280" y="3284640"/>
          <a:ext cx="151308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284640"/>
                    <a:ext cx="15130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292720" y="2492280"/>
          <a:ext cx="3527280" cy="338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2492280"/>
                    <a:ext cx="352728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5EE-C9E4-4558-B87C-5C02B8D10B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187280" y="3068640"/>
          <a:ext cx="6553440" cy="28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068640"/>
                    <a:ext cx="655344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268360" y="189000"/>
            <a:ext cx="3770640" cy="261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444-A7EF-4557-A8B7-FF6F5CF833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441520" y="2362320"/>
          <a:ext cx="56196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1520" y="2362320"/>
                    <a:ext cx="5619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510240" y="2362320"/>
          <a:ext cx="270000" cy="17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0240" y="2362320"/>
                    <a:ext cx="2700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24000" y="260280"/>
          <a:ext cx="6202080" cy="626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260280"/>
                    <a:ext cx="620208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F12-F580-4D03-A422-FBABB763E9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79280" y="260280"/>
          <a:ext cx="6142320" cy="616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6142320" cy="61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D42-BE30-43DB-B105-005B1A50FE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51280" y="2276640"/>
          <a:ext cx="48448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276640"/>
                    <a:ext cx="48448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755640" y="3141720"/>
            <a:ext cx="3252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 el siguiente circuito, el período del reloj es 100 ns, el retardo en un inversor, es de 10 ns, y en una compuerta, de 20 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ibuje la salida 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8FD-27F2-421A-B803-6AC60B93E8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268280"/>
          <a:ext cx="608472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60847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462-F271-4BF4-93E6-AB3A88D902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5614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contrar la función SoP mínima del siguiente sistema de múltiples salid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19280" y="3213000"/>
          <a:ext cx="597708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597708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534C-8953-4037-8035-8B61B7009B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4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421000"/>
          <a:ext cx="658800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6588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ABB-5613-4D12-A186-DF0196A6D3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4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42920" y="2492280"/>
          <a:ext cx="36734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492280"/>
                    <a:ext cx="36734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3673440" cy="1212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16000" y="5445000"/>
            <a:ext cx="3600360" cy="1212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292720" y="3573360"/>
            <a:ext cx="3124080" cy="12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2F3-DF37-4FC6-8C4B-7257296C4A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4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492280"/>
          <a:ext cx="28814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2280"/>
                    <a:ext cx="28814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987640" y="3933720"/>
            <a:ext cx="2808360" cy="1212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262728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0" y="5645160"/>
            <a:ext cx="287964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6019920" y="3860640"/>
            <a:ext cx="3124080" cy="12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934-1911-4CED-B02D-998E906CED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abla Implicantes Primario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2349360"/>
          <a:ext cx="615636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615636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A07-0455-4470-B282-929AFFB443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3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263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n circuito tiene la siguiente tabla de ver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cuentre la función Booleana que lo defi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Dibuje un circuito que lo implemen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132000" y="2924280"/>
          <a:ext cx="2664000" cy="19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924280"/>
                    <a:ext cx="266400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D54-8933-4CEC-972D-639C4A00EA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8-17T05:20:10Z</dcterms:modified>
  <cp:revision>92</cp:revision>
  <dc:subject/>
  <dc:title>Repaso de Probabilidades</dc:title>
</cp:coreProperties>
</file>