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B8A-4145-4365-905A-4E73F698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C06-68B8-4DFF-84C2-FB3D43D9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B75-A0BA-40A4-B981-30719CC5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2FC-6116-4B37-A2B7-471D19E9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1207-3F34-41FB-8454-F39CF1B4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946B-2788-4115-B5F7-A98B51EC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1A33-6B38-494E-BEB2-9C389A18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7340-00E5-44E8-BB31-EE2314DD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7AD1-6982-457D-B2E2-22FC90C4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392-B3D0-4C93-A828-FA6E082F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E03D-6B57-4BD5-A728-573D6705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802-1E9C-4FE2-B8F9-1CBC40AF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6FFA-4DAE-407E-91E7-A5FE0C12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4FB9-BED8-48EC-A2E5-34C8B3C5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A9E8-FED9-4A09-BD5B-510708C5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38DA-F6DE-4D30-8B66-EF03C0AA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33C3-B694-454A-AF65-A1F5C462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BD6-ECFD-4F5D-AB3B-72B85B1D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234-73D8-4E9F-B0DF-93A30701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EF2-5CFA-4A80-8C55-0AD713E0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65A-68C8-4AE4-A395-5B5E8D92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7B7-C67E-4602-97B3-15B942E7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D95-F328-45C1-84E3-ACB8C099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048B-A598-4F7D-92F8-731D8327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F7F7-9391-4C13-AF97-9A2BD61F4C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2BC0-9163-45D8-AC31-C395D0BC51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acuna@ing.uchile.c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Álgebra de Boole y mapas de Karnaugh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3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852640"/>
          <a:ext cx="601200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52640"/>
                    <a:ext cx="60120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CD9-951C-4D28-97E3-CB770BF094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421000"/>
          <a:ext cx="65880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6588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4E1-D755-427C-9D6F-15B030BFC1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5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349360"/>
          <a:ext cx="630072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6300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E1D-A86B-48B8-872D-0986BA5769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6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349360"/>
          <a:ext cx="9144000" cy="32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914400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3EA-4E33-4CC8-88BD-8CF01B12A3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Informaciones varia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fesor Auxiliar: Javier Acuñ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acuna@ing.uchile.c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ficina 512 (5° Piso DIE), “Comunicaciones Avanzadas”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9D7-1CA6-4E99-B797-955BA43E4C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35280" y="2637000"/>
          <a:ext cx="511308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37000"/>
                    <a:ext cx="511308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757-4B41-4E76-AC8E-9E6D5EB76A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35280" y="2637000"/>
          <a:ext cx="511308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37000"/>
                    <a:ext cx="511308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92360" y="5013360"/>
          <a:ext cx="161928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5013360"/>
                    <a:ext cx="16192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F8B-F21C-40D4-AAD6-A69AA5769F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87280" y="2565360"/>
          <a:ext cx="676116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65360"/>
                    <a:ext cx="676116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E41-040E-48DB-A877-A3B0D09527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19280" y="3068640"/>
          <a:ext cx="561960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68640"/>
                    <a:ext cx="56196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8F9-74D6-4236-B5E0-DFE512A64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30320" y="3652920"/>
          <a:ext cx="73072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3652920"/>
                    <a:ext cx="730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CE8-B5C6-455D-823C-E430E744C6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51280" y="2276640"/>
          <a:ext cx="48448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276640"/>
                    <a:ext cx="48448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55640" y="3141720"/>
            <a:ext cx="325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siguiente circuito, el período del reloj es 100 ms, el retardo en un inversor, es de 10 ms, y en una compuerta, de 20 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ibuje la salida 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16A-4B1C-4A4C-B46F-79CE8CD94B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1916280"/>
          <a:ext cx="813564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813564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CB2-168C-44A3-8C85-EC696DC563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8-10T13:59:32Z</dcterms:modified>
  <cp:revision>65</cp:revision>
  <dc:subject/>
  <dc:title>Repaso de Probabilidades</dc:title>
</cp:coreProperties>
</file>