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46B-FB51-4251-8121-BF2A6466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12B-7026-4452-8FF3-24508A5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16C-63F4-45D3-AD79-79B522F7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888-C82E-4582-8B77-282CF4A2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2753-9F0B-455F-BF4D-9F144385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837-4F61-4203-9E18-073CC51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6E26-B1FC-40BD-A15E-03CCE0B5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ADD2-8CE4-4231-BEC5-0B7F5CDA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1B9-F0E0-4A86-BA82-CFEC6A7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130F-E756-48D2-8950-A41FC92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188-A536-4684-BB41-525AC5B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E26-313A-480A-8B7F-0C712D9D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95B0-D376-40E7-BC29-D99086C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907B-DB83-4B05-9ACD-D95E92A7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E01D-9D2B-420F-A8CC-9C4AA31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C55F-7F4F-4402-9FCB-8ACCE899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163D-6387-4652-84E2-A27BEBDE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77E-6C07-408A-AFC6-F9176AFD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7A0-9E05-49AA-B230-E5B2CDC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4EC-F53B-4E1C-ABB9-3B65B64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1E2-08D4-4420-A114-2378DAB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F80-242B-454D-90C2-23F3743A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740-041D-48CA-BD97-7A80FDD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2D4-584C-48B7-A2FF-F2E67C9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2832-AE25-41E9-BDC6-3BA203B7B0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F0F-B34A-4FC1-A449-BE40693D75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acuna@ing.uchile.c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Álgebra de Boole y mapas de Karnaugh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3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852640"/>
          <a:ext cx="6012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2640"/>
                    <a:ext cx="6012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DB2-23F6-40AD-A213-2E9173BE4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4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421000"/>
          <a:ext cx="658800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6588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014-3435-4CDB-A2D6-85DE9B28A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5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349360"/>
          <a:ext cx="63007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300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D76-4AB4-4D7F-9ACF-613DEE6FC4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Karnaugh 6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349360"/>
          <a:ext cx="914400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91440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313-114E-45B1-8DF4-8AFF34A87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formaciones varia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fesor Auxiliar: Javier Acuñ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acuna@ing.uchile.c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ficina 512 (5° Piso DIE), “Comunicaciones Avanzadas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1D-60AA-4651-B154-C8EE6E614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F66-CCD7-4C42-94EA-810A5E74B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35280" y="2637000"/>
          <a:ext cx="511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37000"/>
                    <a:ext cx="511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16192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013360"/>
                    <a:ext cx="1619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CB7-C8C7-4106-91BC-B62B82CF7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2565360"/>
          <a:ext cx="676116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65360"/>
                    <a:ext cx="67611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D93-5288-44BC-940C-3D709A1E4D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19280" y="3068640"/>
          <a:ext cx="561960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19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320-A274-4D94-A65D-E41BB03FAC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30320" y="3652920"/>
          <a:ext cx="7307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652920"/>
                    <a:ext cx="730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636-D829-4809-AE72-935BC8BC99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276640"/>
          <a:ext cx="4844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276640"/>
                    <a:ext cx="4844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55640" y="3141720"/>
            <a:ext cx="325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siguiente circuito, el período del reloj es 100 ms, el retardo en un inversor, es de 10 ms, y en una compuerta, de 20 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buje la salida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669-F74A-4A23-8331-22154CE1A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jercicio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1916280"/>
          <a:ext cx="81356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1356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6B8-27DF-4E62-9061-F38AE862E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8-10T13:59:32Z</dcterms:modified>
  <cp:revision>65</cp:revision>
  <dc:subject/>
  <dc:title>Repaso de Probabilidades</dc:title>
</cp:coreProperties>
</file>