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EEF-3B64-4AE0-B400-054D163C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2F7-D196-4628-B263-863D831E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D30-C88C-4DC7-B99A-C25A33D4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2DB-1D7A-4E9E-B94B-844C04A6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9BA2-21D9-47BF-93BC-8F6071F7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BF4B-AB99-40D3-B1B7-ED35B2AD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7DDA-2604-4734-A042-45A5DB2B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F243-C797-499E-AB79-59764B36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B1D8-2847-4B47-A731-78C77D11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9CBB-64B6-4F1B-86F5-98AEAC90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6EE7-8F99-4E78-9EC2-2C467967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41C-8D6B-408E-B2ED-8A37976B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A3B8-5381-40E4-B554-82C35F45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CB0E-991C-47C4-A7EE-AE7A852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E1F8-4C11-4B88-9BE3-8D18E43F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71B1-2BE7-4617-8A73-59AFB510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A744-D6D2-4CAC-B52F-0F8704EF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4F4-EB4C-4E32-9607-DAFB2BE5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66C-4367-43D2-9AF4-62505B47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E22-E8C3-4F9D-89C3-BA001AC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849-14EA-42A7-9936-1CF503B2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E96-CE43-46EA-857E-AEC09F59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D77-C7CF-4DFA-8A9C-B261DB34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936-F5E8-4DFE-8945-941D694E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6322-8DAB-43F1-9320-4832AD2FA6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3EB3-037F-494F-8BF0-7324FB1895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acuna@ing.uchile.c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Álgebra de Boole y mapas de Karnaugh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3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852640"/>
          <a:ext cx="60120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52640"/>
                    <a:ext cx="60120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16D-38BA-4C22-BDDF-6AD1F1A51C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421000"/>
          <a:ext cx="65880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6588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7B1-D2FB-4301-BDBF-C10DE72B0E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5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349360"/>
          <a:ext cx="630072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6300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5D7-6CB9-4EE0-9A64-2A74DD9A2F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6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349360"/>
          <a:ext cx="9144000" cy="32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914400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281-3B9B-4A5A-8C9C-3EC0FB2D5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Informaciones varia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fesor Auxiliar: Javier Acuñ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acuna@ing.uchile.c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ficina 512 (5° Piso DIE), “Comunicaciones Avanzadas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A11-A385-4740-84FC-3DC4A3C003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35280" y="2637000"/>
          <a:ext cx="511308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37000"/>
                    <a:ext cx="511308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399-1151-4C6B-A8BB-E674AED551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35280" y="2637000"/>
          <a:ext cx="511308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37000"/>
                    <a:ext cx="511308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92360" y="5013360"/>
          <a:ext cx="161928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013360"/>
                    <a:ext cx="16192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522-A7ED-4C64-95D8-59EAAC9D38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87280" y="2565360"/>
          <a:ext cx="676116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65360"/>
                    <a:ext cx="676116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A3E-F9E9-4A7C-8F5F-BCF30630F0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19280" y="3068640"/>
          <a:ext cx="561960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68640"/>
                    <a:ext cx="5619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446-C691-4219-99DA-487600159B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30320" y="3652920"/>
          <a:ext cx="73072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3652920"/>
                    <a:ext cx="730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AE8-84F6-486D-9BBE-536D5B30D9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51280" y="2276640"/>
          <a:ext cx="48448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276640"/>
                    <a:ext cx="48448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55640" y="3141720"/>
            <a:ext cx="325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siguiente circuito, el período del reloj es 100 ms, el retardo en un inversor, es de 10 ms, y en una compuerta, de 20 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ibuje la salida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504-49AA-4C97-BB9B-F6E006CB95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1916280"/>
          <a:ext cx="813564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813564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48E-5909-40C6-99C3-44F7FB1EE3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8-10T13:59:32Z</dcterms:modified>
  <cp:revision>65</cp:revision>
  <dc:subject/>
  <dc:title>Repaso de Probabilidades</dc:title>
</cp:coreProperties>
</file>