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581-0B0C-46CF-93A2-C21795E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F67-E2DB-4688-A198-2A3574D8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D5C-794A-4FB2-AB51-A4A16FF3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AE5-DAB9-44CC-864B-56CBC129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D67E-E61A-41F2-9ED5-0D1D9579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9CC-D719-4C4E-B120-20E2649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129-68E4-463A-83D9-47DC5CCE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57F-F131-4C32-B8A7-C8B16A1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FC3C-F3EB-4CF8-ADDE-DAE06E5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8F02-3F91-498B-B638-9AF95F5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CBA8-C628-421E-B80E-7A114DF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E4E-BBA9-4808-AFED-A0855309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BE99-D9A0-4E2D-BBD2-D0536E6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A8C9-F96C-4A7F-AAC3-3AC2E1B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AD22-B1A3-48D8-9197-ED9D4B7E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F99-BF2E-412D-BBB5-82229B71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ACB-A7FF-49FD-A60E-8EEC5B83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5EE-3080-447C-9CA2-1842D9BC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E29-D15D-4C60-B436-03A7834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44E-E8FC-4998-8834-E0A663E2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9AA-AE00-4318-8314-37EE5FB9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659-D196-45AD-8A62-1C69A446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0B2-AFC2-4F53-9A05-EBEAB05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770-19C8-4195-B529-EDE8E13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E42-6AB2-4445-A91B-46C57A3748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54FB-43D5-4BB7-8B8B-0F00FC35A1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acuna@ing.uchile.c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Álgebra de Boole y mapas de Karnaugh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3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852640"/>
          <a:ext cx="6012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2640"/>
                    <a:ext cx="6012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6C5-978D-473D-9EFE-E6BC564DE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2D7-14C1-4100-A228-182C427DC2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5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349360"/>
          <a:ext cx="63007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300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2FA-88C9-44A8-BCCB-F80CA9414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6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349360"/>
          <a:ext cx="914400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91440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5AE-0A7E-4CDC-94FF-207CA4A43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formaciones varia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fesor Auxiliar: Javier Acuñ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cuna@ing.uchile.c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ficina 512 (5° Piso DIE), “Comunicaciones Avanzadas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939-1499-4F2D-B52F-A09925006B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CDE-61F4-4FE7-8165-6AA87B926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16192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1619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F1A-3B47-4166-973B-473C98E67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2565360"/>
          <a:ext cx="67611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65360"/>
                    <a:ext cx="67611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D68-2E05-487A-B51E-6BB63285B4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19280" y="3068640"/>
          <a:ext cx="561960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19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E00-BD62-4E7C-B0BE-A33121FF8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30320" y="3652920"/>
          <a:ext cx="7307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652920"/>
                    <a:ext cx="730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DA6-FF13-46A2-9DF5-50B9A1981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ms, el retardo en un inversor, es de 10 ms, y en una compuerta, de 20 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683-DD5E-4CBF-AF7D-3D8E2DCFAB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1916280"/>
          <a:ext cx="81356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1356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C4A-C3F3-40BB-A89C-B5E177AB4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0T13:59:32Z</dcterms:modified>
  <cp:revision>65</cp:revision>
  <dc:subject/>
  <dc:title>Repaso de Probabilidades</dc:title>
</cp:coreProperties>
</file>