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E46-C430-43F9-9D49-233BA4EE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60E-21AE-4472-A4CB-9D87BDAD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E69-6CF4-405B-848E-D28A8F1B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932-69C4-4CF7-B4FF-82BB6CF6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D60-7394-41AF-9C82-6EDF67FF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B38-EE1F-41D5-8A9C-FD84DE7B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00F-75DE-44B0-90F1-E00E4C44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31D-767A-45DB-82EE-CD27F0E2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26D-2D94-4CF2-80E9-2A8F0562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3FB-C68A-410C-976D-B47A4FF7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2D3-EA5A-4026-B814-3303444A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8DF-B7D2-43AC-AFEE-2BD3EEF9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D5AF-0D2C-49BA-9361-F47CF129C01F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D908-859D-41D3-AC70-B9A4595DAB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lperez@ing.uchile.cl" TargetMode="External"/><Relationship Id="rId2" Type="http://schemas.openxmlformats.org/officeDocument/2006/relationships/hyperlink" Target="mailto:jacuna@ing.uchile.cl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12320"/>
            <a:ext cx="7451640" cy="68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42B   PROCESAMIENTO DIGITAL DE LA 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Semestre: Primavera 200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Profesor: Claudio A. Pérez F.  (</a:t>
            </a:r>
            <a:r>
              <a:rPr b="0" lang="es-ES" sz="1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lperez@ing.uchile.cl</a:t>
            </a: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Prof. Aux.: Javier Acuña  (</a:t>
            </a:r>
            <a:r>
              <a:rPr b="0" lang="fr-FR" sz="1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jacuna@ing.uchile.cl</a:t>
            </a: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CALENDAR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SEMANA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)  23/07-29/07</a:t>
            </a: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Inicio de Clases, Cátedra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2)  30/07-05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3)  06/08-12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4-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4)  13/08-19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6 (15/09 Feriad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5)  20/08-26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7-8 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Control 1(VI 24/0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6)  27/08-02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9-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7)  03/09-09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1-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8)  10/09-16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3-14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9)  17/09-23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Vacaciones Alum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0) 24/09-30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5-16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ontrol 2 (VI 28/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1) 01/10-07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7-18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2) 08/10-14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SEMANA OLIMPICA (clases hasta las 12:00)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3) 15/10-21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9, (15/10 Feriad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4) 22/10-28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0-21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5) 29/10-04/11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2-23 (01/11 Feriado)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6) 05/11-11/11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4-25, 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Control 3 (VI 09/1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7) 12/11-18/11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6-27, ULTIMO DIA DE CLASES (17/1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EXAMEN (19/11-03/1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-444600"/>
            <a:ext cx="8497800" cy="79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58136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valuación del curso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a evaluación del curso se hará a través de 3 controles y un examen. Se realizarán alrededor de 4-5 tareas y 2 laboratorios. Las notas de laboratorios se promediarán con las de tareas (NT). Para aprobar el curso se deberá tener nota superior a 4.0 tanto en controles/examen, como en tareas. No se eliminarán tareas ni laboratori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a nota final NF=0.7NC+0.3NT, con NC=(C1+C2+C3+EX)/4 y  NT= nota de tareas+laboratori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sumen Programa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(capítulos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1. Introducción a los sistemas digit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. Diseño en base a lógica combinacional. Dispositivos de lógica combinacio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. Sistemas de números y códi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4. Diseño en base a lógica secuencial. Dispositivos de lógica secu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Bibliografí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rlekamp E, "Algebraic Coding Theory", Mc Graw Hill, 196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eeding K, "Digital Design Fundamentals", Prentice Hall, 198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loyd T.L., "Fundamentos de Sistemas Digitales", Prentice Hall, 6ª Ed., 199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Gajski D, "Principios de Diseño Digital", Prentice Hall, 199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ll F, Peterson G, "Introduction to Switching Theory and Logical Design", John Wiley &amp; Sons, 198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havi Z, "Switching and Finite Automata Theory", McGraw Hill, 197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o M, "Logic and Computer Design Fundamentals", Prentice Hall, 200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terson W, Weldon F, "Error-Correcting Codes", MIT Press, Cambridge, 197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er J, Bulizsh R, "Introduction to Numerical Analysis", Springer-Verlag, 198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occi R.J., “Sistemas Digitales: Principios y Aplicaciones”, Prentice Hall, 199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kerly J, "Digital Design: Principles &amp; Practices", Prentice Hall, 200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8:21:36Z</dcterms:created>
  <dc:creator>Eliana Monardes</dc:creator>
  <dc:description/>
  <dc:language>en-US</dc:language>
  <cp:lastModifiedBy>clperez</cp:lastModifiedBy>
  <dcterms:modified xsi:type="dcterms:W3CDTF">2007-07-28T00:46:47Z</dcterms:modified>
  <cp:revision>124</cp:revision>
  <dc:subject/>
  <dc:title>Resumen</dc:title>
</cp:coreProperties>
</file>