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6AE-058E-4BD7-A7B1-04D5619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7C5-5FA7-4175-B378-F8285E7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728-A6EC-4F25-B4FE-12F0C1A1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8A7-A6F8-48C0-9E85-C595F9FD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1BD-77A9-4B3A-8B8C-E7D9231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FE5-2B52-4253-9F77-B05F17C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CC0-C7B5-4DC1-B9E3-663D5268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D80-608E-4ACF-A00B-2609283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A29-858F-4725-A965-2862C32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D40-47E2-4E34-B213-A75B6F8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9E5-CAEB-4A5D-BF6D-AD59909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A86-1874-4AF8-A659-96648DF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AA1-4595-4658-B6C6-5C256D33EE92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087-5680-4475-8B11-F185E731D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perez@ing.uchile.cl" TargetMode="External"/><Relationship Id="rId2" Type="http://schemas.openxmlformats.org/officeDocument/2006/relationships/hyperlink" Target="mailto:jacuna@ing.uchile.cl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320"/>
            <a:ext cx="7451640" cy="68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42B   PROCESAMIENTO DIGITAL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Semestre: Primavera 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Profesor: Claudio A. Pérez F.  (</a:t>
            </a:r>
            <a:r>
              <a:rPr b="0" lang="es-E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perez@ing.uchile.cl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Prof. Aux.: Javier Acuña  (</a:t>
            </a:r>
            <a:r>
              <a:rPr b="0" lang="fr-FR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jacuna@ing.uchile.cl</a:t>
            </a: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ALENDAR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SEMANA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)  23/07-29/07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Inicio de Clases, Cátedra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2)  30/07-05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3)  06/08-12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4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4)  13/08-19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6 (15/09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5)  20/08-26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7-8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1(VI 24/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6)  27/08-02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9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7)  03/09-09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1-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8)  10/09-16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3-1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9)  17/09-23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Vacaciones Alum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0) 24/09-30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5-16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ntrol 2 (VI 28/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1) 01/10-07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7-1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2) 08/10-14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SEMANA OLIMPICA (clases hasta las 12:00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3) 15/10-21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9, (15/10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4) 22/10-28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0-21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5) 29/10-04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2-23 (01/11 Feriado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6) 05/11-11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4-25,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3 (VI 09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7) 12/11-18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6-27, ULTIMO DIA DE CLASES (17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EXAMEN (19/11-03/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-444600"/>
            <a:ext cx="849780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aluación del curso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evaluación del curso se hará a través de 3 controles y un examen. Se realizarán alrededor de 4-5 tareas y 2 laboratorios. Las notas de laboratorios se promediarán con las de tareas (NT). Para aprobar el curso se deberá tener nota superior a 4.0 tanto en controles/examen, como en tareas. No se eliminarán tareas ni laborator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nota final NF=0.7NC+0.3NT, con NC=(C1+C2+C3+EX)/4 y  NT= nota de tareas+laboratori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men Programa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(capítulo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. Introducción a los sistemas digit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. Diseño en base a lógica combinacional. Dispositivos de lógica combin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. Sistemas de números y códi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4. Diseño en base a lógica secuencial. Dispositivos de lógic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lekamp E, "Algebraic Coding Theory", Mc Graw Hill, 19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ing K, "Digital Design Fundamentals", Prentice Hall, 198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loyd T.L., "Fundamentos de Sistemas Digitales", Prentice Hall, 6ª Ed.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jski D, "Principios de Diseño Digital", 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F, Peterson G, "Introduction to Switching Theory and Logical Design", John Wiley &amp; Sons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havi Z, "Switching and Finite Automata Theory", McGraw Hill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o M, "Logic and Computer Design Fundamentals", Prentice Hall,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son W, Weldon F, "Error-Correcting Codes", MIT Press, Cambridge, 197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er J, Bulizsh R, "Introduction to Numerical Analysis", Springer-Verlag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cci R.J., “Sistemas Digitales: Principios y Aplicaciones”, Prentice Hall,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kerly J, "Digital Design: Principles &amp; Practices", Prentice Hall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8:21:36Z</dcterms:created>
  <dc:creator>Eliana Monardes</dc:creator>
  <dc:description/>
  <dc:language>en-US</dc:language>
  <cp:lastModifiedBy>clperez</cp:lastModifiedBy>
  <dcterms:modified xsi:type="dcterms:W3CDTF">2007-07-28T00:46:47Z</dcterms:modified>
  <cp:revision>124</cp:revision>
  <dc:subject/>
  <dc:title>Resumen</dc:title>
</cp:coreProperties>
</file>