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79C-0CA5-4645-8D5E-C2CDE178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CE4-DE6C-44DC-9677-B8AB3CCF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CE7-25F7-47AA-BA97-111E87FA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A85-813F-4286-B527-EF7CACBB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DA5-8A27-427D-A688-6E14359B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149-085F-4363-8DC9-7A6CD220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B47-2525-415C-A727-A0B68C14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309-AC5F-4134-A6A0-17D305E1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273-E993-4068-AAFB-3413CB65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3DE-0756-4BDC-9AE2-81EE131B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D65-45C0-44D6-B7E8-A6649E86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747-0DEA-438D-A79E-25B067B1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7944-6A8F-45AA-9A9D-1AA5BE073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Verdana"/>
              </a:rPr>
              <a:t>Tips para análisis de 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ircuitos Electrónico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udio Alarcón R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imavera 2007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Emisor común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= (-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/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)</a:t>
            </a:r>
            <a:r>
              <a:rPr b="1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Se suma componente continua de la polarización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Se debe cumplir </a:t>
            </a:r>
            <a:br>
              <a:rPr sz="2400"/>
            </a:b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0 &lt;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 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&lt;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714480" cy="452592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Base común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Seguidor de corriente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 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= 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  <a:ea typeface="Tahom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+1)/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  <a:ea typeface="Tahom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  <a:ea typeface="Tahom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-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/(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549520" cy="452592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5068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Corte/saturación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Funcionan como inversores lógicos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 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   si   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0V</a:t>
            </a:r>
            <a:br>
              <a:rPr sz="2400"/>
            </a:b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         0.2V  si   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Debe cumplirse condición de saturación: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(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- 0.7)/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/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Verdana"/>
              </a:rPr>
              <a:t>Configuración típica para activar relés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3029040" cy="358128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4 zonas de operación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Corte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Amplificación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Saturación (switch)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Inversa activa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5084640"/>
            <a:ext cx="28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N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No PeNet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704000" y="50148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23880" y="3952800"/>
            <a:ext cx="1790640" cy="2817720"/>
          </a:xfrm>
          <a:prstGeom prst="rect">
            <a:avLst/>
          </a:prstGeom>
          <a:ln w="19080">
            <a:solidFill>
              <a:srgbClr val="0099ff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2000" y="3959280"/>
            <a:ext cx="1676160" cy="2762280"/>
          </a:xfrm>
          <a:prstGeom prst="rect">
            <a:avLst/>
          </a:prstGeom>
          <a:ln w="1908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Zona de corte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Cuando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&lt; 0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En ese caso, el transistor queda abierto 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(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0), y voltaje Colector – Emisor (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) no queda definido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uando está encendido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Se puede asumir que V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Verdana"/>
              </a:rPr>
              <a:t>BE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0.6V para NPN, -0.6V para PNP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nduce corriente en el sentido de la flecha del emisor. Si la corriente queda invertida el transistor se quema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Zona de amplificación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Cuando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&lt;&lt;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En este caso la ecuación queda: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             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(</a:t>
            </a:r>
            <a:r>
              <a:rPr b="0" lang="el-GR" sz="28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+1)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(h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f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en datasheets) varía entre 100 y 300 típicamente. Ganancia no debe depender de </a:t>
            </a:r>
            <a:r>
              <a:rPr b="0" lang="el-GR" sz="28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si es amplificador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Transistor es una fuente de corriente 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=&gt; Alta Impedancia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Zona de saturación (switch)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Cuando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En este caso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+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se puede asumir que tiene 0.2V en NPN, 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EC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es 0.2V en PNP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No es necesaria alta corriente, sólo cumplir condición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versa Activa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Se invierten papeles de Colector y Emisor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 este caso la amplificación de corriente (el equivalente a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b 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 caso de zona activa) es del orden de 5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No es muy utilizada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onfiguraciones típicas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lector común (seguidor voltaje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misor Común (amplificador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Base Común (seguidor corriente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nfiguraciones en corte / saturación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75308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Colector común (seguidor emisor)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= 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– 0.6V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acopla polarización (divisor entre 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y 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) con entrada (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Aumenta la impedancia de entrada: 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Z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= (</a:t>
            </a:r>
            <a:r>
              <a:rPr b="1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+1)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08680" y="1616040"/>
            <a:ext cx="4038480" cy="451980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6:46:25Z</dcterms:created>
  <dc:creator>Claudio</dc:creator>
  <dc:description/>
  <dc:language>en-US</dc:language>
  <cp:lastModifiedBy>Claudio</cp:lastModifiedBy>
  <dcterms:modified xsi:type="dcterms:W3CDTF">2007-07-24T16:04:43Z</dcterms:modified>
  <cp:revision>6</cp:revision>
  <dc:subject/>
  <dc:title>Tips para análisis de transistores BJT</dc:title>
</cp:coreProperties>
</file>