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6B6-EC65-4674-B950-9AAA2E66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E0-6331-4DB4-A469-42F36D4A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AE9-DE58-41ED-BEFB-1AE39648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812-B5D1-400B-BAEA-71AC4B32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547-4C6F-41D1-8506-7259D0EB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FC1-7C4B-4CBD-9DBA-B735E77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F72-6AD9-4562-9A76-B89B585A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F24-7E56-4E39-8A88-BE8B14CD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58B-F455-4C92-964B-9AA786D6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538-9C22-4CE1-9EFF-D864A92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28C-C9D1-4616-8B27-8F67571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E27-6D3B-43E2-B92B-A8A3E9A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A06-1FCC-40EF-8ED3-4D18B038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Tips para análisis de 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misor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-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suma componente continua de la polarización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debe cumplir 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0 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71448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Base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guidor de corrient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=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+1)/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-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/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54952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rte/saturació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Funcionan como inversores lógico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0V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      0.2V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Debe cumplirse condición de saturación: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(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- 0.7)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Verdana"/>
              </a:rPr>
              <a:t>Configuración típica para activar relé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29040" cy="358128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4 zonas de oper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Corte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Amplific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Saturación (switch)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Inversa activ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084640"/>
            <a:ext cx="28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o PeNet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4000" y="50148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3880" y="3952800"/>
            <a:ext cx="1790640" cy="281772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3959280"/>
            <a:ext cx="1676160" cy="276228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cort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 0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e caso, el transistor queda abierto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(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0), y voltaje Colector – Emisor (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) no queda definido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uando está encendid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puede asumir que V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Verdana"/>
              </a:rPr>
              <a:t>BE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0.6V para NPN, -0.6V para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duce corriente en el sentido de la flecha del emisor. Si la corriente queda invertida el transistor se quem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amplific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&lt;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la ecuación queda: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             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+1)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(h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f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n datasheets) varía entre 100 y 300 típicamente. Ganancia no debe depender de 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es amplificador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Transistor es una fuente de corriente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=&gt; Alta Impedanci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saturación (switch)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+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se puede asumir que tiene 0.2V en NPN, 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s 0.2V en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No es necesaria alta corriente, sólo cumplir condición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versa Activa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invierten papeles de Colector y Emiso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este caso la amplificación de corriente (el equivalente a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caso de zona activa) es del orden de 5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No es muy utilizada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figuraciones típicas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lector común (seguidor voltaj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misor Común (amplificador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Base Común (seguidor corrient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figuraciones en corte / satur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75308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lector común (seguidor emisor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– 0.6V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acopla polarización (divisor entre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y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 con entrada (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Aumenta la impedancia de entrada: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Z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+1)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8680" y="1616040"/>
            <a:ext cx="4038480" cy="451980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6:46:25Z</dcterms:created>
  <dc:creator>Claudio</dc:creator>
  <dc:description/>
  <dc:language>en-US</dc:language>
  <cp:lastModifiedBy>Claudio</cp:lastModifiedBy>
  <dcterms:modified xsi:type="dcterms:W3CDTF">2007-07-24T16:04:43Z</dcterms:modified>
  <cp:revision>6</cp:revision>
  <dc:subject/>
  <dc:title>Tips para análisis de transistores BJT</dc:title>
</cp:coreProperties>
</file>