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3F4A9DE-FCB4-4E26-ABC3-B4DED403B2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1AB314-7319-439F-BD33-EB66082742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E4AF93B-4EAE-42F2-B840-17D3789512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4281822-CF11-43E2-B5FC-51B1CED17A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CB6CA4D-93A0-45C8-BE54-2E02DC52D6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26A6550-EAF0-46FA-8CEF-F4CDA77163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B61FD6F-7ADA-472A-BC26-3C2E343FA9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9D92ED5-DB98-4E66-9A9D-B16517C3E1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1CAB6E8-D4D9-4D58-BE02-EEF7BF496E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67ADD03-91F0-400C-8203-B92415EE87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1B611D8-6759-4E52-AFCF-B535F1C575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FC5D9F-2D3F-4BDB-B13F-DD6D0A5C2B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3FDE81B-2E08-4989-9203-E2F498C587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586F83D-FE54-42D5-8536-FD69B05717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F829876-CB24-43D2-A3B3-A81903462F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43860BD-316D-4AD9-80CC-B1439C6EC4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3E1DE61B-1697-4FCC-A6B2-08BE5FF0CB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D10F8BE-6CC4-4BC5-AC5E-DF60212D4B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EFD397F-D7AA-4917-BC03-8BC537E4F3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0D3D540-9906-4AB1-BEE5-C32676EB3F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A07384-70D2-439E-8386-44FB28BDE3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C99CF3-DE3E-4CF6-A1EC-BCD1060A3D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3095DA-8BF2-4993-A70C-8858B3336F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E82D38-334A-4A04-8280-BC59812D8C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EF36-31FE-4613-AFD8-097B70BA6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753F-D979-443B-BC4E-BEF6DC0A8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3">
                                            <p:txEl>
                                              <p:pRg st="1" end="1"/>
                                            </p:txEl>
                                          </p:spTgt>
                                        </p:tgtEl>
                                        <p:attrNameLst>
                                          <p:attrName>style.visibility</p:attrName>
                                        </p:attrNameLst>
                                      </p:cBhvr>
                                      <p:to>
                                        <p:strVal val="visible"/>
                                      </p:to>
                                    </p:set>
                                    <p:anim calcmode="lin" valueType="num">
                                      <p:cBhvr additive="base">
                                        <p:cTn id="13"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3">
                                            <p:txEl>
                                              <p:pRg st="2" end="2"/>
                                            </p:txEl>
                                          </p:spTgt>
                                        </p:tgtEl>
                                        <p:attrNameLst>
                                          <p:attrName>style.visibility</p:attrName>
                                        </p:attrNameLst>
                                      </p:cBhvr>
                                      <p:to>
                                        <p:strVal val="visible"/>
                                      </p:to>
                                    </p:set>
                                    <p:anim calcmode="lin" valueType="num">
                                      <p:cBhvr additive="base">
                                        <p:cTn id="19"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Claudio Alarcón Reyes</cp:lastModifiedBy>
  <dcterms:modified xsi:type="dcterms:W3CDTF">2007-10-31T04:03:39Z</dcterms:modified>
  <cp:revision>960</cp:revision>
  <dc:subject>Osciladores (II) y Filtros Activos</dc:subject>
  <dc:title>Clase 25</dc:title>
</cp:coreProperties>
</file>