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DDCE-384B-468B-931D-24815DACA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A0DC-4DFE-4239-B00C-9B0777C92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16CE-EF64-4248-BFC3-FC3585FD4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4AC5-673E-4331-AE89-864C24982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080-7C86-4847-B89A-DAD7F037E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2B0-DA51-46CF-AF7C-802DD09ACD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D10-D510-451D-BE85-A3A022FE63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232-2F4A-4A7A-8CEE-749E9F6A67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CDA-3F4B-4C01-AE0B-7CC8FF809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88B-4636-4A8F-8C0F-F7ACB12945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2BC-BCE5-45EA-BE09-DE8A8B5C4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F531-9903-4DFA-BD09-5FE74163B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8C5-D55C-4A2A-9383-BC421C55B7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E1ED-B688-4E9B-BCED-57B4E507B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1A8-288F-49FA-A5B1-400F15DE5A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DEB-E05F-4876-98F6-AE4EEE72B9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D5A-9590-407E-8E88-B698F807AE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245B-50EC-4CFE-A8F1-8C7FBFE0C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5DB9-44B5-4A06-BF2B-3412B41E1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5598-B8B9-457B-A639-AB72CC180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3C746-CF00-4AF4-9CFB-2755C0499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6086-766D-4704-A82D-431E718B5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F826-13DF-4594-8CB2-C3DA8978F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89E7-2D2D-4916-A41C-647179792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A6D1-7090-48A8-9FAE-C74E253B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A492-79F3-4D66-8B57-5BEA7A455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Claudio Alarcón Reyes</cp:lastModifiedBy>
  <dcterms:modified xsi:type="dcterms:W3CDTF">2007-10-31T04:03:53Z</dcterms:modified>
  <cp:revision>266</cp:revision>
  <dc:subject>Osciladores (I)</dc:subject>
  <dc:title>Clase 24</dc:title>
</cp:coreProperties>
</file>