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609FE11-6289-4C62-9E3E-E0A9F5A11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5CA685-0167-4031-9BCA-573460A0B4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277FF8B-1872-483C-AB0F-B85DC584F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F606190-2B12-45E5-A109-36D7594D8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E3254AB-E8B6-41FE-BEA2-FD6B524E71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BD4F784-24A5-4929-A949-AD767D3E3B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BC338C4-6207-48E3-B60A-24440CF0C4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AEB4F2C-C1F3-4C92-B60E-4F1DB1A84F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328AA8C-8639-43E9-B1B4-A54318FEB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7E5DBE4-4932-4A53-B041-08C1FC84A2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92D5E5A-D2E2-4A00-86B1-57F9C47FC2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74C630-0791-430D-A4FF-19D481A6A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15F9BBF-688B-475C-BB5D-B0DE1FF2F1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5ED4639-15D8-43DF-AED7-B49BFBFDCB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C0E20A6-C1C2-45ED-B3E2-EC6A206266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AD03DD2-6A5A-4574-9B91-A7389274BE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9E25CF5-D24D-4D4E-9B3F-85345629C6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EFF312-6540-4001-9412-EFADFD7CA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7A4F23-DE1C-47FC-85C7-79B9A33CE6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8EFD5B-B58F-444C-AF11-5A8E2473A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49BCB1-5D9E-4AA4-ADC9-8738CD916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658F26-5AF1-480E-8C94-976C0D88D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79B07C-B8BE-4A12-A879-45350B950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7D53A1-222C-482E-872C-BDC67C71C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6564-780D-406F-8E9E-A8D01A1CB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6DA0-074E-4C4D-8C27-C1A146905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Claudio Alarcón Reyes</cp:lastModifiedBy>
  <dcterms:modified xsi:type="dcterms:W3CDTF">2007-10-31T04:03:39Z</dcterms:modified>
  <cp:revision>960</cp:revision>
  <dc:subject>Osciladores (II) y Filtros Activos</dc:subject>
  <dc:title>Clase 25</dc:title>
</cp:coreProperties>
</file>