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0E3D-F0F4-4136-BAF9-AF9ED26DA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CB2C-B842-43A6-A2AA-DD613FD51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F400-2B4B-4523-8C34-490EFA0CF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8CD1-F992-4028-835F-9F23E4F3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A06-154F-4280-8F70-50ED4963D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06D-A827-47EC-97B0-D0143FADC4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AF0-3E93-485D-84C9-FBBB7EB1CB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974-5B71-4F25-9F9B-FE036E5741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C52-F329-41D2-8975-D3A7C770D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2EE-6DB1-495A-96A1-C7EADFD03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B2D-EAD0-4959-A982-B2850366C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44E9-9842-4C77-AC0A-AD2AD0031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E3F-4BF4-452F-92B2-4962F3E4B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E16-CDE6-4449-B3EB-4091EF811D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CBE-0E03-49BE-ABFA-054B5CBD2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3E7-A72E-4670-B112-2C32EBDD4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12B-0381-4A96-9BCF-54CBE8270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5609-2F56-45F3-B66C-C699A5950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D05-8384-40C3-A321-18C4403C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8211-D650-45F2-80EA-1A3546A25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9CCE-E00A-443C-B46B-E5DBEB338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354A-9468-4CF6-81BF-95D49129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3350-DC64-4A05-8945-1D824A738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49B4-74A5-422D-9EA9-86B9AC9FA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4B2-4050-48F2-96EA-02274EFD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E41-A7F7-4D1A-8438-5EAF4CB2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Claudio Alarcón Reyes</cp:lastModifiedBy>
  <dcterms:modified xsi:type="dcterms:W3CDTF">2007-10-31T04:03:53Z</dcterms:modified>
  <cp:revision>266</cp:revision>
  <dc:subject>Osciladores (I)</dc:subject>
  <dc:title>Clase 24</dc:title>
</cp:coreProperties>
</file>