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9.wmf" ContentType="image/x-wmf"/>
  <Override PartName="/ppt/media/image14.png" ContentType="image/png"/>
  <Override PartName="/ppt/media/image5.wmf" ContentType="image/x-wmf"/>
  <Override PartName="/ppt/media/image10.png" ContentType="image/png"/>
  <Override PartName="/ppt/media/image28.wmf" ContentType="image/x-wmf"/>
  <Override PartName="/ppt/media/image30.png" ContentType="image/png"/>
  <Override PartName="/ppt/media/image13.wmf" ContentType="image/x-wmf"/>
  <Override PartName="/ppt/media/image26.png" ContentType="image/png"/>
  <Override PartName="/ppt/media/image11.wmf" ContentType="image/x-wmf"/>
  <Override PartName="/ppt/media/image3.png" ContentType="image/png"/>
  <Override PartName="/ppt/media/image7.wmf" ContentType="image/x-wmf"/>
  <Override PartName="/ppt/media/image12.png" ContentType="image/png"/>
  <Override PartName="/ppt/media/image31.wmf" ContentType="image/x-wmf"/>
  <Override PartName="/ppt/media/image8.wmf" ContentType="image/x-wmf"/>
  <Override PartName="/ppt/media/image6.png" ContentType="image/png"/>
  <Override PartName="/ppt/media/image29.png" ContentType="image/png"/>
  <Override PartName="/ppt/media/image4.png" ContentType="image/png"/>
  <Override PartName="/ppt/media/image2.png" ContentType="image/png"/>
  <Override PartName="/ppt/media/image1.png" ContentType="image/png"/>
  <Override PartName="/ppt/media/image15.png" ContentType="image/pn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DF6E7-FFFF-4172-8F2B-FF4646794E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22140-03C1-4397-8E74-63E5344B1A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19A1C-8335-493B-A992-42065E812D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3CB93-08AB-4312-9DE7-9E680725E1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2468-CA5A-4FD4-B241-B43073777B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5D71-3637-4B72-A30E-68572406EA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D0D5-F0C7-440D-BDFC-48E95AC61F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E75A-9139-47FE-9C66-A6D4BA16FF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F27A-0667-454C-B498-6CF4C18793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8001-DF82-4FFF-B77A-237F5A7603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F074-75C0-490C-9080-4310250E38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3FD16-F154-45B0-8929-CB36E8877A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5E82-5474-4BA1-8CE6-8E85D6FC09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8796-6D65-4480-BB3F-CB3C7FB624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C3EC-2D2A-4DA3-B7F7-7920F430E4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B6C9-9A68-4083-AABC-D8D2BDFE70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47A6-3F51-4419-BCDF-33AAD3A5B4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41AC3-E62A-4057-AA2D-2EF3D72E27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45735-35AC-4C3B-A64D-C1A1A357F2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546B8-F33F-4DED-80FB-B799B2335B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8D564-6534-4D8C-A224-1F80075E3F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25C3C-EC88-46F0-92B7-2B465608CE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38531-C551-406C-B986-9B9BB7939F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50134-BE91-4C96-9A5C-9CC683112E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B7B8-06BA-488D-A7AB-24FCB419D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31F7-D931-473A-90DB-4F8D38EBE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en Frecuenci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581640" cy="2951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876920" y="5715000"/>
                <a:ext cx="20541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5035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52280" y="1676520"/>
            <a:ext cx="4419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recuencias “altas”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condensador “pequeña” en paralelo con impedancia de inductancia “alta “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LC “baj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ivisor de tensión con R entrega salida pequeñ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xiste Aten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recuencias “bajas”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condensador “alta” en paralelo con impedancia de inductancia “baja “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LC “baj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ivisor de tensión con R entrega salida pequeñ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xiste Aten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onclusión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be existir frecuencia “entre medio”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onde la atenuación es menor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enemos un Filtro pasaban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72000" y="4419720"/>
                <a:ext cx="252720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jωL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7162920" y="4670280"/>
            <a:ext cx="1904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Gran Atenuación fuera de la “banda de paso”: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40dB/déc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490760"/>
            <a:ext cx="9144000" cy="5062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181480" y="2940120"/>
            <a:ext cx="3048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¡¡¡Factor de Calidad Q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Notable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en Frecuenci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676520"/>
            <a:ext cx="304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Ganancia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4129200"/>
            <a:ext cx="304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Desfase: º sexagesi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705720" y="2209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781320" y="365760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4038480" cy="332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523880" y="5029200"/>
                <a:ext cx="20545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5035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990720" y="3048120"/>
                <a:ext cx="307152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uls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LC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28600" y="3886200"/>
                <a:ext cx="45846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ulso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e>
                        </m:d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C</m:t>
                                        </m:r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rad>
                              </m:e>
                            </m:d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380880" y="190512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ncia de elementos Resistivos provoca pérdidas en el circu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56386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tar que la constante de tiempo de amortiguación es proporcional a RC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lección cuidadosa d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267080" y="2209680"/>
            <a:ext cx="4550040" cy="3756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280" y="1676520"/>
            <a:ext cx="373392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¿Qué pasa si aplicamos un pulso a la entrad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ulso contiene un espectro completo de frecuencias (Análisis de Fourier), por lo que si es representado como una serie de Fourier es fácil entender qué se va a obtener a la salida: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sólo aquellas componentes de Fourier con frecuencias cercanas a la frecuencia de corte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Una “buena” sinusoide con frecuencia aproximada a la frecuencia de c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762200"/>
            <a:ext cx="853452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V) FFT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778040"/>
            <a:ext cx="8610480" cy="47750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971800" y="2514600"/>
            <a:ext cx="5029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toria Frecuencia central y algunas componentes “alrededor”: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buena sinusoi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VI) Amortigu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320" y="1731960"/>
            <a:ext cx="7696080" cy="4205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7150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un esquema retroalimentado podría mantenerse la oscilación en forma permanente siempre y cuando el tiempo de “atenuación” sea grande comparado con el de retroalimen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Constante de tiempo RC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327560" cy="3406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52280" y="1898640"/>
            <a:ext cx="37339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ambio: mantengo la misma frecuencia de corte pero RC es 100 veces men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constante de “tiempo” de la atenuación es del orden de la “constante de tiempo” (el período) asociado a la oscilación: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Hay que tener en mente este hecho si se desea mantener una oscilación por un período dado.</a:t>
            </a:r>
            <a:br>
              <a:rPr sz="1800"/>
            </a:b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 importante tener en mente la impedancia de salida de la etapa que aliementa al filtro (usualmente el amplificad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419720" y="5486400"/>
                <a:ext cx="27432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enuació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scilación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  <m:r>
                          <m:t xml:space="preserve">≈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2044800"/>
            <a:ext cx="8305920" cy="45082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Constante de tiempo RC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2362320"/>
            <a:ext cx="525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iempo oscilación ~ Tiempo Aten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RC “Serie-Paralelo”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34120" y="2438280"/>
            <a:ext cx="3635280" cy="2436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28600" y="1447920"/>
                <a:ext cx="2798640" cy="11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jω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jω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429000" y="1752480"/>
                <a:ext cx="260028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1219320" y="3886200"/>
            <a:ext cx="289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R y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5600" y="4495680"/>
                <a:ext cx="469728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80880" y="5654520"/>
                <a:ext cx="24098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62120" y="2971800"/>
                <a:ext cx="41274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352680" y="5638680"/>
                <a:ext cx="361332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5562720" y="4876920"/>
            <a:ext cx="3352680" cy="7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 Pasabanda, mínima atenuación en f=f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4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Osciladores (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RC “Serie-Paralelo”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34520" cy="4613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flipV="1">
            <a:off x="3657600" y="5908680"/>
            <a:ext cx="3049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981080" y="5967360"/>
                <a:ext cx="16480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 flipV="1">
            <a:off x="3976560" y="182844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048120"/>
            <a:ext cx="2666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actor de Calidad Q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“no tan bueno” como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l asociado al filtro 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67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1828800"/>
            <a:ext cx="2209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Atenuación ~ 10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960" y="1905120"/>
            <a:ext cx="510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sitiva y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ilidad no es clar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erturbación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ariadas componentes de frecu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lineal válido mientras amplificador opere en zona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pin inversor aparecen atenuadas por el mismo “monto” (divisor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pin no-inversor aparecen atenuadas y desfasadas. Para 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/RC menor atenuación (1/3) y desfase nulo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27640" y="1905120"/>
            <a:ext cx="38163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320" y="1828800"/>
            <a:ext cx="5867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quilibrio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negativa “compite” con la positiv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+) “gana a”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se satura y es est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gana a” (Retro +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converge a “0” y es est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iguala a” (Retro +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atenuación del filtro es compensada por la ganancia del amplificador (probarlo!!!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 permanece en el circuito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uede darse el equilibrio a una frecuenci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tinta a la frecuencia de corte del filtro?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en este caso. Luego de cada “trayecto de retroalimentación” de la señal, el filtro atenuará a ésta y además introducirá un desfase. Luego de algún tiempo ésta componente desaparecerá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548320" y="1905120"/>
            <a:ext cx="35956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ilidad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La condición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iguala a” (Retro +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e un equilibrio estable?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laramente no, sólo es una condición matemática 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dealizada. Indeterminación en los valores de los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s del circuito o variaciones de los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ismos con el ambiente o el tiempo implican qu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te equilibrio es “inestable” entregand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inalmente una convergencia a salida nula 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d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Qué se puede hacer?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puede predominar la retroalimentación negativa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orque así se la salida se hará nul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Hay que encontrar una forma de hacer predominar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 retroalimentación positiva y que sin embargo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s oscilaciones sean acotada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ntes de encontrar esta solución estudiemos el Puente de Wien en forma cuantitativa y analicemos algunas simulacion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635800" y="1905120"/>
            <a:ext cx="3522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“Matemático” (Barkhausen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241280" y="1835280"/>
                <a:ext cx="11592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901960" y="1835280"/>
                <a:ext cx="115884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914400" y="2509920"/>
                <a:ext cx="367992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447920" y="3282840"/>
                <a:ext cx="25606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69960" y="4191120"/>
                <a:ext cx="420696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riterio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rPr>
                        <m:lit/>
                        <m:nor/>
                      </m:rPr>
                      <m:t xml:space="preserve">Barkhausen</m:t>
                    </m:r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974880" y="5334120"/>
                <a:ext cx="115884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79" name=""/>
          <p:cNvGrpSpPr/>
          <p:nvPr/>
        </p:nvGrpSpPr>
        <p:grpSpPr>
          <a:xfrm>
            <a:off x="5486400" y="2133720"/>
            <a:ext cx="3505320" cy="3657600"/>
            <a:chOff x="5486400" y="2133720"/>
            <a:chExt cx="3505320" cy="365760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5486400" y="2133720"/>
              <a:ext cx="3505320" cy="36576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5486400" y="4078440"/>
                  <a:ext cx="1116000" cy="57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sR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7421040" y="3632760"/>
                  <a:ext cx="1041480" cy="54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sR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038480" y="5486400"/>
                <a:ext cx="8924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76320" y="59436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recuencia de cort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l 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59436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Amplificador  iguala atenuación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l Filtro (Ver filtro RC serie-parale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495936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mplica dos condiciones (parte real e imaginaria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Ejempl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892760" cy="3978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72200" y="2610000"/>
                <a:ext cx="20574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061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5791320" y="3429000"/>
            <a:ext cx="289548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Observación: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Slew Rate del OPAMP actúa como filtro natural de las componentes de frecuencia imponiendo un límite a la máxima frecuencia permit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1828800"/>
            <a:ext cx="28954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e cumple el criterio de Barkhau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5791320"/>
            <a:ext cx="556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imulación: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alida y pines entrada diferencial.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tar órdenes de magnitud en las diversas cur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n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1549440"/>
            <a:ext cx="9144000" cy="5003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676520" y="5410080"/>
            <a:ext cx="1904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simetría: 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837720" y="5562360"/>
            <a:ext cx="7621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3900600"/>
            <a:ext cx="6477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 inversor: 1/3 Salida (No hay filtrado, sólo un divisor de tens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837720" y="36576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2360520"/>
            <a:ext cx="44960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or qué no hay señal en el pin no-inversor?: Constantes de tiempo son del orden de los ms y estamos en la escala de los 0.1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n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1457280"/>
            <a:ext cx="9144000" cy="5095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295280" y="5105520"/>
            <a:ext cx="7162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onentes de alta frecuencia (MHz) aparecen en la salida (asimetrí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3581280"/>
            <a:ext cx="6476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 inversor: 1/3 Salida (No hay filtrado, sólo un divisor de tens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1614600"/>
            <a:ext cx="7467480" cy="95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or qué no hay señal en el pin no-inversor?: 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 del orden de 1kHz y gran parte de la energía de la señal se encuentra distribuida en altas frecuencia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ólo pasan con poca atenuación las componentes alrededor de 1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9640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4113360"/>
            <a:ext cx="7010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edominio de la retroalimentación negativa +  pin no-inversor ~ cer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se va a c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1546200"/>
            <a:ext cx="914400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Estudiar los criterios para la existencia de oscilaciones en circuit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erspectiva “teórica”: Criterio de Barkhause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erspectiva “práctica”: Criterios ingenieri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elajación (ondas cuadradas, triangulares, etc.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uente de Wien, Colpitts, Hartley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rimiento de Fase (Phase-Shift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Técnicas AGC (Automatic Gain Control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recisión: Cristal de Cuarzo (XTAL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1590840"/>
            <a:ext cx="914400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1625760"/>
            <a:ext cx="8915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m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1514520"/>
            <a:ext cx="9144000" cy="4962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523880" y="4113360"/>
            <a:ext cx="556272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Oscilaciones con f </a:t>
            </a:r>
            <a:r>
              <a:rPr b="1" i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m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1096920"/>
            <a:ext cx="9448920" cy="53038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676520" y="3352680"/>
            <a:ext cx="556236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Oscilaciones con f </a:t>
            </a:r>
            <a:r>
              <a:rPr b="1" i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0m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1584360"/>
            <a:ext cx="9236160" cy="5121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09680" y="2743200"/>
            <a:ext cx="6477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redominio de Retroalimentación  Negativa 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a pesar de aplicar Barkhausen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0m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1355760"/>
            <a:ext cx="92361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de Retro +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48320" y="1905120"/>
            <a:ext cx="41907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onclusión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tener oscilaciones no puede predominar la retroalimentación neg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2897280"/>
            <a:ext cx="4419360" cy="287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riterio de Diseño Ingenieril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debe forzar el predominio de la retroalimentación positiva </a:t>
            </a: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te todo evento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paso del tiempo, indeterminación en el valor de los parámetros, etc.). En el caso del Oscilador de Wien será necesario disminuir el factor de retroalimentación negativ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(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(equivalente a aumentar la ganancia del amplificador respecto de la atenuación del filt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5872320"/>
            <a:ext cx="3504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jemplo: Disminuir el valor de R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320" y="1981080"/>
            <a:ext cx="4572000" cy="36036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 flipH="1" flipV="1">
            <a:off x="838080" y="2743200"/>
            <a:ext cx="281952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Retro +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574640"/>
            <a:ext cx="8915400" cy="4943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600200" y="2879640"/>
            <a:ext cx="6781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redominio de Retroalimentación Positiva </a:t>
            </a:r>
            <a:r>
              <a:rPr b="1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Salida Satu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Retro +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355760"/>
            <a:ext cx="92361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ciones Sostenidas: AGC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omi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 de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troalimentación negativa </a:t>
            </a:r>
            <a:r>
              <a:rPr b="0" i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da se atenuará y no existirá sinusoide. Esto nos obliga a hacer predominar la retroalimentación positiva </a:t>
            </a:r>
            <a:r>
              <a:rPr b="0" i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alida no s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á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s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ución a este problema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vitar que la salida llegu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los niveles de saturación del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ficad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 AGC: d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poner de algún elemento no lineal que afecte la retroalimentación en la siguiente forma: “Si la señal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salida e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queñ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onces que predomine la retroalimentación positiva, pero si comienza a ser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d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onces que predomine la negativa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a regla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us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uzzy) podemos intentar buscar una realización práctica para nuestro oscilador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usoid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continuación veremos un ejemplo de AGC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Clasific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os “sabore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laj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orma de onda no-line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arias componentes de frecuenci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ispositivos “trabajan” en zonas no lineales la mayor parte del tiemp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clase 18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Ondas “cuadradas” (afectadas por la Slew Rate del OPAMP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os “sabore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úsqueda de componente de frecuencia “pura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ebe “seleccionarse” frecuencia característica del sistem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positivos deben trabajar en zona lineal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linealidad implica la existencia de componentes de frecuencia distintos a la seleccion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)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55000" cy="50752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657600" y="2438280"/>
            <a:ext cx="4800600" cy="3962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523880"/>
            <a:ext cx="2895840" cy="4419720"/>
          </a:xfrm>
          <a:prstGeom prst="rect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502920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3333cc"/>
                </a:solidFill>
                <a:latin typeface="Times New Roman"/>
              </a:rPr>
              <a:t>Red AGC: </a:t>
            </a:r>
            <a:br>
              <a:rPr sz="1600"/>
            </a:br>
            <a:r>
              <a:rPr b="0" i="1" lang="es-ES_tradnl" sz="1600" spc="-1" strike="noStrike">
                <a:solidFill>
                  <a:srgbClr val="3333cc"/>
                </a:solidFill>
                <a:latin typeface="Times New Roman"/>
              </a:rPr>
              <a:t>JFET canal n + diodo + condensador y resis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5486400"/>
            <a:ext cx="259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Oscilador Puente de Wien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733920" y="1905120"/>
            <a:ext cx="5410080" cy="35812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981080"/>
            <a:ext cx="3657600" cy="45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principio el condensador Cx se encuentra decargad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FET se comporta como resistencia pequeñ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equival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enera predominio de retroalimentación positiva. A medida que la oscilación aumenta amplitud, el diodo D1 comienza a conducir (ciclos negativos de la salida) y carga a Cx con constante de tiempo RxCx la que debe ser “grande” en comparación al período de la sinusoide. Al cargarse Cx comienza a aumentar la resistencia equivalente de J1 con lo que comienza a mejorar  la retroalimentación negativa hasta que se alcanza un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1498680"/>
            <a:ext cx="9144000" cy="50702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095880" y="2057400"/>
            <a:ext cx="297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¡¡¡Oscilaciones Acotadas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72400" y="24382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lajación (formas de ondas cuadradas, triangulares,etc.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mpensación Filtro-Amplificador: Posibilidad de Oscilación Sostenid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s Matemáticos entregan aproximación de primer orden al problema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 Ingenieril ajusta comportamiento: AGC (Automatic Gain Control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Característ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 se requiere de señal extern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ción es mantenida por el sistem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imentación extern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stema impone “constantes de tiempo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d de retroalimentación: frecuencia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mutación dispositiv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: Restricción para máxima frecuencia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lineal: Velocidad en las transicion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 Sinusoidales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“Requisitos Estructurales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simetrías: Provocan la generación de la “señal original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recuencia de Oscilación: Retroalimentación “selectiva” en frecu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d de retroalimentación debe ser “filtro”: Sólo “pasa” a través de él componente de frecuencia específic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ncia de “pérdidas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tenuación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scilación sosten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stema debe “balancear” las pérdidas de amplitud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 necesaria amplificación “criterios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lación Atenuación-Gan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“grande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scilación “no lineal” (relaj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“pequeñ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scilación amortiguada (no-permanen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 Sinusoidales: Criteri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riterios para oscilaciones permanent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bjetivo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 “original” circula “eternamente” a través del circuito, sin mediar señal externa y sólo con alimen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riterio “Matemático” Estric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iciones Necesarias para la “vida eterna de la señal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: “Para que exista una oscilación permanente, la atenuación (o pérdida) en el lazo de retroalimentación debe ser </a:t>
            </a: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mpensada por la ganancia de la etapa de amplificación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esfase: “Para que exista una oscilación permanente, cualquier desfase introducido por el lazo de retroalimentación debe ser cancelado </a:t>
            </a: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por la etapa de amplificación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riterio Ingenieri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s del circuito son conocidos sólo con cierta precisión, cambian ante condiciones externas y a través del paso del tiemp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ición matemática “</a:t>
            </a: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” debe analizarse cuidadosam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Je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 Matemático Estrict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o denominaremos “Criterio de Barkhausen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sentido estricto el Criterio de Barkhausen está asociado a retroalimentación negativa, mientras que el criterio definido anteriormente es de carácter gener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criterio de Barkhausen ha tenido tradicionalmente una interpretación “oscura” (desde mi particular y acotada perspectiva): “Si la ganancia de lazo (denominador de la ganancia de lazo cerrado) “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+1” se hace “cero” entonces la ganancia es “infinita” y “puede” sostenerse una oscilación permam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“bautizo” es en honor del pionero en este tipo de análisi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to de la Clase: “Roadmap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n primer lugar estudiaremos un par de redes de retroalimentación “selectivas en frecuencia”, es decir filtr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uego analizaremos desde perspectivas “interesantes” al oscilador Puente de Wie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positiva y nega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riterio Ingenieril”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jo ganar a la retroalimentación positiva al principio pero cuando intenta ponerse no lineal dejo ganar a la negativ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incipio de AGC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inalmente los osciladores de corrimiento de Fas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23:19:03Z</dcterms:created>
  <dc:creator>Domingo Morales Lizama</dc:creator>
  <dc:description/>
  <dc:language>en-US</dc:language>
  <cp:lastModifiedBy>Claudio Alarcón Reyes</cp:lastModifiedBy>
  <dcterms:modified xsi:type="dcterms:W3CDTF">2007-10-31T04:03:53Z</dcterms:modified>
  <cp:revision>266</cp:revision>
  <dc:subject>Osciladores (I)</dc:subject>
  <dc:title>Clase 24</dc:title>
</cp:coreProperties>
</file>