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E061CA-6A29-4940-9DAF-ABA0C4313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F503AF-401C-4BB5-8E37-80D1B3715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DB8B7BD-0D4B-4E37-81C6-49E8278BB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721C80-D58A-40A4-9071-6828B6582B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1B8583F-3014-4143-A03A-9DD5D168F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2B5030C-1652-4362-8F8D-0508C5C9EE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0883C37-29CE-4AB7-A434-75E5597174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C1C9FBD-E839-4930-A9D3-25404FB090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80A8CB6-2617-427F-8C08-4237D628F5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689994B-36B8-4B00-8F4C-3D2F038695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DB1A899-D8E9-458A-8AA8-06581755D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259808-9487-4A7F-AD4F-DD3DE2FB9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554DBAA-3340-4C02-A970-9AB9CF2D1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82C8A98-A0A0-427F-82F9-9CCFA50AA4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9C3124E-67DC-45B0-9F93-CF8BD7D334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0907FE0-C6F7-4C68-BEC0-CD7C69FC2B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2E78C86-A50D-448A-AA7D-9032080FE6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102841-1CB9-4035-A06D-71E1228AE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AA8D3D-FDBE-4446-B5D5-34EED7C9B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8256C2-0CE0-46D5-9485-405A8D7E41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389EC5-32E3-480C-9FA7-08C763D98F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05CB39-955F-41F8-B2FA-1ACF73688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16528C-FF07-4882-B85D-4A8B658AD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EA1724-6241-406A-B503-1AC1DC99C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902D-D7E2-4B96-80E8-7DE3CCD93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746-A74A-4A88-B4B6-7FD996D0B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Claudio Alarcón Reyes</cp:lastModifiedBy>
  <dcterms:modified xsi:type="dcterms:W3CDTF">2007-10-31T04:03:39Z</dcterms:modified>
  <cp:revision>960</cp:revision>
  <dc:subject>Osciladores (II) y Filtros Activos</dc:subject>
  <dc:title>Clase 25</dc:title>
</cp:coreProperties>
</file>