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CDA8-B47F-409E-B8BC-C99A35C41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38B5-0B95-4A7F-BC54-98242FF29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0557-D4BE-416E-AE35-A27B74386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00CE-EE91-430A-9B65-E9DECAD52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40F-E887-4E59-BECE-F103BFE576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2AC-C1F5-4C42-A3E3-A8349BD0B4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349-6588-4C97-B7BB-6B9EB35E7D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BD9-70DE-4F92-A153-2D7FB60C2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874-E1A4-44D8-A272-47B4709DAF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F4A-7FC6-48FC-BDD2-F7A0C72E51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EC8-3DD3-4BDB-8FF9-DCB7A2CA7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4885-F058-4DFC-A689-71AED318A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0E0-4DDB-4F24-AB9F-09F2599ED3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B83-1516-459B-BF9C-8279FA7093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959-8946-4E0B-9F6C-6D3C2FEEC2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6A2-37CD-4052-B9C0-09B14A9589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927-F4F1-4294-B22D-F747E2948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55F2-942A-4E52-85E7-AEC3F58FF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3985-C1AD-40F6-A3B8-A204FAA74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B4AB-54FA-454A-8EBF-67B476B35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2175-A327-4D1C-8EC1-0A2FC2F90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4506-7E59-4BB7-8637-88CBD10BB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68FA-6A68-4358-8E47-4618B69BE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9A18-702A-4732-8B93-45ECCB71C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2FF7-320D-497E-BA83-9D29495C2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5A61-4E5F-49B5-9193-1CC2E863C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Claudio Alarcón Reyes</cp:lastModifiedBy>
  <dcterms:modified xsi:type="dcterms:W3CDTF">2007-10-31T04:03:53Z</dcterms:modified>
  <cp:revision>266</cp:revision>
  <dc:subject>Osciladores (I)</dc:subject>
  <dc:title>Clase 24</dc:title>
</cp:coreProperties>
</file>