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7E03-A697-4F64-85A6-786D882D6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E39B-F5F7-405E-8C68-79C807BC9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3CD0-5C24-4A2B-B1A3-9E1C4FC69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0569-0B85-4967-B455-EE14BB68C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43DD-4A4B-4AF4-8BD8-41DF00357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A79C-D531-42DC-B2AB-2E65EE8D6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32D3-3462-49C5-AB56-5EB2D22AD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DE0C-5808-41F1-B9F2-852BEEE12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4F95-7F94-4193-916F-CC1D6A16F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FE56-FBDB-4258-94DC-E6A8FFB0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BF32-DFA8-416E-A560-66F69263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C1AF-DEC4-4F04-8F41-69D46697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AEB94-ADCA-4EF5-8471-B2C433BB9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onsideraciones térmicas en circuito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ircuitos Electrónicos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laudio Alarcón R.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Primavera 2007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39640" y="4437000"/>
            <a:ext cx="251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ncapsul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Disipación de potenci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Disipación en componentes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Con disipador: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4867200"/>
            <a:ext cx="2232000" cy="6476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16000" y="4869000"/>
            <a:ext cx="1368360" cy="35856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2852640"/>
            <a:ext cx="2952720" cy="15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ipa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419640" y="4652640"/>
            <a:ext cx="0" cy="577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19640" y="4148280"/>
            <a:ext cx="0" cy="504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419640" y="2708280"/>
            <a:ext cx="0" cy="1440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26200" y="3284640"/>
            <a:ext cx="48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  <a:ea typeface="Tahoma"/>
              </a:rPr>
              <a:t>θ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sa: Disipador a ambiente (sink to ambi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72200" y="4221000"/>
            <a:ext cx="47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  <a:ea typeface="Tahoma"/>
              </a:rPr>
              <a:t>θ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cs: Encapsulado a disipador (case to sin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557520" y="4724280"/>
            <a:ext cx="49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  <a:ea typeface="Tahoma"/>
              </a:rPr>
              <a:t>θ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jc: Juntura a encapsulado (junction to c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24240" y="494028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juntu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3708360" y="5589720"/>
                <a:ext cx="46087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untur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mbiente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c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a</m:t>
                            </m:r>
                          </m:sub>
                        </m:sSub>
                      </m:e>
                    </m:d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68360" y="2997360"/>
            <a:ext cx="2519280" cy="122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ncapsul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Disipación de potenci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Verdana"/>
              </a:rPr>
              <a:t>Disipación en componentes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Sin disipador: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Verdana"/>
              </a:rPr>
              <a:t>Por lo general </a:t>
            </a:r>
            <a:r>
              <a:rPr b="0" lang="el-GR" sz="3200" spc="-1" strike="noStrike">
                <a:solidFill>
                  <a:srgbClr val="333399"/>
                </a:solidFill>
                <a:latin typeface="Verdana"/>
              </a:rPr>
              <a:t>θ</a:t>
            </a:r>
            <a:r>
              <a:rPr b="0" lang="es-ES" sz="3200" spc="-1" strike="noStrike">
                <a:solidFill>
                  <a:srgbClr val="333399"/>
                </a:solidFill>
                <a:latin typeface="Verdana"/>
              </a:rPr>
              <a:t>ca es más grande que </a:t>
            </a:r>
            <a:r>
              <a:rPr b="0" lang="el-GR" sz="3200" spc="-1" strike="noStrike">
                <a:solidFill>
                  <a:srgbClr val="333399"/>
                </a:solidFill>
                <a:latin typeface="Verdana"/>
              </a:rPr>
              <a:t>θ</a:t>
            </a:r>
            <a:r>
              <a:rPr b="0" lang="es-ES" sz="3200" spc="-1" strike="noStrike">
                <a:solidFill>
                  <a:srgbClr val="333399"/>
                </a:solidFill>
                <a:latin typeface="Verdana"/>
              </a:rPr>
              <a:t>cs + </a:t>
            </a:r>
            <a:r>
              <a:rPr b="0" lang="el-GR" sz="3200" spc="-1" strike="noStrike">
                <a:solidFill>
                  <a:srgbClr val="333399"/>
                </a:solidFill>
                <a:latin typeface="Verdana"/>
              </a:rPr>
              <a:t>θ</a:t>
            </a:r>
            <a:r>
              <a:rPr b="0" lang="es-ES" sz="3200" spc="-1" strike="noStrike">
                <a:solidFill>
                  <a:srgbClr val="333399"/>
                </a:solidFill>
                <a:latin typeface="Verdana"/>
              </a:rPr>
              <a:t>sa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0" name=""/>
          <p:cNvSpPr/>
          <p:nvPr/>
        </p:nvSpPr>
        <p:spPr>
          <a:xfrm>
            <a:off x="612720" y="3427560"/>
            <a:ext cx="2232000" cy="6476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44720" y="3429000"/>
            <a:ext cx="1368360" cy="3589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348000" y="3212640"/>
            <a:ext cx="0" cy="577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348000" y="2708280"/>
            <a:ext cx="0" cy="504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84720" y="2781360"/>
            <a:ext cx="521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  <a:ea typeface="Tahoma"/>
              </a:rPr>
              <a:t>θ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ca: Encapsulado a ambiente (case to ambi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86240" y="3284640"/>
            <a:ext cx="49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  <a:ea typeface="Tahoma"/>
              </a:rPr>
              <a:t>θ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jc: Juntura a encapsulado (junction to c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52960" y="350028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juntu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3962520" y="4149720"/>
                <a:ext cx="39574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untur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mbiente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c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ipación de potenci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507520" cy="4525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No sólo es suficiente un buen disipador, es necesario también un buen “acople” del disipador con el encapsulado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Superficies rugosas reducen la disipación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En algunos casos es necesario rectificar mecánicamente tanto el componente como el disipador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ipación de potenci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8163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Verdana"/>
              </a:rPr>
              <a:t>Junturas en directa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Potencia es Vpn*Ipn (en RMS)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Verdana"/>
              </a:rPr>
              <a:t>Transistores en zona activa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Potencia es Vce*Ice (en RMS)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ipación de potenci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5041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Transistores en conmutación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Fabricantes entregan gráficos de potencia de encendido y de apagado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A mayor frecuencia de conmutación mayor potencia a disipar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Encender lo más rápido posible junturas para evitar calentamiento por paso por zona activa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Referencia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Hill, Horowitz: Art of Electronics, 2nd Edition, 1989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Pease: Trobleshooting Analog Circuits, 1991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onsideraciones Térmica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os enfoques: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ómo varía el comportamiento del circuito en función de la temperatura (cambios pequeños)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ómo disipar la potencia que se pierde en los componentes (cambios grandes)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ambio de comportamiento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Tahoma"/>
              </a:rPr>
              <a:t>Junturas pn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Tahoma"/>
              </a:rPr>
              <a:t>En directa, el aumento de un grado celsius disminuye en 2.3mV el voltaje de la juntura: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2771640" y="3751200"/>
                <a:ext cx="316872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ΔT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m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ambio de comportamiento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ahoma"/>
              </a:rPr>
              <a:t>Transistores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Tahoma"/>
              </a:rPr>
              <a:t>También se cumple condición térmica de junturas pn</a:t>
            </a: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Tahoma"/>
              </a:rPr>
              <a:t>Regla de los 60mV:</a:t>
            </a: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ahoma"/>
              </a:rPr>
              <a:t>60mV de aumento en la juntura base-emisor produce un aumento de 10 veces la corriente de colector</a:t>
            </a:r>
            <a:r>
              <a:rPr b="0" lang="es-ES" sz="20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Tahoma"/>
              </a:rPr>
              <a:t>Reemplazando condición térmica de juntura: 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843280" y="3789360"/>
                <a:ext cx="308772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987640" y="5229360"/>
                <a:ext cx="26640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ΔT</m:t>
                        </m:r>
                      </m:sup>
                    </m:sSup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ambio de Comportamiento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ahoma"/>
              </a:rPr>
              <a:t>Diodos Zener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Tahoma"/>
              </a:rPr>
              <a:t>Un aumento en la temperatura produce un aumento en la tensión de ruptura (tempco positivo)</a:t>
            </a: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Tahoma"/>
              </a:rPr>
              <a:t>Este fenómeno es útil para compensación térmica de junturas pn</a:t>
            </a: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Tahoma"/>
              </a:rPr>
              <a:t>Diodos por sobre los 6V poseen mejores características térmicas</a:t>
            </a: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Tahoma"/>
              </a:rPr>
              <a:t>Operan por efecto avalancha y no efecto Zener.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ambio de Comportamiento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R, L y C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En general no hay que preocuparse</a:t>
            </a: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En más detalle, su comportamiento frente a la temperatura depende del material de fabricación</a:t>
            </a: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Metal aumenta su resistividad con la temperatura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Carbón disminuye su resistividad con la temperatura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i se requiere alta precisión, se deben usar arreglos de resistencias, y dejar las expresiones tal que no dependan de la resistencia (por ejemplo 1+R/2R)</a:t>
            </a: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SIEMPRE corresponde a P = V*I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En componentes R, L, C se puede aproximar a Potencia media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En diodos y transistores se deben considerar las conmutaciones y el tiempo en zona activa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ipación de potenci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Disipación de potenci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5141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En los componentes electrónicos se utiliza el concepto de RESISTENCIA TERMICA: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Son parámetros en las hojas de datos</a:t>
            </a: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Si se supera la temperatura de juntura, el dispositivo se quema aunque no se llegue a la potencia máxima que pueda entregar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2411280" y="3429000"/>
                <a:ext cx="403884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ΔP</m:t>
                    </m:r>
                    <m:r>
                      <m:t xml:space="preserve">/</m:t>
                    </m:r>
                    <m:r>
                      <m:t xml:space="preserve">ΔT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W</m:t>
                        </m:r>
                        <m:r>
                          <m:t xml:space="preserve">/</m:t>
                        </m:r>
                        <m:r>
                          <m:t xml:space="preserve">°</m:t>
                        </m:r>
                        <m:r>
                          <m:t xml:space="preserve">C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3T16:46:25Z</dcterms:created>
  <dc:creator>Claudio</dc:creator>
  <dc:description/>
  <dc:language>en-US</dc:language>
  <cp:lastModifiedBy>Claudio Alarcón Reyes</cp:lastModifiedBy>
  <dcterms:modified xsi:type="dcterms:W3CDTF">2007-09-20T16:02:29Z</dcterms:modified>
  <cp:revision>10</cp:revision>
  <dc:subject/>
  <dc:title>Tips para análisis de transistores BJT</dc:title>
</cp:coreProperties>
</file>