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712-B342-4B7B-8B53-BB04F2F3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D54-D47E-4CF3-9040-E0FA8EA1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573-C5F3-4C4D-9B1D-5DA90B54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E1E-CF18-41F8-B229-2295D5D7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C1E-7EB5-4D3C-A5B2-91C7DD62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978-91F9-4F26-AD2E-2320EA23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386-DC7A-46D8-9765-FB38B9E4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EA5-D972-4E2D-B177-6C8A6F63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4EA-9C94-47E6-9632-355A0D4A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440-18B1-4382-879F-60A37B4C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728-2AAE-4AD6-BDC3-2ACE857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D36-C965-412A-9AD5-02AE99C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6F7-06F4-45D3-B790-31B13288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nsideraciones térmicas en circuit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443700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apsu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Disipación en component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 disipador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867200"/>
            <a:ext cx="2232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869000"/>
            <a:ext cx="1368360" cy="3585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852640"/>
            <a:ext cx="29527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ip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9640" y="465264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19640" y="414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19640" y="270828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26200" y="3284640"/>
            <a:ext cx="48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sa: Disipador a ambiente (sink to amb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72200" y="4221000"/>
            <a:ext cx="47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s: Encapsulado a disipador (case to s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57520" y="472428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jc: Juntura a encapsulado (junction to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4240" y="4940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8360" y="5589720"/>
                <a:ext cx="4608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untur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iente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2997360"/>
            <a:ext cx="25192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apsu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Disipación en component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n disipador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Por lo general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a es más grande que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s + </a:t>
            </a:r>
            <a:r>
              <a:rPr b="0" lang="el-GR" sz="3200" spc="-1" strike="noStrike">
                <a:solidFill>
                  <a:srgbClr val="333399"/>
                </a:solidFill>
                <a:latin typeface="Verdana"/>
              </a:rPr>
              <a:t>θ</a:t>
            </a: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s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612720" y="3427560"/>
            <a:ext cx="22320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4720" y="3429000"/>
            <a:ext cx="1368360" cy="3589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348000" y="3212640"/>
            <a:ext cx="0" cy="577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48000" y="27082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84720" y="2781360"/>
            <a:ext cx="52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: Encapsulado a ambiente (case to ambi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86240" y="3284640"/>
            <a:ext cx="49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θ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jc: Juntura a encapsulado (junction to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2960" y="350028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n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962520" y="4149720"/>
                <a:ext cx="3957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untur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mbiente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No sólo es suficiente un buen disipador, es necesario también un buen “acople” del disipador con el encapsulado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uperficies rugosas reducen la disip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algunos casos es necesario rectificar mecánicamente tanto el componente como el disipad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Junturas en direct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otencia es Vpn*Ipn (en RM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ransistores en zona activ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otencia es Vce*Ice (en RM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ransistores en conmutación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Fabricantes entregan gráficos de potencia de encendido y de apagado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A mayor frecuencia de conmutación mayor potencia a disipa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cender lo más rápido posible junturas para evitar calentamiento por paso por zona activ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Hill, Horowitz: Art of Electronics, 2nd Edition, 1989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Pease: Trobleshooting Analog Circuits, 1991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sideraciones Térmica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os enfoque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ómo varía el comportamiento del circuito en función de la temperatura (cambios pequeño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ómo disipar la potencia que se pierde en los componentes (cambios grandes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ahoma"/>
              </a:rPr>
              <a:t>Junturas pn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En directa, el aumento de un grado celsius disminuye en 2.3mV el voltaje de la juntura: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71640" y="3751200"/>
                <a:ext cx="31687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T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Transistore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También se cumple condición térmica de junturas p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Regla de los 60mV: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ahoma"/>
              </a:rPr>
              <a:t>60mV de aumento en la juntura base-emisor produce un aumento de 10 veces la corriente de colector</a:t>
            </a: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Reemplazando condición térmica de juntura: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43280" y="3789360"/>
                <a:ext cx="30877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987640" y="5229360"/>
                <a:ext cx="2664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T</m:t>
                        </m:r>
                      </m:sup>
                    </m:sSup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ahoma"/>
              </a:rPr>
              <a:t>Diodos Zene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Un aumento en la temperatura produce un aumento en la tensión de ruptura (tempco positivo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Este fenómeno es útil para compensación térmica de junturas p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Diodos por sobre los 6V poseen mejores características térmicas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ahoma"/>
              </a:rPr>
              <a:t>Operan por efecto avalancha y no efecto Zener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mbio de Comportamient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R, L y C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 general no hay que preocupars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 más detalle, su comportamiento frente a la temperatura depende del material de fabricació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etal aumenta su resistividad con la temperatura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arbón disminuye su resistividad con la temperatura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i se requiere alta precisión, se deben usar arreglos de resistencias, y dejar las expresiones tal que no dependan de la resistencia (por ejemplo 1+R/2R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EMPRE corresponde a P = V*I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componentes R, L, C se puede aproximar a Potencia medi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diodos y transistores se deben considerar las conmutaciones y el tiempo en zona activa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ipación de po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141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n los componentes electrónicos se utiliza el concepto de RESISTENCIA TERMICA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on parámetros en las hojas de datos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i se supera la temperatura de juntura, el dispositivo se quema aunque no se llegue a la potencia máxima que pueda entregar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11280" y="3429000"/>
                <a:ext cx="4038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ΔP</m:t>
                    </m:r>
                    <m:r>
                      <m:t xml:space="preserve">/</m:t>
                    </m:r>
                    <m:r>
                      <m:t xml:space="preserve">ΔT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W</m:t>
                        </m:r>
                        <m:r>
                          <m:t xml:space="preserve">/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 Alarcón Reyes</cp:lastModifiedBy>
  <dcterms:modified xsi:type="dcterms:W3CDTF">2007-09-20T16:02:29Z</dcterms:modified>
  <cp:revision>10</cp:revision>
  <dc:subject/>
  <dc:title>Tips para análisis de transistores BJT</dc:title>
</cp:coreProperties>
</file>