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E17-AE39-4B53-9161-274289EA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A59-0CFF-47DD-AF73-364480AB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D3F-183F-4226-9EC4-7E2EE016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DCE-8B28-4778-86C2-2FF4C26F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4A0-B3DF-4D56-A6F7-43A48B5A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15F-492D-4E15-BD81-3314D62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B8D-6004-47B3-AF4C-5125B868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A0E-2164-48FE-A686-AA566B84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CB5-DF5A-4E5F-87A3-241C241F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6F3-EA8A-45C1-ACB6-0D696A3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126-40F7-47CE-B541-AE9625D1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195-1E31-42E6-B72C-293923C4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FA98-D5C0-49D7-BB86-0EA685107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Tips para análisis de 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misor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-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suma componente continua de la polarización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 debe cumplir 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0 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&lt;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71448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Base comú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Seguidor de corrient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=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+1)/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  <a:ea typeface="Tahoma"/>
              </a:rPr>
              <a:t>i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-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  <a:ea typeface="Tahoma"/>
              </a:rPr>
              <a:t>Δ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/(</a:t>
            </a:r>
            <a:r>
              <a:rPr b="0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549520" cy="452592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rte/saturación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Funcionan como inversores lógico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0V</a:t>
            </a:r>
            <a:br>
              <a:rPr sz="2400"/>
            </a:b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         0.2V  si   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Debe cumplirse condición de saturación:</a:t>
            </a:r>
            <a:br>
              <a:rPr sz="2400"/>
            </a:b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(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- 0.7)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c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/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Verdana"/>
              </a:rPr>
              <a:t>Configuración típica para activar relés.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29040" cy="358128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4 zonas de oper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Corte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Amplific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Saturación (switch)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Inversa activ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084640"/>
            <a:ext cx="287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P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No PeNet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704000" y="50148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3880" y="3952800"/>
            <a:ext cx="1790640" cy="281772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3959280"/>
            <a:ext cx="1676160" cy="2762280"/>
          </a:xfrm>
          <a:prstGeom prst="rect">
            <a:avLst/>
          </a:prstGeom>
          <a:ln w="1908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cort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 0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e caso, el transistor queda abierto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(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0), y voltaje Colector – Emisor (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) no queda definido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uando está encendid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puede asumir que V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Verdana"/>
              </a:rPr>
              <a:t>BE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0.6V para NPN, -0.6V para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duce corriente en el sentido de la flecha del emisor. Si la corriente queda invertida el transistor se quem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amplificación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&lt;&lt;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la ecuación queda: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             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+1)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(h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f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n datasheets) varía entre 100 y 300 típicamente. Ganancia no debe depender de </a:t>
            </a:r>
            <a:r>
              <a:rPr b="0" lang="el-GR" sz="28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es amplificador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Transistor es una fuente de corriente </a:t>
            </a:r>
            <a:br>
              <a:rPr sz="2800"/>
            </a:b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=&gt; Alta Impedancia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Zona de saturación (switch)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Cuando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este caso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+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E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se puede asumir que tiene 0.2V en NPN, 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EC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es 0.2V en PNP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No es necesaria alta corriente, sólo cumplir condición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B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versa Activa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e invierten papeles de Colector y Emisor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este caso la amplificación de corriente (el equivalente a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b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caso de zona activa) es del orden de 5.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No es muy utilizada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figuraciones típicas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lector común (seguidor voltaj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misor Común (amplificador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Base Común (seguidor corriente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Configuraciones en corte / saturación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ansistores BJ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75308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Colector común (seguidor emisor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out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V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– 0.6V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acopla polarización (divisor entre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 y R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2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 con entrada (V</a:t>
            </a:r>
            <a:r>
              <a:rPr b="0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Aumenta la impedancia de entrada: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Z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in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 = (</a:t>
            </a:r>
            <a:r>
              <a:rPr b="1" lang="el-GR" sz="2400" spc="-1" strike="noStrike">
                <a:solidFill>
                  <a:srgbClr val="333399"/>
                </a:solidFill>
                <a:latin typeface="Verdana"/>
              </a:rPr>
              <a:t>β</a:t>
            </a:r>
            <a:r>
              <a:rPr b="1" lang="es-ES" sz="2400" spc="-1" strike="noStrike">
                <a:solidFill>
                  <a:srgbClr val="333399"/>
                </a:solidFill>
                <a:latin typeface="Verdana"/>
              </a:rPr>
              <a:t>+1)R</a:t>
            </a:r>
            <a:r>
              <a:rPr b="1" lang="es-ES" sz="2400" spc="-1" strike="noStrike" baseline="-25000">
                <a:solidFill>
                  <a:srgbClr val="33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08680" y="1616040"/>
            <a:ext cx="4038480" cy="4519800"/>
          </a:xfrm>
          <a:prstGeom prst="rect">
            <a:avLst/>
          </a:prstGeom>
          <a:ln w="19080">
            <a:solidFill>
              <a:srgbClr val="0099ff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6:46:25Z</dcterms:created>
  <dc:creator>Claudio</dc:creator>
  <dc:description/>
  <dc:language>en-US</dc:language>
  <cp:lastModifiedBy>Claudio</cp:lastModifiedBy>
  <dcterms:modified xsi:type="dcterms:W3CDTF">2007-07-24T16:04:43Z</dcterms:modified>
  <cp:revision>6</cp:revision>
  <dc:subject/>
  <dc:title>Tips para análisis de transistores BJT</dc:title>
</cp:coreProperties>
</file>