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5EF-B29E-4A1B-B4D0-93CF7601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34628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8EE-D99A-40C6-9AC5-1FC04C1A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836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7C1-A76D-4FB0-97B1-A62E7BB1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40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1880" y="159984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40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1880" y="4346280"/>
            <a:ext cx="2817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A9D-1B26-4EE1-8151-5982BC46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511-F6EE-4171-BB23-21240ED6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11B-C328-4E4D-BDE2-3CC363AE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D6C-E212-43A9-8D48-14F1156D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4A6-F71B-4FF8-BACF-98E3CED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7DDD-A1DC-4D8B-8513-F0A2ACB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3CE-6A61-46A0-BD27-97C83183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8360" y="434628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62C-CB03-44FF-BC36-78947D3C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360" y="1599840"/>
            <a:ext cx="4269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346280"/>
            <a:ext cx="87487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EA4-3AED-471B-AC21-9B4A7715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BE2-4349-4D22-9E59-193D6A48D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Verdana"/>
              </a:rPr>
              <a:t>Tips para 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Bobina en seri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bajos de corriente.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2571840"/>
            <a:ext cx="2743200" cy="1714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siste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e comporta de la misma forma sin importar la frecuenci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n conjunto con condensadores generan filtros de tensión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En conjunto con bobinas generan filtros de corrient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el-GR" sz="5000" spc="-1" strike="noStrike">
                <a:solidFill>
                  <a:srgbClr val="333399"/>
                </a:solidFill>
                <a:latin typeface="Verdana"/>
              </a:rPr>
              <a:t>ω</a:t>
            </a:r>
            <a:r>
              <a:rPr b="1" lang="es-ES" sz="5000" spc="-1" strike="noStrike">
                <a:solidFill>
                  <a:srgbClr val="333399"/>
                </a:solidFill>
                <a:latin typeface="Verdana"/>
              </a:rPr>
              <a:t> = 2</a:t>
            </a:r>
            <a:r>
              <a:rPr b="1" lang="el-GR" sz="5000" spc="-1" strike="noStrike">
                <a:solidFill>
                  <a:srgbClr val="333399"/>
                </a:solidFill>
                <a:latin typeface="Times New Roman"/>
              </a:rPr>
              <a:t>π</a:t>
            </a:r>
            <a:r>
              <a:rPr b="1" lang="es-ES" sz="5000" spc="-1" strike="noStrike">
                <a:solidFill>
                  <a:srgbClr val="333399"/>
                </a:solidFill>
                <a:latin typeface="Verdana"/>
              </a:rPr>
              <a:t>f</a:t>
            </a:r>
            <a:endParaRPr b="1" lang="en-US" sz="5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f = 0 Hz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f = ∞ Hz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nsiderar alguna frecuencia intermedia de interés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797256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jempl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= 0: V2 = V1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333399"/>
                </a:solidFill>
                <a:latin typeface="Symath"/>
                <a:ea typeface="Symath"/>
              </a:rPr>
              <a:t>h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: V2 = 0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Posiblemente sea un filtro pasa bajo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5640" y="2219400"/>
            <a:ext cx="5635440" cy="189216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9264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Función de transferencia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4149720"/>
                <a:ext cx="291780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Zeq</m:t>
                          </m:r>
                        </m:e>
                        <m:e/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//</m:t>
                          </m:r>
                          <m:r>
                            <m:t xml:space="preserve">R</m:t>
                          </m:r>
                        </m:e>
                      </m:mr>
                      <m:mr>
                        <m:e/>
                        <m:e/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/</m:t>
                              </m:r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jωC</m:t>
                              </m:r>
                            </m:den>
                          </m:f>
                        </m:e>
                      </m:mr>
                      <m:mr>
                        <m:e/>
                        <m:e/>
                        <m:e>
                          <m:r>
                            <m:t xml:space="preserve">R</m:t>
                          </m:r>
                          <m:r>
                            <m:t xml:space="preserve">/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C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24000" y="2997360"/>
                <a:ext cx="4248000" cy="34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eq</m:t>
                                  </m:r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eq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/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/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</m:den>
                              </m:f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jω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RC</m:t>
                                      </m:r>
                                    </m:e>
                                  </m:d>
                                </m:den>
                              </m:f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jωL</m:t>
                                  </m:r>
                                  <m:r>
                                    <m:t xml:space="preserve">/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</m:t>
                                  </m:r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292280" cy="143964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280360" cy="367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Frecuencias de interés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aiz(1/LC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/L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tuación “peligrosa”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 R es muy grande, V2 tiende a infinito si </a:t>
            </a:r>
            <a:r>
              <a:rPr b="0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</a:t>
            </a: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= raiz(1/LC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39640" y="1413000"/>
                <a:ext cx="3816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L</m:t>
                              </m:r>
                              <m:r>
                                <m:t xml:space="preserve">/</m:t>
                              </m:r>
                              <m:r>
                                <m:t xml:space="preserve">R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123984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álisis de Filtr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arte imaginaria aplica desfase en frecuenci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Valor absoluto define ganancia.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EMPRE influye sobre el VOLTAJ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UAVIZA VOLTAJE DISTORSIONANDO LA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bajas frecuencias, es un circuito abier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altas frecuencias, es un cortocircui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paralelo se suman las capacitancias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serie: 1/Ceq = 1/C1 + 1/C2 + …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angos de valore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Osciladores: hasta 50 pF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Filtros de señales: desde 1nF hasta 100nF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Filtros en fuentes de alimentación: desde 1uF en adelante (el valor máximo depende de la potencia del equipo)</a:t>
            </a:r>
            <a:endParaRPr b="0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elación Corriente/voltaj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 = C*dV/d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Como primera aproximación (tanto en análisis como en diseño), se puede aproximar a: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 = C*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/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densador en paralel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bajos de voltaj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2514600" cy="14382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densad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ondensador en seri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n el espectro, es un filtro pasa altos de voltaje. Usado para eliminar componente continua en amplificación de señales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81400" y="2638440"/>
            <a:ext cx="2581200" cy="1581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IEMPRE influye sobre la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SUAVIZA CORRIENTE DISTORSIONANDO EL VOLTAJE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bajas frecuencias, es un cortocircui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A altas frecuencias, es un circuito abierto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serie se suman las inductancia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En paralelo: 1/Leq = 1/L1 + 1/L2 + …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Unidad típica: uH. mH en potencia (sobre 10A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Relación Corriente/voltaje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 = L*dI/d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Como primera aproximación (tanto en análisis como en diseño), se puede aproximar a: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V = L*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I/</a:t>
            </a:r>
            <a:r>
              <a:rPr b="1" lang="es-ES" sz="3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3200" spc="-1" strike="noStrike">
                <a:solidFill>
                  <a:srgbClr val="333399"/>
                </a:solidFill>
                <a:latin typeface="Verdana"/>
              </a:rPr>
              <a:t>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ductanc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Bobina en paralelo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Es un filtro pasa altos de corriente. NO ES RECOMENDADO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8480" y="2557440"/>
            <a:ext cx="2867040" cy="1743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20:28:49Z</dcterms:created>
  <dc:creator>Claudio</dc:creator>
  <dc:description/>
  <dc:language>en-US</dc:language>
  <cp:lastModifiedBy>Claudio Alarcón Reyes</cp:lastModifiedBy>
  <dcterms:modified xsi:type="dcterms:W3CDTF">2007-07-24T19:32:30Z</dcterms:modified>
  <cp:revision>8</cp:revision>
  <dc:subject/>
  <dc:title>Tips para análisis de circuitos electrónicos</dc:title>
</cp:coreProperties>
</file>