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0C8-B2F1-47D8-8D13-BB50F120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6280"/>
            <a:ext cx="87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ADD-F843-477E-A465-7BA7B01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836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628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8360" y="434628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2D7-32A7-4CC6-A1A8-BA75B26A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3400" y="159984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880" y="159984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628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3400" y="434628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880" y="434628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9CA-585F-4328-AAFD-57DE9874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F19-4FB9-49DE-B6AC-FC46C45C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4AD-F718-45FD-B5AD-276A452B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69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8360" y="1599840"/>
            <a:ext cx="4269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9A9-DFB1-4ABE-8845-87669A4D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CDF-6727-40AD-981F-FE730C61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59A-B4CE-4905-8EFC-CF3D3589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8360" y="1599840"/>
            <a:ext cx="4269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628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CE2-EA2F-471A-9ED2-65EC2F8C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69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836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8360" y="434628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4A3-CD78-4FBA-8529-2D13DB8C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36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6280"/>
            <a:ext cx="87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966-C3AF-4E73-A4DB-1D369CB6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4044-2285-4E7F-BFFF-EDCE02936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Verdana"/>
              </a:rPr>
              <a:t>Tips para 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ducta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Bobina en seri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s un filtro pasa bajos de corriente.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2571840"/>
            <a:ext cx="2743200" cy="1714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sis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 comporta de la misma forma sin importar la frecuencia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En conjunto con condensadores generan filtros de tensión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En conjunto con bobinas generan filtros de corriente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l-GR" sz="5000" spc="-1" strike="noStrike">
                <a:solidFill>
                  <a:srgbClr val="333399"/>
                </a:solidFill>
                <a:latin typeface="Verdana"/>
              </a:rPr>
              <a:t>ω</a:t>
            </a:r>
            <a:r>
              <a:rPr b="1" lang="es-ES" sz="5000" spc="-1" strike="noStrike">
                <a:solidFill>
                  <a:srgbClr val="333399"/>
                </a:solidFill>
                <a:latin typeface="Verdana"/>
              </a:rPr>
              <a:t> = 2</a:t>
            </a:r>
            <a:r>
              <a:rPr b="1" lang="el-GR" sz="5000" spc="-1" strike="noStrike">
                <a:solidFill>
                  <a:srgbClr val="333399"/>
                </a:solidFill>
                <a:latin typeface="Times New Roman"/>
              </a:rPr>
              <a:t>π</a:t>
            </a:r>
            <a:r>
              <a:rPr b="1" lang="es-ES" sz="5000" spc="-1" strike="noStrike">
                <a:solidFill>
                  <a:srgbClr val="333399"/>
                </a:solidFill>
                <a:latin typeface="Verdana"/>
              </a:rPr>
              <a:t>f</a:t>
            </a:r>
            <a:endParaRPr b="1" lang="en-US" sz="50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Considerar f = 0 Hz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Considerar f = ∞ Hz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Considerar alguna frecuencia intermedia de interés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797256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jemplo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= 0: V2 = V1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333399"/>
                </a:solidFill>
                <a:latin typeface="Symath"/>
                <a:ea typeface="Symath"/>
              </a:rPr>
              <a:t>h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: V2 = 0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Posiblemente sea un filtro pasa bajos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95640" y="2219400"/>
            <a:ext cx="5635440" cy="1892160"/>
          </a:xfrm>
          <a:prstGeom prst="rect">
            <a:avLst/>
          </a:prstGeom>
          <a:ln w="19080">
            <a:solidFill>
              <a:srgbClr val="009999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9264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Función de transferencia: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508720" y="4149720"/>
                <a:ext cx="291780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Zeq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//</m:t>
                          </m:r>
                          <m:r>
                            <m:t xml:space="preserve">R</m:t>
                          </m:r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/</m:t>
                              </m:r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jωC</m:t>
                              </m:r>
                            </m:den>
                          </m:f>
                        </m:e>
                      </m:mr>
                      <m:mr>
                        <m:e/>
                        <m:e/>
                        <m:e>
                          <m:r>
                            <m:t xml:space="preserve">R</m:t>
                          </m:r>
                          <m:r>
                            <m:t xml:space="preserve">/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C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24000" y="2997360"/>
                <a:ext cx="4248000" cy="34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eq</m:t>
                                  </m:r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eq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/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jω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C</m:t>
                                      </m:r>
                                    </m:e>
                                  </m:d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/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jω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C</m:t>
                                      </m:r>
                                    </m:e>
                                  </m:d>
                                  <m:r>
                                    <m:t xml:space="preserve">+</m:t>
                                  </m:r>
                                  <m:r>
                                    <m:t xml:space="preserve">jωL</m:t>
                                  </m:r>
                                </m:den>
                              </m:f>
                            </m:e>
                          </m:mr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jωL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jω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C</m:t>
                                      </m:r>
                                    </m:e>
                                  </m:d>
                                </m:den>
                              </m:f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jωL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</m:t>
                                  </m:r>
                                </m:den>
                              </m:f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292280" cy="1439640"/>
          </a:xfrm>
          <a:prstGeom prst="rect">
            <a:avLst/>
          </a:prstGeom>
          <a:ln w="19080">
            <a:solidFill>
              <a:srgbClr val="009999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80360" cy="3671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Frecuencias de interés: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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= raiz(1/LC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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= R/L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ituación “peligrosa”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i R es muy grande, V2 tiende a infinito si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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= raiz(1/LC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39640" y="1413000"/>
                <a:ext cx="3816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L</m:t>
                              </m:r>
                              <m:r>
                                <m:t xml:space="preserve">/</m:t>
                              </m:r>
                              <m:r>
                                <m:t xml:space="preserve">R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1239840"/>
          </a:xfrm>
          <a:prstGeom prst="rect">
            <a:avLst/>
          </a:prstGeom>
          <a:ln w="19080">
            <a:solidFill>
              <a:srgbClr val="009999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arte imaginaria aplica desfase en frecuencia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Valor absoluto define ganancia.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densad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IEMPRE influye sobre el VOLTAJE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UAVIZA VOLTAJE DISTORSIONANDO LA CORRIENTE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A bajas frecuencias, es un circuito abierto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A altas frecuencias, es un cortocircuito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n paralelo se suman las capacitancias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n serie: 1/Ceq = 1/C1 + 1/C2 + …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densad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Rangos de valore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Osciladores: hasta 50 pF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Filtros de señales: desde 1nF hasta 100nF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Filtros en fuentes de alimentación: desde 1uF en adelante (el valor máximo depende de la potencia del equipo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densad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Relación Corriente/voltaj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I = C*dV/d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Como primera aproximación (tanto en análisis como en diseño), se puede aproximar a: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I = C*</a:t>
            </a:r>
            <a:r>
              <a:rPr b="1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V/</a:t>
            </a:r>
            <a:r>
              <a:rPr b="1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densad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ondensador en paralelo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s un filtro pasa bajos de voltaje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2514600" cy="143820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densad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ondensador en seri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n el espectro, es un filtro pasa altos de voltaje. Usado para eliminar componente continua en amplificación de señales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81400" y="2638440"/>
            <a:ext cx="2581200" cy="158112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ducta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IEMPRE influye sobre la CORRIENTE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UAVIZA CORRIENTE DISTORSIONANDO EL VOLTAJ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A bajas frecuencias, es un cortocircuito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A altas frecuencias, es un circuito abierto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n serie se suman las inductancias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n paralelo: 1/Leq = 1/L1 + 1/L2 + …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Unidad típica: uH. mH en potencia (sobre 10A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ducta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Relación Corriente/voltaj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V = L*dI/d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Como primera aproximación (tanto en análisis como en diseño), se puede aproximar a:</a:t>
            </a: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V = L*</a:t>
            </a:r>
            <a:r>
              <a:rPr b="1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I/</a:t>
            </a:r>
            <a:r>
              <a:rPr b="1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ducta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Bobina en paralelo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s un filtro pasa altos de corriente. NO ES RECOMENDADO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38480" y="2557440"/>
            <a:ext cx="2867040" cy="17431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20:28:49Z</dcterms:created>
  <dc:creator>Claudio</dc:creator>
  <dc:description/>
  <dc:language>en-US</dc:language>
  <cp:lastModifiedBy>Claudio Alarcón Reyes</cp:lastModifiedBy>
  <dcterms:modified xsi:type="dcterms:W3CDTF">2007-07-24T19:32:30Z</dcterms:modified>
  <cp:revision>8</cp:revision>
  <dc:subject/>
  <dc:title>Tips para análisis de circuitos electrónicos</dc:title>
</cp:coreProperties>
</file>