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7436-A01E-40A8-B5A1-2F9CDCCF4C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este caso, se calcula Rs para que con el máximo valor de V1 posible se cumpla la condición de conducción de los diodos, sin que se que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emás, RL consume mucho menos corriente que los dio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os diodos deben operar con una corriente de 10mA, y se desprecia la corriente en RL, queda que V1 no puede superar +/-1.7V, puesto que en este caso por Rs pasan 10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VRsMax = IdiodoMax*Rs = 1V; V1Max = VRsMax + Vd = 1V + 0.7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este caso, se calcula Rs para que con el máximo valor de V1 posible se cumpla la condición de conducción de los diodos, sin que se que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emás, RL consume mucho menos corriente que los dio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os diodos deben operar con una corriente de 10mA, y se desprecia la corriente en RL, queda que V1 no puede superar +/-1.7V, puesto que en este caso por Rs pasan 10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VRsMax = IdiodoMax*Rs = 1V; V1Max = VRsMax + Vd = 1V + 0.7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ste caso, debido a que no se cumplen las condiciones de corriente, no se puede suponer que la salida es la típica de un rectifica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hecho, se comporta igual que el circuito anterior. Esto sucede pues la juntura en directa impone voltaje sobre la que queda en reve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EC3-0C52-4C54-A83D-069D3B0E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225-6E53-44E0-8F71-5F403D4B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D5F-C40F-4966-9166-38E6B6C9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A34-FAD6-4E81-991D-0271C0C9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42A4-88A0-4AE1-B1EC-AD25392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B59-4EF1-49CD-BBCE-F74AFB4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BB3-8B21-4DB4-A8B6-5796F9AD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A3F-CC9F-4140-80D0-55C786C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D84-7CCF-41DD-983C-737F90E1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5FE-4535-4A6D-9D85-2FB8D876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A60-13F7-4F64-B873-A30ADE3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2F3-13E8-4A7B-B145-BE36FA1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8BD-0F96-474A-A46B-04F43791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Tips para análisis de Reguladores de voltaj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iodos Zen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Regulador de +5.1V: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e diseña para carga fija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i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Z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20mA y carga consume 40mA, R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S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debe cumplir (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-5.1V)/R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S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60mA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Zener recibe la corriente extra si 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aumenta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4907160" cy="173340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lgunos concept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gulación: cómo varía el voltaje al cambiar la corriente de carga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chazo al ruido (noise rejection): cómo filtra el ruido del voltaje de entrada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5300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Para activarse deben cumplirse condiciones de voltaje y corriente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MPONEN VOLTAJE si se activan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inversa quedan flotando, si no se supera voltaje de ruptura (reverse voltage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Para análisis rápido se puede considerar que “se quedan” con 0.6V o 0.7V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cortador de +/- 0.7V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s limita corriente si se supera voltaje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570640" cy="19321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cortador: Formas de onda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015160" cy="309888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240000" cy="3090960"/>
          </a:xfrm>
          <a:prstGeom prst="rect">
            <a:avLst/>
          </a:prstGeom>
          <a:ln w="19080">
            <a:solidFill>
              <a:srgbClr val="009999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"/>
          <p:cNvSpPr/>
          <p:nvPr/>
        </p:nvSpPr>
        <p:spPr>
          <a:xfrm>
            <a:off x="3851280" y="1773360"/>
            <a:ext cx="5292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uánto vale V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 se mide, no se medirán datos vál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Razón: no se cumplen condiciones de corriente en diodos. Se debe colocar una carga a la sa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iodos Zen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on utilizados en inversa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directa se comportan como cualquier diodo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las hojas de datos aparece una corriente de operación que se debe respetar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No soportan altas corrientes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iodos Zen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Este NO ES un recortador de +/- 5.1V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1n4733 es un diodo Zener de 5.1V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92360" y="4149720"/>
            <a:ext cx="6080040" cy="228600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iodos Zen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cortador (clipper) de +/- 5V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1n4731 es un zener de 4.3V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734000" cy="261936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3:46:28Z</dcterms:created>
  <dc:creator>Claudio</dc:creator>
  <dc:description/>
  <dc:language>en-US</dc:language>
  <cp:lastModifiedBy>Claudio Alarcón Reyes</cp:lastModifiedBy>
  <dcterms:modified xsi:type="dcterms:W3CDTF">2007-08-23T03:13:08Z</dcterms:modified>
  <cp:revision>6</cp:revision>
  <dc:subject/>
  <dc:title>Tips para análisis de Reguladores de voltaje</dc:title>
</cp:coreProperties>
</file>