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EAB744-EEE0-4ECF-A022-FF7D5FCE498D}" type="slidenum">
              <a:rPr b="0" lang="es-E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este caso, se calcula Rs para que con el máximo valor de V1 posible se cumpla la condición de conducción de los diodos, sin que se que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emás, RL consume mucho menos corriente que los dio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los diodos deben operar con una corriente de 10mA, y se desprecia la corriente en RL, queda que V1 no puede superar +/-1.7V, puesto que en este caso por Rs pasan 10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VRsMax = IdiodoMax*Rs = 1V; V1Max = VRsMax + Vd = 1V + 0.7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En este caso, se calcula Rs para que con el máximo valor de V1 posible se cumpla la condición de conducción de los diodos, sin que se queme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Además, RL consume mucho menos corriente que los diod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i los diodos deben operar con una corriente de 10mA, y se desprecia la corriente en RL, queda que V1 no puede superar +/-1.7V, puesto que en este caso por Rs pasan 10m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(VRsMax = IdiodoMax*Rs = 1V; V1Max = VRsMax + Vd = 1V + 0.7V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n este caso, debido a que no se cumplen las condiciones de corriente, no se puede suponer que la salida es la típica de un rectificad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De hecho, se comporta igual que el circuito anterior. Esto sucede pues la juntura en directa impone voltaje sobre la que queda en revers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9FCEE-DE0B-4EEC-AEDA-299A121BA7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41305-80B9-4AE1-9439-D774202C2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8F06-16DE-45C8-9061-3C0FFB4A21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3485E-EDE0-4484-B651-E10C0FDAA2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256AC-558F-4193-B9DD-CA28212ED1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0A573-48E6-46F2-804C-0DB0C3ADAC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DB9A-E752-4CE9-A4F7-0C6AC1F46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1C5E4-4AB2-4A17-B0AC-9B99710E6F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50C1C-599B-4E3F-BB45-565B555F99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86720-57B2-4773-9796-050E7ACAE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C661A-73FA-455F-8AA3-8FB2BEB8E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F2E1C-4006-4675-8DBB-489553510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con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Third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our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Fif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ix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Seventh Outline Level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6D6D01-CC56-4EA6-B162-AB6E607E61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Tips para análisis de Reguladores de voltaje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ircuitos Electrónicos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Claudio Alarcón R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99"/>
                </a:solidFill>
                <a:latin typeface="Verdana"/>
              </a:rPr>
              <a:t>Primavera 2007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Diodos Zen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95280" y="1557000"/>
            <a:ext cx="874872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99"/>
                </a:solidFill>
                <a:latin typeface="Verdana"/>
              </a:rPr>
              <a:t>Regulador de +5.1V: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Se diseña para carga fija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Si I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Z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= 20mA y carga consume 40mA, R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S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debe cumplir (V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-5.1V)/R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S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= 60mA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05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05280" indent="-3052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Zener recibe la corriente extra si V</a:t>
            </a:r>
            <a:r>
              <a:rPr b="0" lang="es-ES" sz="2800" spc="-1" strike="noStrike" baseline="-25000">
                <a:solidFill>
                  <a:srgbClr val="333399"/>
                </a:solidFill>
                <a:latin typeface="Verdana"/>
              </a:rPr>
              <a:t>1</a:t>
            </a: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 aumenta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2124000" y="2133720"/>
            <a:ext cx="4907160" cy="173340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Algunos concept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Regulación: cómo varía el voltaje al cambiar la corriente de carga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Rechazo al ruido (noise rejection): cómo filtra el ruido del voltaje de entrada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 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od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68000" y="1557360"/>
            <a:ext cx="8218440" cy="530064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Para activarse deben cumplirse condiciones de voltaje y corriente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IMPONEN VOLTAJE si se activan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En inversa quedan flotando, si no se supera voltaje de ruptura (reverse voltage)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333399"/>
                </a:solidFill>
                <a:latin typeface="Verdana"/>
              </a:rPr>
              <a:t>Para análisis rápido se puede considerar que “se quedan” con 0.6V o 0.7V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od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Recortador de +/- 0.7V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Rs limita corriente si se supera voltaje.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124000" y="2349360"/>
            <a:ext cx="5570640" cy="193212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od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Recortador: Formas de onda: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59" name="" descr=""/>
          <p:cNvPicPr/>
          <p:nvPr/>
        </p:nvPicPr>
        <p:blipFill>
          <a:blip r:embed="rId1"/>
          <a:stretch/>
        </p:blipFill>
        <p:spPr>
          <a:xfrm>
            <a:off x="1908000" y="2565360"/>
            <a:ext cx="5015160" cy="309888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Verdana"/>
              </a:rPr>
              <a:t>Diodos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250920" y="2205000"/>
            <a:ext cx="3240000" cy="3090960"/>
          </a:xfrm>
          <a:prstGeom prst="rect">
            <a:avLst/>
          </a:prstGeom>
          <a:ln w="19080">
            <a:solidFill>
              <a:srgbClr val="009999"/>
            </a:solidFill>
            <a:miter/>
          </a:ln>
          <a:effectLst>
            <a:outerShdw dist="0" dir="0" blurRad="0" rotWithShape="0">
              <a:srgbClr val="808080">
                <a:alpha val="50000"/>
              </a:srgbClr>
            </a:outerShdw>
          </a:effectLst>
        </p:spPr>
      </p:pic>
      <p:sp>
        <p:nvSpPr>
          <p:cNvPr id="62" name=""/>
          <p:cNvSpPr/>
          <p:nvPr/>
        </p:nvSpPr>
        <p:spPr>
          <a:xfrm>
            <a:off x="3851280" y="1773360"/>
            <a:ext cx="5292720" cy="40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Cuánto vale V2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Si se mide, no se medirán datos váli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Verdana"/>
              </a:rPr>
              <a:t>Razón: no se cumplen condiciones de corriente en diodos. Se debe colocar una carga a la sali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Diodos Zen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Son utilizados en inversa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En directa se comportan como cualquier diodo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En las hojas de datos aparece una corriente de operación que se debe respetar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99"/>
                </a:solidFill>
                <a:latin typeface="Verdana"/>
              </a:rPr>
              <a:t>No soportan altas corrientes.</a:t>
            </a: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333399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Diodos Zen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Este NO ES un recortador de +/- 5.1V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1n4733 es un diodo Zener de 5.1V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1692360" y="4149720"/>
            <a:ext cx="6080040" cy="228600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ff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000000"/>
                </a:solidFill>
                <a:latin typeface="Verdana"/>
              </a:rPr>
              <a:t>Diodos Zener</a:t>
            </a:r>
            <a:endParaRPr b="0" lang="en-US" sz="4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  <a:effectLst>
            <a:outerShdw dist="0" dir="0" blurRad="0" rotWithShape="0">
              <a:srgbClr val="000000">
                <a:alpha val="50000"/>
              </a:srgbClr>
            </a:outerShdw>
          </a:effectLst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Recortador (clipper) de +/- 5V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Verdana"/>
              </a:rPr>
              <a:t>1n4731 es un zener de 4.3V</a:t>
            </a: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99"/>
              </a:solidFill>
              <a:latin typeface="Verdana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2340000" y="3141720"/>
            <a:ext cx="4734000" cy="2619360"/>
          </a:xfrm>
          <a:prstGeom prst="rect">
            <a:avLst/>
          </a:prstGeom>
          <a:ln w="19080">
            <a:solidFill>
              <a:srgbClr val="0099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23T03:46:28Z</dcterms:created>
  <dc:creator>Claudio</dc:creator>
  <dc:description/>
  <dc:language>en-US</dc:language>
  <cp:lastModifiedBy>Claudio Alarcón Reyes</cp:lastModifiedBy>
  <dcterms:modified xsi:type="dcterms:W3CDTF">2007-08-23T03:13:08Z</dcterms:modified>
  <cp:revision>6</cp:revision>
  <dc:subject/>
  <dc:title>Tips para análisis de Reguladores de voltaje</dc:title>
</cp:coreProperties>
</file>