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26.wmf" ContentType="image/x-wmf"/>
  <Override PartName="/ppt/media/image6.png" ContentType="image/png"/>
  <Override PartName="/ppt/media/image1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529D-75B0-4F2B-BD93-8DF8FFDE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7AC9-86A0-4279-80B4-96B7B082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98C0-F5C6-4CE1-A42A-CCC5A667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F3E-ED44-4425-A58F-56430F7A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17A2-F170-4DE8-9722-A4713962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0E9-065D-463F-A3D5-9430D0F0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26A7-56E3-4469-B252-C2F40F13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F709-1B2F-4D80-9FF8-C8EE13B9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EBC4-F07A-4272-BB29-9B0B6EDA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42E4-81C4-425A-BE0D-5F5B761F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51A3-29FC-47E3-9E48-E73104F3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C7BA-3F22-4D21-81C5-31BD1F4A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35F6-1394-4A8D-84EF-16CFF63A6EA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1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L32D- Análisis y Modelación de Sistemas Dinám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Valida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908000" y="1916280"/>
            <a:ext cx="608652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Valida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692360" y="1916280"/>
            <a:ext cx="60958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48000" y="1846440"/>
            <a:ext cx="16556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24242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635280" y="27115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635280" y="28555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635280" y="29988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635280" y="3143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635280" y="32860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635280" y="34304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35751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24242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32162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34322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9275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9275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34322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13280" y="26528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16720" y="27115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386388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1928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63528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85128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06692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28472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50036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71636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119844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1125360"/>
            <a:ext cx="1584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234936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26920" y="234936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97080" y="2062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971640" y="4581360"/>
            <a:ext cx="7561080" cy="866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393372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619280" y="5516640"/>
            <a:ext cx="583236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2349360"/>
            <a:ext cx="856944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caso genera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ómo elijo la estructura del model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4560" y="4653000"/>
            <a:ext cx="8569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r Regresión por Pa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2060640"/>
            <a:ext cx="777240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gir, de un conjunto de variables candidatas, las que serán parte del modelo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140976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ea:                                 variables candida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340000" y="5157720"/>
            <a:ext cx="3743280" cy="974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90000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32000" y="1413000"/>
          <a:ext cx="3166920" cy="93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1413000"/>
                    <a:ext cx="31669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11280" y="3357720"/>
          <a:ext cx="6840360" cy="93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3357720"/>
                    <a:ext cx="6840360" cy="93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250920" y="2421000"/>
            <a:ext cx="73803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ebo “elegir” </a:t>
            </a: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m &lt; M,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al qu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36572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forme el “mejor” model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7336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0.- Normalizar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116000" y="2781360"/>
            <a:ext cx="69850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1.- Primera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24000" y="2637000"/>
          <a:ext cx="1223640" cy="80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637000"/>
                    <a:ext cx="122364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6804000" y="2771640"/>
            <a:ext cx="1008000" cy="728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2556000" y="4076640"/>
            <a:ext cx="3425760" cy="10573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50920" y="5300640"/>
            <a:ext cx="511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2.- Segunda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408720" y="2637000"/>
            <a:ext cx="2771640" cy="882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5477040" cy="962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142920" y="2705040"/>
            <a:ext cx="1116000" cy="7952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0920" y="5300640"/>
            <a:ext cx="511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n.- Siguiente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42920" y="2705040"/>
            <a:ext cx="1116000" cy="7952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516720" y="2565360"/>
            <a:ext cx="2347920" cy="874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95280" y="3860640"/>
            <a:ext cx="8353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Obtengo estructura, 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4941720"/>
            <a:ext cx="7056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plico Criterio de desca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1484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Usan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7704000" cy="221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280" y="443700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e obtien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700360" y="5054760"/>
            <a:ext cx="374328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1628640"/>
            <a:ext cx="70567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riterio de descarte: varianza asociada al parámetro previo &lt; </a:t>
            </a: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3645000"/>
            <a:ext cx="7056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riterio de detención: varianza asociada al parámetro nuevo &lt; </a:t>
            </a: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6360" y="1422360"/>
            <a:ext cx="644364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aso particul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(AutoRegresive with eXogenous input, auto-regresivo con entrada exóg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268360" y="5084640"/>
            <a:ext cx="4105440" cy="1071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708360" y="1911240"/>
            <a:ext cx="5435640" cy="1067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-181080" y="4221000"/>
            <a:ext cx="4465800" cy="752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788000" y="4437000"/>
            <a:ext cx="435600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68280"/>
            <a:ext cx="856944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Generaliz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AutoRegressive with Moving Average and Exogenous inpu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979640" y="4352760"/>
            <a:ext cx="468000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2133720"/>
            <a:ext cx="16556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27115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35280" y="29988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635280" y="3143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635280" y="32860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3635280" y="34304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635280" y="35733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635280" y="37177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51280" y="3862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27115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35035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40360" y="37195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32148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0360" y="32148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37195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13280" y="2940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720" y="29988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19640" y="415116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41928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63528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85128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06692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28472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50036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1636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148608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1413000"/>
            <a:ext cx="1584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263700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626920" y="26370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97080" y="2349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5300640"/>
            <a:ext cx="7993080" cy="915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436572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rea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050920" y="1844640"/>
            <a:ext cx="60292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muestre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085840" y="1916280"/>
            <a:ext cx="608652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Ajus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8360" y="4653000"/>
            <a:ext cx="7993080" cy="915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835280" y="2565360"/>
            <a:ext cx="573552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Ajus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68360" y="1916280"/>
            <a:ext cx="60962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8-07T01:34:59Z</dcterms:modified>
  <cp:revision>29</cp:revision>
  <dc:subject/>
  <dc:title>EL63A-Taller de Proyecto en Control II</dc:title>
</cp:coreProperties>
</file>