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6.wmf" ContentType="image/x-wmf"/>
  <Override PartName="/ppt/media/image6.png" ContentType="image/png"/>
  <Override PartName="/ppt/media/image1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357-8B32-456B-A185-FB89B5C8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6666-66B8-4B60-9BDB-B2346B95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7B6-FFC0-429A-B48E-0C53856C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3C4-CD70-49B0-9BC3-67895A97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702-9C6D-41F2-AAE9-09C53DBB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516-EB12-439C-9788-8D936F15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C0E-7516-4956-9048-9737A761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1AE-3444-4B4D-9B40-B225E5BB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B9A-BD39-4A3D-B21E-EA558A6A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513-5395-44E1-B4CD-B149F0EE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D24-BA4D-4C82-A705-4F1193B5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793-1291-4A6D-A9AD-61A1610D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739D-AC20-4508-8B9F-2BD9F2F650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60958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8000" y="184644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424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35280" y="2711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635280" y="2855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3575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4242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216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34322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34322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13280" y="2652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6720" y="27115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86388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1928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635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851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06692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28472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0036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1636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1984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112536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349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26920" y="23493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7080" y="2062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7561080" cy="866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3933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19280" y="5516640"/>
            <a:ext cx="583236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349360"/>
            <a:ext cx="856944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caso gener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ómo elijo la estructura del mode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560" y="4653000"/>
            <a:ext cx="8569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r Regresión por Pa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77724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gir, de un conjunto de variables candidatas, las que serán parte del model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14097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ea:                                 variables candida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340000" y="5157720"/>
            <a:ext cx="3743280" cy="97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0000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32000" y="1413000"/>
          <a:ext cx="31669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413000"/>
                    <a:ext cx="31669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11280" y="3357720"/>
          <a:ext cx="6840360" cy="93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357720"/>
                    <a:ext cx="6840360" cy="93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50920" y="2421000"/>
            <a:ext cx="7380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bo “elegir”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m &lt; M,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l qu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36572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forme el “mejor” mode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733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0.- Normalizar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69850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.- Primer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2637000"/>
          <a:ext cx="122364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37000"/>
                    <a:ext cx="1223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804000" y="2771640"/>
            <a:ext cx="1008000" cy="728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2556000" y="4076640"/>
            <a:ext cx="3425760" cy="1057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2.- Segund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408720" y="2637000"/>
            <a:ext cx="2771640" cy="882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5477040" cy="962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.- Siguiente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2347920" cy="874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3860640"/>
            <a:ext cx="8353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btengo estructura, 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4941720"/>
            <a:ext cx="7056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plico Criterio de desc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628640"/>
            <a:ext cx="7056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scarte: varianza asociada al parámetro previ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645000"/>
            <a:ext cx="705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tención: varianza asociada al parámetro nuev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13372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2711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635280" y="35733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635280" y="3717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2711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3503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37195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3719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3280" y="2940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720" y="2998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41511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41928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35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851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06692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8472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50036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1636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14860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41300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637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26920" y="2637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7080" y="234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7993080" cy="915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365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rea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60292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muestre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8584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7993080" cy="915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835280" y="2565360"/>
            <a:ext cx="57355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68360" y="1916280"/>
            <a:ext cx="60962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8-07T01:34:59Z</dcterms:modified>
  <cp:revision>29</cp:revision>
  <dc:subject/>
  <dc:title>EL63A-Taller de Proyecto en Control II</dc:title>
</cp:coreProperties>
</file>