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26.wmf" ContentType="image/x-wmf"/>
  <Override PartName="/ppt/media/image6.png" ContentType="image/png"/>
  <Override PartName="/ppt/media/image1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A0FD-B8EC-473D-B919-1EB1204E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8FA-C34C-4069-A235-6A6727B0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E95-9E81-479B-B6E3-36D67200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2B9-C23D-4045-92F8-409AD706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29DD-59CB-4DCC-9CE5-4617CAAD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4D8-E94E-4451-B80D-E55C135F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FEC-2887-41EE-B433-9AF3B7E8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431B-B3BA-4AA8-A4AF-6D58A467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4AE-7726-4C7C-81C5-F2FDE324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BF6F-CD84-4CEB-AC36-1DA01C34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CF62-A262-44FB-AA22-60B45579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40DC-9907-44E7-8132-727E4335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406C-B5FB-4358-BA19-ECBDACBB19F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Valid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60865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Valida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60958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48000" y="1846440"/>
            <a:ext cx="16556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2424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635280" y="27115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635280" y="28555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635280" y="29988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635280" y="3143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635280" y="32860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635280" y="34304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35751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24242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32162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34322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927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9275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34322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13280" y="2652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16720" y="27115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386388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1928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63528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85128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06692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28472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00360" y="386388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16360" y="38638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119844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1125360"/>
            <a:ext cx="1584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234936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26920" y="23493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97080" y="2062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971640" y="4581360"/>
            <a:ext cx="7561080" cy="866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393372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619280" y="5516640"/>
            <a:ext cx="583236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2349360"/>
            <a:ext cx="856944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caso genera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ómo elijo la estructura del mode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560" y="4653000"/>
            <a:ext cx="8569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r Regresión por Pa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060640"/>
            <a:ext cx="77724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gir, de un conjunto de variables candidatas, las que serán parte del model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140976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Sea:                                 variables candida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340000" y="5157720"/>
            <a:ext cx="3743280" cy="9748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0000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32000" y="1413000"/>
          <a:ext cx="316692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1413000"/>
                    <a:ext cx="31669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11280" y="3357720"/>
          <a:ext cx="6840360" cy="93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3357720"/>
                    <a:ext cx="6840360" cy="93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50920" y="2421000"/>
            <a:ext cx="7380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bo “elegir”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m &lt; M,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al qu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36572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forme el “mejor” mode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73360"/>
            <a:ext cx="889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0.- Normalizar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116000" y="2781360"/>
            <a:ext cx="69850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1.- Primera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4000" y="2637000"/>
          <a:ext cx="1223640" cy="80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637000"/>
                    <a:ext cx="12236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6804000" y="2771640"/>
            <a:ext cx="1008000" cy="728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2556000" y="4076640"/>
            <a:ext cx="3425760" cy="1057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50920" y="5300640"/>
            <a:ext cx="511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2.- Segunda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408720" y="2637000"/>
            <a:ext cx="2771640" cy="882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5477040" cy="962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142920" y="2705040"/>
            <a:ext cx="1116000" cy="795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5300640"/>
            <a:ext cx="5113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773360"/>
            <a:ext cx="88930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.- Siguiente integrant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 mejor correlación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42920" y="2705040"/>
            <a:ext cx="1116000" cy="795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6516720" y="2565360"/>
            <a:ext cx="2347920" cy="874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5280" y="3860640"/>
            <a:ext cx="8353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Obtengo estructura, ajusto parámet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4941720"/>
            <a:ext cx="7056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plico Criterio de desca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484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Usan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7704000" cy="221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443700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e obtie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700360" y="5054760"/>
            <a:ext cx="37432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gresión por pas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628640"/>
            <a:ext cx="7056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riterio de descarte: varianza asociada al parámetro previo &lt;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3645000"/>
            <a:ext cx="7056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riterio de detención: varianza asociada al parámetro nuevo &lt; </a:t>
            </a: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6360" y="1422360"/>
            <a:ext cx="644364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so particul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(AutoRegresive with eXogenous input, auto-regresivo con entrada exóg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68360" y="5084640"/>
            <a:ext cx="4105440" cy="1071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708360" y="1911240"/>
            <a:ext cx="5435640" cy="106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-181080" y="4221000"/>
            <a:ext cx="4465800" cy="752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788000" y="4437000"/>
            <a:ext cx="43560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68280"/>
            <a:ext cx="856944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General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AutoRegressive with Moving Average and Exogenous inpu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979640" y="4352760"/>
            <a:ext cx="46800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2133720"/>
            <a:ext cx="16556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27115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35280" y="29988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635280" y="3143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635280" y="32860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635280" y="34304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635280" y="35733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635280" y="37177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3862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2711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35035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37195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2148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32148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37195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13280" y="2940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720" y="29988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4151160"/>
            <a:ext cx="15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41928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63528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85128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06692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8472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500360" y="41511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16360" y="415116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148608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1413000"/>
            <a:ext cx="1584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263700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626920" y="2637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7080" y="2349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5300640"/>
            <a:ext cx="7993080" cy="915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36572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rea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60292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atos muestre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085840" y="1916280"/>
            <a:ext cx="60865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Ajus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4653000"/>
            <a:ext cx="7993080" cy="915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835280" y="2565360"/>
            <a:ext cx="573552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os Empíricos ARX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68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sultado Ajus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68360" y="1916280"/>
            <a:ext cx="60962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8-07T01:34:59Z</dcterms:modified>
  <cp:revision>29</cp:revision>
  <dc:subject/>
  <dc:title>EL63A-Taller de Proyecto en Control II</dc:title>
</cp:coreProperties>
</file>